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B345-AD16-4D46-A066-DD6E76D7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651-45AB-4994-8AD8-3EA54EFE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7331-8E6B-44CB-BB49-0A2BD9BD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356E-A034-48E3-A258-57D92B1C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B403-AFFF-49E6-BC30-7CBB5721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0239-838A-46BD-8D0A-951B50CF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441D-7124-40D6-9A0E-3C423E48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1741-7FBB-4069-B14D-A5AC44F8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5DFC-9F5F-45E0-8C88-AEA75B31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31FE-EADA-49E7-B2D4-602E4A4A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991E-FF6D-4A01-BFD4-129AAD28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749E-4979-444F-966B-E5973532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26ED-F8A2-48C5-BBA8-4E757968C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 – 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integer for each given l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4200" y="2593800"/>
            <a:ext cx="599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84200" y="3884760"/>
            <a:ext cx="607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60520" y="5402160"/>
            <a:ext cx="584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41880" y="2517840"/>
            <a:ext cx="81000" cy="312840"/>
          </a:xfrm>
          <a:custGeom>
            <a:avLst/>
            <a:gdLst/>
            <a:ahLst/>
            <a:rect l="l" t="t" r="r" b="b"/>
            <a:pathLst>
              <a:path w="224" h="869">
                <a:moveTo>
                  <a:pt x="11956" y="7020"/>
                </a:moveTo>
                <a:cubicBezTo>
                  <a:pt x="11956" y="7012"/>
                  <a:pt x="11956" y="7003"/>
                  <a:pt x="11956" y="6995"/>
                </a:cubicBezTo>
                <a:cubicBezTo>
                  <a:pt x="11927" y="7009"/>
                  <a:pt x="11868" y="7077"/>
                  <a:pt x="11857" y="7119"/>
                </a:cubicBezTo>
                <a:cubicBezTo>
                  <a:pt x="11842" y="7177"/>
                  <a:pt x="11832" y="7232"/>
                  <a:pt x="11832" y="7293"/>
                </a:cubicBezTo>
                <a:cubicBezTo>
                  <a:pt x="11832" y="7334"/>
                  <a:pt x="11832" y="7342"/>
                  <a:pt x="11832" y="7367"/>
                </a:cubicBezTo>
              </a:path>
              <a:path w="224" h="869">
                <a:moveTo>
                  <a:pt x="11881" y="7640"/>
                </a:moveTo>
                <a:cubicBezTo>
                  <a:pt x="11799" y="7673"/>
                  <a:pt x="11788" y="7726"/>
                  <a:pt x="11782" y="7813"/>
                </a:cubicBezTo>
                <a:cubicBezTo>
                  <a:pt x="11782" y="7838"/>
                  <a:pt x="11782" y="7846"/>
                  <a:pt x="11782" y="7863"/>
                </a:cubicBezTo>
                <a:cubicBezTo>
                  <a:pt x="11884" y="7854"/>
                  <a:pt x="11932" y="7858"/>
                  <a:pt x="11981" y="7764"/>
                </a:cubicBezTo>
                <a:cubicBezTo>
                  <a:pt x="11989" y="7747"/>
                  <a:pt x="11997" y="7731"/>
                  <a:pt x="12005" y="7714"/>
                </a:cubicBezTo>
                <a:cubicBezTo>
                  <a:pt x="11968" y="7705"/>
                  <a:pt x="11945" y="7672"/>
                  <a:pt x="11931" y="7665"/>
                </a:cubicBezTo>
                <a:cubicBezTo>
                  <a:pt x="11923" y="7665"/>
                  <a:pt x="11914" y="7665"/>
                  <a:pt x="11906" y="76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32160" y="3768840"/>
            <a:ext cx="90720" cy="322200"/>
          </a:xfrm>
          <a:custGeom>
            <a:avLst/>
            <a:gdLst/>
            <a:ahLst/>
            <a:rect l="l" t="t" r="r" b="b"/>
            <a:pathLst>
              <a:path w="249" h="894">
                <a:moveTo>
                  <a:pt x="11857" y="10468"/>
                </a:moveTo>
                <a:cubicBezTo>
                  <a:pt x="11865" y="10468"/>
                  <a:pt x="11873" y="10468"/>
                  <a:pt x="11881" y="10468"/>
                </a:cubicBezTo>
                <a:cubicBezTo>
                  <a:pt x="11860" y="10532"/>
                  <a:pt x="11857" y="10486"/>
                  <a:pt x="11857" y="10616"/>
                </a:cubicBezTo>
                <a:cubicBezTo>
                  <a:pt x="11857" y="10721"/>
                  <a:pt x="11868" y="10818"/>
                  <a:pt x="11832" y="10914"/>
                </a:cubicBezTo>
              </a:path>
              <a:path w="249" h="894">
                <a:moveTo>
                  <a:pt x="11931" y="11162"/>
                </a:moveTo>
                <a:cubicBezTo>
                  <a:pt x="11855" y="11162"/>
                  <a:pt x="11845" y="11159"/>
                  <a:pt x="11782" y="11212"/>
                </a:cubicBezTo>
                <a:cubicBezTo>
                  <a:pt x="11738" y="11250"/>
                  <a:pt x="11757" y="11308"/>
                  <a:pt x="11757" y="11361"/>
                </a:cubicBezTo>
                <a:cubicBezTo>
                  <a:pt x="11835" y="11354"/>
                  <a:pt x="11933" y="11361"/>
                  <a:pt x="11981" y="11286"/>
                </a:cubicBezTo>
                <a:cubicBezTo>
                  <a:pt x="12001" y="11255"/>
                  <a:pt x="12005" y="11199"/>
                  <a:pt x="11981" y="11187"/>
                </a:cubicBezTo>
                <a:cubicBezTo>
                  <a:pt x="11956" y="11187"/>
                  <a:pt x="11948" y="11187"/>
                  <a:pt x="11931" y="111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8120" y="3821040"/>
            <a:ext cx="27000" cy="152640"/>
          </a:xfrm>
          <a:custGeom>
            <a:avLst/>
            <a:gdLst/>
            <a:ahLst/>
            <a:rect l="l" t="t" r="r" b="b"/>
            <a:pathLst>
              <a:path w="75" h="423">
                <a:moveTo>
                  <a:pt x="13543" y="10616"/>
                </a:moveTo>
                <a:cubicBezTo>
                  <a:pt x="13494" y="10633"/>
                  <a:pt x="13475" y="10787"/>
                  <a:pt x="13469" y="10840"/>
                </a:cubicBezTo>
                <a:cubicBezTo>
                  <a:pt x="13462" y="10903"/>
                  <a:pt x="13469" y="10974"/>
                  <a:pt x="13469" y="110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75160" y="3840120"/>
            <a:ext cx="81000" cy="392040"/>
          </a:xfrm>
          <a:custGeom>
            <a:avLst/>
            <a:gdLst/>
            <a:ahLst/>
            <a:rect l="l" t="t" r="r" b="b"/>
            <a:pathLst>
              <a:path w="225" h="1092">
                <a:moveTo>
                  <a:pt x="15081" y="10666"/>
                </a:moveTo>
                <a:cubicBezTo>
                  <a:pt x="15119" y="10679"/>
                  <a:pt x="15126" y="10814"/>
                  <a:pt x="15131" y="10864"/>
                </a:cubicBezTo>
                <a:cubicBezTo>
                  <a:pt x="15136" y="10912"/>
                  <a:pt x="15131" y="10964"/>
                  <a:pt x="15131" y="11013"/>
                </a:cubicBezTo>
              </a:path>
              <a:path w="225" h="1092">
                <a:moveTo>
                  <a:pt x="15007" y="11361"/>
                </a:moveTo>
                <a:cubicBezTo>
                  <a:pt x="14995" y="11422"/>
                  <a:pt x="14961" y="11477"/>
                  <a:pt x="14932" y="11534"/>
                </a:cubicBezTo>
                <a:cubicBezTo>
                  <a:pt x="14974" y="11534"/>
                  <a:pt x="15138" y="11566"/>
                  <a:pt x="15156" y="11509"/>
                </a:cubicBezTo>
                <a:cubicBezTo>
                  <a:pt x="15169" y="11467"/>
                  <a:pt x="15156" y="11405"/>
                  <a:pt x="15156" y="11361"/>
                </a:cubicBezTo>
                <a:cubicBezTo>
                  <a:pt x="15156" y="11286"/>
                  <a:pt x="15156" y="11604"/>
                  <a:pt x="15156" y="11633"/>
                </a:cubicBezTo>
                <a:cubicBezTo>
                  <a:pt x="15156" y="11708"/>
                  <a:pt x="15156" y="11716"/>
                  <a:pt x="15156" y="117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32160" y="5106960"/>
            <a:ext cx="206640" cy="519120"/>
          </a:xfrm>
          <a:custGeom>
            <a:avLst/>
            <a:gdLst/>
            <a:ahLst/>
            <a:rect l="l" t="t" r="r" b="b"/>
            <a:pathLst>
              <a:path w="572" h="1440">
                <a:moveTo>
                  <a:pt x="11857" y="14759"/>
                </a:moveTo>
                <a:cubicBezTo>
                  <a:pt x="11800" y="14778"/>
                  <a:pt x="11850" y="14846"/>
                  <a:pt x="11832" y="14908"/>
                </a:cubicBezTo>
                <a:cubicBezTo>
                  <a:pt x="11817" y="14958"/>
                  <a:pt x="11807" y="14978"/>
                  <a:pt x="11807" y="15032"/>
                </a:cubicBezTo>
              </a:path>
              <a:path w="572" h="1440">
                <a:moveTo>
                  <a:pt x="11857" y="15354"/>
                </a:moveTo>
                <a:cubicBezTo>
                  <a:pt x="11834" y="15384"/>
                  <a:pt x="11757" y="15476"/>
                  <a:pt x="11757" y="15503"/>
                </a:cubicBezTo>
                <a:cubicBezTo>
                  <a:pt x="11779" y="15568"/>
                  <a:pt x="11787" y="15583"/>
                  <a:pt x="11782" y="15627"/>
                </a:cubicBezTo>
                <a:cubicBezTo>
                  <a:pt x="11929" y="15627"/>
                  <a:pt x="11875" y="15591"/>
                  <a:pt x="11956" y="15503"/>
                </a:cubicBezTo>
                <a:cubicBezTo>
                  <a:pt x="11972" y="15485"/>
                  <a:pt x="11958" y="15442"/>
                  <a:pt x="11931" y="15429"/>
                </a:cubicBezTo>
                <a:cubicBezTo>
                  <a:pt x="11923" y="15429"/>
                  <a:pt x="11914" y="15429"/>
                  <a:pt x="11906" y="15429"/>
                </a:cubicBezTo>
              </a:path>
              <a:path w="572" h="1440">
                <a:moveTo>
                  <a:pt x="12328" y="14982"/>
                </a:moveTo>
                <a:cubicBezTo>
                  <a:pt x="12253" y="14963"/>
                  <a:pt x="12253" y="14979"/>
                  <a:pt x="12278" y="15056"/>
                </a:cubicBezTo>
                <a:cubicBezTo>
                  <a:pt x="12280" y="15046"/>
                  <a:pt x="12300" y="14918"/>
                  <a:pt x="12278" y="14957"/>
                </a:cubicBezTo>
                <a:cubicBezTo>
                  <a:pt x="12266" y="14979"/>
                  <a:pt x="12208" y="15109"/>
                  <a:pt x="12254" y="15032"/>
                </a:cubicBezTo>
                <a:cubicBezTo>
                  <a:pt x="12303" y="14950"/>
                  <a:pt x="12341" y="14927"/>
                  <a:pt x="12254" y="14957"/>
                </a:cubicBezTo>
                <a:cubicBezTo>
                  <a:pt x="12248" y="14985"/>
                  <a:pt x="12230" y="15125"/>
                  <a:pt x="12254" y="15007"/>
                </a:cubicBezTo>
              </a:path>
              <a:path w="572" h="1440">
                <a:moveTo>
                  <a:pt x="12030" y="14412"/>
                </a:moveTo>
                <a:cubicBezTo>
                  <a:pt x="12035" y="14454"/>
                  <a:pt x="12044" y="14624"/>
                  <a:pt x="12080" y="14660"/>
                </a:cubicBezTo>
                <a:cubicBezTo>
                  <a:pt x="12080" y="14652"/>
                  <a:pt x="12080" y="14643"/>
                  <a:pt x="12080" y="14635"/>
                </a:cubicBezTo>
                <a:cubicBezTo>
                  <a:pt x="12060" y="14534"/>
                  <a:pt x="12007" y="14439"/>
                  <a:pt x="11981" y="14337"/>
                </a:cubicBezTo>
                <a:cubicBezTo>
                  <a:pt x="11981" y="14329"/>
                  <a:pt x="11981" y="14320"/>
                  <a:pt x="11981" y="14312"/>
                </a:cubicBezTo>
                <a:cubicBezTo>
                  <a:pt x="12073" y="14292"/>
                  <a:pt x="12143" y="14236"/>
                  <a:pt x="12229" y="14188"/>
                </a:cubicBezTo>
              </a:path>
              <a:path w="572" h="1440">
                <a:moveTo>
                  <a:pt x="12080" y="14560"/>
                </a:moveTo>
                <a:cubicBezTo>
                  <a:pt x="12128" y="14551"/>
                  <a:pt x="12161" y="14522"/>
                  <a:pt x="12204" y="145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94200" y="2554200"/>
            <a:ext cx="1800" cy="98640"/>
          </a:xfrm>
          <a:custGeom>
            <a:avLst/>
            <a:gdLst/>
            <a:ahLst/>
            <a:rect l="l" t="t" r="r" b="b"/>
            <a:pathLst>
              <a:path w="1" h="274">
                <a:moveTo>
                  <a:pt x="13593" y="7094"/>
                </a:moveTo>
                <a:cubicBezTo>
                  <a:pt x="13593" y="7185"/>
                  <a:pt x="13593" y="7276"/>
                  <a:pt x="13593" y="73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94200" y="2759040"/>
            <a:ext cx="17640" cy="98640"/>
          </a:xfrm>
          <a:custGeom>
            <a:avLst/>
            <a:gdLst/>
            <a:ahLst/>
            <a:rect l="l" t="t" r="r" b="b"/>
            <a:pathLst>
              <a:path w="51" h="274">
                <a:moveTo>
                  <a:pt x="13593" y="7665"/>
                </a:moveTo>
                <a:cubicBezTo>
                  <a:pt x="13593" y="7749"/>
                  <a:pt x="13624" y="7808"/>
                  <a:pt x="13643" y="7888"/>
                </a:cubicBezTo>
                <a:cubicBezTo>
                  <a:pt x="13643" y="7913"/>
                  <a:pt x="13643" y="7921"/>
                  <a:pt x="13643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9800" y="2187720"/>
            <a:ext cx="152280" cy="696600"/>
          </a:xfrm>
          <a:custGeom>
            <a:avLst/>
            <a:gdLst/>
            <a:ahLst/>
            <a:rect l="l" t="t" r="r" b="b"/>
            <a:pathLst>
              <a:path w="423" h="1936">
                <a:moveTo>
                  <a:pt x="15280" y="7119"/>
                </a:moveTo>
                <a:cubicBezTo>
                  <a:pt x="15280" y="7198"/>
                  <a:pt x="15258" y="7304"/>
                  <a:pt x="15304" y="7367"/>
                </a:cubicBezTo>
              </a:path>
              <a:path w="423" h="1936">
                <a:moveTo>
                  <a:pt x="15255" y="7764"/>
                </a:moveTo>
                <a:cubicBezTo>
                  <a:pt x="15298" y="7764"/>
                  <a:pt x="15323" y="7758"/>
                  <a:pt x="15354" y="7739"/>
                </a:cubicBezTo>
                <a:cubicBezTo>
                  <a:pt x="15334" y="7848"/>
                  <a:pt x="15302" y="7926"/>
                  <a:pt x="15230" y="8012"/>
                </a:cubicBezTo>
                <a:cubicBezTo>
                  <a:pt x="15302" y="8012"/>
                  <a:pt x="15363" y="8000"/>
                  <a:pt x="15429" y="7987"/>
                </a:cubicBezTo>
                <a:cubicBezTo>
                  <a:pt x="15453" y="7987"/>
                  <a:pt x="15462" y="7987"/>
                  <a:pt x="15478" y="7987"/>
                </a:cubicBezTo>
              </a:path>
              <a:path w="423" h="1936">
                <a:moveTo>
                  <a:pt x="15230" y="6276"/>
                </a:moveTo>
                <a:cubicBezTo>
                  <a:pt x="15230" y="6169"/>
                  <a:pt x="15168" y="6424"/>
                  <a:pt x="15131" y="6524"/>
                </a:cubicBezTo>
                <a:cubicBezTo>
                  <a:pt x="15091" y="6624"/>
                  <a:pt x="15086" y="6642"/>
                  <a:pt x="15056" y="6697"/>
                </a:cubicBezTo>
                <a:cubicBezTo>
                  <a:pt x="15091" y="6559"/>
                  <a:pt x="15168" y="6429"/>
                  <a:pt x="15230" y="6300"/>
                </a:cubicBezTo>
                <a:cubicBezTo>
                  <a:pt x="15267" y="6223"/>
                  <a:pt x="15305" y="6146"/>
                  <a:pt x="15354" y="6077"/>
                </a:cubicBezTo>
                <a:cubicBezTo>
                  <a:pt x="15388" y="6228"/>
                  <a:pt x="15395" y="6404"/>
                  <a:pt x="15453" y="6548"/>
                </a:cubicBezTo>
                <a:cubicBezTo>
                  <a:pt x="15478" y="6573"/>
                  <a:pt x="15486" y="6581"/>
                  <a:pt x="15453" y="6598"/>
                </a:cubicBezTo>
              </a:path>
              <a:path w="423" h="1936">
                <a:moveTo>
                  <a:pt x="15205" y="6524"/>
                </a:moveTo>
                <a:cubicBezTo>
                  <a:pt x="15222" y="6473"/>
                  <a:pt x="15322" y="6470"/>
                  <a:pt x="15379" y="6449"/>
                </a:cubicBezTo>
                <a:cubicBezTo>
                  <a:pt x="15419" y="6429"/>
                  <a:pt x="15426" y="6420"/>
                  <a:pt x="15453" y="6424"/>
                </a:cubicBezTo>
              </a:path>
              <a:path w="423" h="1936">
                <a:moveTo>
                  <a:pt x="15230" y="7193"/>
                </a:moveTo>
                <a:cubicBezTo>
                  <a:pt x="15309" y="7193"/>
                  <a:pt x="15275" y="7145"/>
                  <a:pt x="15230" y="7193"/>
                </a:cubicBezTo>
                <a:cubicBezTo>
                  <a:pt x="15163" y="7265"/>
                  <a:pt x="15264" y="7296"/>
                  <a:pt x="15304" y="7218"/>
                </a:cubicBezTo>
                <a:cubicBezTo>
                  <a:pt x="15312" y="7202"/>
                  <a:pt x="15321" y="7185"/>
                  <a:pt x="15329" y="7169"/>
                </a:cubicBezTo>
                <a:cubicBezTo>
                  <a:pt x="15307" y="7169"/>
                  <a:pt x="15170" y="7173"/>
                  <a:pt x="15205" y="7243"/>
                </a:cubicBezTo>
                <a:cubicBezTo>
                  <a:pt x="15251" y="7335"/>
                  <a:pt x="15313" y="7195"/>
                  <a:pt x="15329" y="7169"/>
                </a:cubicBezTo>
                <a:cubicBezTo>
                  <a:pt x="15296" y="7135"/>
                  <a:pt x="15280" y="7164"/>
                  <a:pt x="15280" y="72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00840" y="2544840"/>
            <a:ext cx="90360" cy="366480"/>
          </a:xfrm>
          <a:custGeom>
            <a:avLst/>
            <a:gdLst/>
            <a:ahLst/>
            <a:rect l="l" t="t" r="r" b="b"/>
            <a:pathLst>
              <a:path w="249" h="1018">
                <a:moveTo>
                  <a:pt x="16867" y="7094"/>
                </a:moveTo>
                <a:cubicBezTo>
                  <a:pt x="16829" y="7019"/>
                  <a:pt x="16842" y="7250"/>
                  <a:pt x="16842" y="7268"/>
                </a:cubicBezTo>
                <a:cubicBezTo>
                  <a:pt x="16842" y="7301"/>
                  <a:pt x="16842" y="7334"/>
                  <a:pt x="16842" y="7367"/>
                </a:cubicBezTo>
              </a:path>
              <a:path w="249" h="1018">
                <a:moveTo>
                  <a:pt x="16669" y="7764"/>
                </a:moveTo>
                <a:cubicBezTo>
                  <a:pt x="16730" y="7764"/>
                  <a:pt x="16817" y="7733"/>
                  <a:pt x="16867" y="7739"/>
                </a:cubicBezTo>
                <a:cubicBezTo>
                  <a:pt x="16963" y="7750"/>
                  <a:pt x="16833" y="7891"/>
                  <a:pt x="16818" y="7913"/>
                </a:cubicBezTo>
                <a:cubicBezTo>
                  <a:pt x="16810" y="7913"/>
                  <a:pt x="16801" y="7913"/>
                  <a:pt x="16793" y="7913"/>
                </a:cubicBezTo>
                <a:cubicBezTo>
                  <a:pt x="16819" y="7913"/>
                  <a:pt x="16921" y="7911"/>
                  <a:pt x="16917" y="7962"/>
                </a:cubicBezTo>
                <a:cubicBezTo>
                  <a:pt x="16909" y="8067"/>
                  <a:pt x="16772" y="8072"/>
                  <a:pt x="16718" y="8062"/>
                </a:cubicBezTo>
                <a:cubicBezTo>
                  <a:pt x="16710" y="8062"/>
                  <a:pt x="16702" y="8062"/>
                  <a:pt x="16694" y="80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35800" y="2544840"/>
            <a:ext cx="81000" cy="349200"/>
          </a:xfrm>
          <a:custGeom>
            <a:avLst/>
            <a:gdLst/>
            <a:ahLst/>
            <a:rect l="l" t="t" r="r" b="b"/>
            <a:pathLst>
              <a:path w="224" h="969">
                <a:moveTo>
                  <a:pt x="18182" y="7069"/>
                </a:moveTo>
                <a:cubicBezTo>
                  <a:pt x="18202" y="7142"/>
                  <a:pt x="18208" y="7224"/>
                  <a:pt x="18231" y="7293"/>
                </a:cubicBezTo>
                <a:cubicBezTo>
                  <a:pt x="18248" y="7344"/>
                  <a:pt x="18256" y="7343"/>
                  <a:pt x="18256" y="7392"/>
                </a:cubicBezTo>
              </a:path>
              <a:path w="224" h="969">
                <a:moveTo>
                  <a:pt x="18157" y="7838"/>
                </a:moveTo>
                <a:cubicBezTo>
                  <a:pt x="18157" y="7871"/>
                  <a:pt x="18157" y="7905"/>
                  <a:pt x="18157" y="7938"/>
                </a:cubicBezTo>
                <a:cubicBezTo>
                  <a:pt x="18206" y="7945"/>
                  <a:pt x="18353" y="7999"/>
                  <a:pt x="18380" y="7913"/>
                </a:cubicBezTo>
                <a:cubicBezTo>
                  <a:pt x="18380" y="7888"/>
                  <a:pt x="18380" y="7863"/>
                  <a:pt x="18380" y="7838"/>
                </a:cubicBezTo>
              </a:path>
              <a:path w="224" h="969">
                <a:moveTo>
                  <a:pt x="18380" y="7739"/>
                </a:moveTo>
                <a:cubicBezTo>
                  <a:pt x="18364" y="7847"/>
                  <a:pt x="18359" y="7909"/>
                  <a:pt x="18380" y="8012"/>
                </a:cubicBezTo>
                <a:cubicBezTo>
                  <a:pt x="18380" y="8020"/>
                  <a:pt x="18380" y="8029"/>
                  <a:pt x="18380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19840" y="3589200"/>
            <a:ext cx="189000" cy="142920"/>
          </a:xfrm>
          <a:custGeom>
            <a:avLst/>
            <a:gdLst/>
            <a:ahLst/>
            <a:rect l="l" t="t" r="r" b="b"/>
            <a:pathLst>
              <a:path w="521" h="398">
                <a:moveTo>
                  <a:pt x="16619" y="10071"/>
                </a:moveTo>
                <a:cubicBezTo>
                  <a:pt x="16619" y="10046"/>
                  <a:pt x="16619" y="10038"/>
                  <a:pt x="16619" y="10021"/>
                </a:cubicBezTo>
                <a:cubicBezTo>
                  <a:pt x="16648" y="10121"/>
                  <a:pt x="16676" y="10213"/>
                  <a:pt x="16694" y="10319"/>
                </a:cubicBezTo>
                <a:cubicBezTo>
                  <a:pt x="16694" y="10311"/>
                  <a:pt x="16694" y="10302"/>
                  <a:pt x="16694" y="10294"/>
                </a:cubicBezTo>
              </a:path>
              <a:path w="521" h="398">
                <a:moveTo>
                  <a:pt x="16446" y="9996"/>
                </a:moveTo>
                <a:cubicBezTo>
                  <a:pt x="16602" y="9980"/>
                  <a:pt x="16982" y="9884"/>
                  <a:pt x="16966" y="10170"/>
                </a:cubicBezTo>
                <a:cubicBezTo>
                  <a:pt x="16960" y="10288"/>
                  <a:pt x="16772" y="10416"/>
                  <a:pt x="16669" y="10344"/>
                </a:cubicBezTo>
                <a:cubicBezTo>
                  <a:pt x="16669" y="10336"/>
                  <a:pt x="16669" y="10327"/>
                  <a:pt x="16669" y="1031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8120" y="3840120"/>
            <a:ext cx="63720" cy="115920"/>
          </a:xfrm>
          <a:custGeom>
            <a:avLst/>
            <a:gdLst/>
            <a:ahLst/>
            <a:rect l="l" t="t" r="r" b="b"/>
            <a:pathLst>
              <a:path w="175" h="323">
                <a:moveTo>
                  <a:pt x="16793" y="10716"/>
                </a:moveTo>
                <a:cubicBezTo>
                  <a:pt x="16793" y="10691"/>
                  <a:pt x="16793" y="10683"/>
                  <a:pt x="16793" y="10666"/>
                </a:cubicBezTo>
                <a:cubicBezTo>
                  <a:pt x="16793" y="10773"/>
                  <a:pt x="16793" y="10881"/>
                  <a:pt x="16793" y="10988"/>
                </a:cubicBezTo>
              </a:path>
              <a:path w="175" h="323">
                <a:moveTo>
                  <a:pt x="16743" y="10840"/>
                </a:moveTo>
                <a:cubicBezTo>
                  <a:pt x="16751" y="10832"/>
                  <a:pt x="16760" y="10823"/>
                  <a:pt x="16768" y="10815"/>
                </a:cubicBezTo>
              </a:path>
              <a:path w="175" h="323">
                <a:moveTo>
                  <a:pt x="16842" y="10765"/>
                </a:moveTo>
                <a:cubicBezTo>
                  <a:pt x="16807" y="10730"/>
                  <a:pt x="16799" y="10774"/>
                  <a:pt x="16768" y="10815"/>
                </a:cubicBezTo>
                <a:cubicBezTo>
                  <a:pt x="16807" y="10809"/>
                  <a:pt x="16975" y="10746"/>
                  <a:pt x="16867" y="10691"/>
                </a:cubicBezTo>
                <a:cubicBezTo>
                  <a:pt x="16755" y="10634"/>
                  <a:pt x="16726" y="10769"/>
                  <a:pt x="16718" y="10840"/>
                </a:cubicBezTo>
                <a:cubicBezTo>
                  <a:pt x="16772" y="10825"/>
                  <a:pt x="16923" y="10665"/>
                  <a:pt x="16818" y="10691"/>
                </a:cubicBezTo>
                <a:cubicBezTo>
                  <a:pt x="16742" y="10710"/>
                  <a:pt x="16716" y="10763"/>
                  <a:pt x="16743" y="107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95920" y="5340240"/>
            <a:ext cx="54000" cy="330480"/>
          </a:xfrm>
          <a:custGeom>
            <a:avLst/>
            <a:gdLst/>
            <a:ahLst/>
            <a:rect l="l" t="t" r="r" b="b"/>
            <a:pathLst>
              <a:path w="150" h="919">
                <a:moveTo>
                  <a:pt x="13345" y="14833"/>
                </a:moveTo>
                <a:cubicBezTo>
                  <a:pt x="13345" y="14930"/>
                  <a:pt x="13352" y="15015"/>
                  <a:pt x="13370" y="15106"/>
                </a:cubicBezTo>
                <a:cubicBezTo>
                  <a:pt x="13370" y="15114"/>
                  <a:pt x="13370" y="15123"/>
                  <a:pt x="13370" y="15131"/>
                </a:cubicBezTo>
              </a:path>
              <a:path w="150" h="919">
                <a:moveTo>
                  <a:pt x="13345" y="15429"/>
                </a:moveTo>
                <a:cubicBezTo>
                  <a:pt x="13363" y="15393"/>
                  <a:pt x="13373" y="15388"/>
                  <a:pt x="13419" y="15379"/>
                </a:cubicBezTo>
                <a:cubicBezTo>
                  <a:pt x="13419" y="15464"/>
                  <a:pt x="13407" y="15503"/>
                  <a:pt x="13370" y="15577"/>
                </a:cubicBezTo>
                <a:cubicBezTo>
                  <a:pt x="13452" y="15561"/>
                  <a:pt x="13530" y="15587"/>
                  <a:pt x="13469" y="15701"/>
                </a:cubicBezTo>
                <a:cubicBezTo>
                  <a:pt x="13421" y="15791"/>
                  <a:pt x="13368" y="15749"/>
                  <a:pt x="13320" y="157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02160" y="5330880"/>
            <a:ext cx="135000" cy="349200"/>
          </a:xfrm>
          <a:custGeom>
            <a:avLst/>
            <a:gdLst/>
            <a:ahLst/>
            <a:rect l="l" t="t" r="r" b="b"/>
            <a:pathLst>
              <a:path w="373" h="969">
                <a:moveTo>
                  <a:pt x="15106" y="14808"/>
                </a:moveTo>
                <a:cubicBezTo>
                  <a:pt x="15106" y="14836"/>
                  <a:pt x="15104" y="14847"/>
                  <a:pt x="15081" y="14858"/>
                </a:cubicBezTo>
                <a:cubicBezTo>
                  <a:pt x="15111" y="14927"/>
                  <a:pt x="15106" y="15000"/>
                  <a:pt x="15106" y="15081"/>
                </a:cubicBezTo>
                <a:cubicBezTo>
                  <a:pt x="15106" y="15130"/>
                  <a:pt x="15100" y="15136"/>
                  <a:pt x="15131" y="15156"/>
                </a:cubicBezTo>
              </a:path>
              <a:path w="373" h="969">
                <a:moveTo>
                  <a:pt x="15007" y="15553"/>
                </a:moveTo>
                <a:cubicBezTo>
                  <a:pt x="15042" y="15541"/>
                  <a:pt x="15032" y="15546"/>
                  <a:pt x="15032" y="15503"/>
                </a:cubicBezTo>
                <a:cubicBezTo>
                  <a:pt x="15055" y="15583"/>
                  <a:pt x="15044" y="15665"/>
                  <a:pt x="15056" y="15726"/>
                </a:cubicBezTo>
                <a:cubicBezTo>
                  <a:pt x="15068" y="15788"/>
                  <a:pt x="15098" y="15776"/>
                  <a:pt x="15156" y="15776"/>
                </a:cubicBezTo>
                <a:cubicBezTo>
                  <a:pt x="15224" y="15776"/>
                  <a:pt x="15312" y="15757"/>
                  <a:pt x="15354" y="15701"/>
                </a:cubicBezTo>
                <a:cubicBezTo>
                  <a:pt x="15366" y="15685"/>
                  <a:pt x="15374" y="15648"/>
                  <a:pt x="15379" y="15627"/>
                </a:cubicBezTo>
                <a:cubicBezTo>
                  <a:pt x="15304" y="15608"/>
                  <a:pt x="15282" y="15595"/>
                  <a:pt x="15255" y="15701"/>
                </a:cubicBezTo>
                <a:cubicBezTo>
                  <a:pt x="15255" y="15743"/>
                  <a:pt x="15255" y="15751"/>
                  <a:pt x="15255" y="157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2120" y="5357880"/>
            <a:ext cx="63720" cy="357120"/>
          </a:xfrm>
          <a:custGeom>
            <a:avLst/>
            <a:gdLst/>
            <a:ahLst/>
            <a:rect l="l" t="t" r="r" b="b"/>
            <a:pathLst>
              <a:path w="175" h="993">
                <a:moveTo>
                  <a:pt x="16867" y="14883"/>
                </a:moveTo>
                <a:cubicBezTo>
                  <a:pt x="16867" y="14968"/>
                  <a:pt x="16866" y="15053"/>
                  <a:pt x="16892" y="15131"/>
                </a:cubicBezTo>
                <a:cubicBezTo>
                  <a:pt x="16900" y="15147"/>
                  <a:pt x="16909" y="15164"/>
                  <a:pt x="16917" y="15180"/>
                </a:cubicBezTo>
              </a:path>
              <a:path w="175" h="993">
                <a:moveTo>
                  <a:pt x="16991" y="15528"/>
                </a:moveTo>
                <a:cubicBezTo>
                  <a:pt x="17050" y="15528"/>
                  <a:pt x="17030" y="15542"/>
                  <a:pt x="17041" y="15478"/>
                </a:cubicBezTo>
                <a:cubicBezTo>
                  <a:pt x="16987" y="15478"/>
                  <a:pt x="16956" y="15468"/>
                  <a:pt x="16917" y="15503"/>
                </a:cubicBezTo>
                <a:cubicBezTo>
                  <a:pt x="16884" y="15533"/>
                  <a:pt x="16875" y="15561"/>
                  <a:pt x="16867" y="15602"/>
                </a:cubicBezTo>
                <a:cubicBezTo>
                  <a:pt x="16917" y="15611"/>
                  <a:pt x="17005" y="15629"/>
                  <a:pt x="17041" y="15577"/>
                </a:cubicBezTo>
                <a:cubicBezTo>
                  <a:pt x="17044" y="15573"/>
                  <a:pt x="17041" y="15483"/>
                  <a:pt x="17041" y="15553"/>
                </a:cubicBezTo>
                <a:cubicBezTo>
                  <a:pt x="17029" y="15645"/>
                  <a:pt x="16996" y="15733"/>
                  <a:pt x="16991" y="15825"/>
                </a:cubicBezTo>
                <a:cubicBezTo>
                  <a:pt x="16991" y="15842"/>
                  <a:pt x="16991" y="15858"/>
                  <a:pt x="16991" y="158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160" y="5340240"/>
            <a:ext cx="260640" cy="401760"/>
          </a:xfrm>
          <a:custGeom>
            <a:avLst/>
            <a:gdLst/>
            <a:ahLst/>
            <a:rect l="l" t="t" r="r" b="b"/>
            <a:pathLst>
              <a:path w="721" h="1117">
                <a:moveTo>
                  <a:pt x="18455" y="14833"/>
                </a:moveTo>
                <a:cubicBezTo>
                  <a:pt x="18489" y="14879"/>
                  <a:pt x="18479" y="14998"/>
                  <a:pt x="18479" y="15081"/>
                </a:cubicBezTo>
                <a:cubicBezTo>
                  <a:pt x="18479" y="15106"/>
                  <a:pt x="18479" y="15114"/>
                  <a:pt x="18479" y="15131"/>
                </a:cubicBezTo>
              </a:path>
              <a:path w="721" h="1117">
                <a:moveTo>
                  <a:pt x="18703" y="15503"/>
                </a:moveTo>
                <a:cubicBezTo>
                  <a:pt x="18629" y="15466"/>
                  <a:pt x="18616" y="15429"/>
                  <a:pt x="18529" y="15429"/>
                </a:cubicBezTo>
                <a:cubicBezTo>
                  <a:pt x="18478" y="15429"/>
                  <a:pt x="18443" y="15567"/>
                  <a:pt x="18479" y="15602"/>
                </a:cubicBezTo>
                <a:cubicBezTo>
                  <a:pt x="18527" y="15650"/>
                  <a:pt x="18624" y="15641"/>
                  <a:pt x="18653" y="15577"/>
                </a:cubicBezTo>
                <a:cubicBezTo>
                  <a:pt x="18653" y="15569"/>
                  <a:pt x="18653" y="15561"/>
                  <a:pt x="18653" y="15553"/>
                </a:cubicBezTo>
                <a:cubicBezTo>
                  <a:pt x="18693" y="15632"/>
                  <a:pt x="18678" y="15730"/>
                  <a:pt x="18678" y="15825"/>
                </a:cubicBezTo>
                <a:cubicBezTo>
                  <a:pt x="18678" y="15833"/>
                  <a:pt x="18678" y="15842"/>
                  <a:pt x="18678" y="15850"/>
                </a:cubicBezTo>
              </a:path>
              <a:path w="721" h="1117">
                <a:moveTo>
                  <a:pt x="18107" y="15577"/>
                </a:moveTo>
                <a:cubicBezTo>
                  <a:pt x="18107" y="15519"/>
                  <a:pt x="18124" y="15643"/>
                  <a:pt x="18132" y="15701"/>
                </a:cubicBezTo>
                <a:cubicBezTo>
                  <a:pt x="18132" y="15743"/>
                  <a:pt x="18132" y="15751"/>
                  <a:pt x="18132" y="15776"/>
                </a:cubicBezTo>
              </a:path>
              <a:path w="721" h="1117">
                <a:moveTo>
                  <a:pt x="18405" y="15503"/>
                </a:moveTo>
                <a:cubicBezTo>
                  <a:pt x="18424" y="15559"/>
                  <a:pt x="18462" y="15516"/>
                  <a:pt x="18504" y="15503"/>
                </a:cubicBezTo>
                <a:cubicBezTo>
                  <a:pt x="18615" y="15470"/>
                  <a:pt x="18598" y="15603"/>
                  <a:pt x="18579" y="15652"/>
                </a:cubicBezTo>
                <a:cubicBezTo>
                  <a:pt x="18556" y="15712"/>
                  <a:pt x="18504" y="15766"/>
                  <a:pt x="18455" y="15801"/>
                </a:cubicBezTo>
                <a:cubicBezTo>
                  <a:pt x="18514" y="15845"/>
                  <a:pt x="18556" y="15819"/>
                  <a:pt x="18628" y="15801"/>
                </a:cubicBezTo>
                <a:cubicBezTo>
                  <a:pt x="18701" y="15782"/>
                  <a:pt x="18767" y="15781"/>
                  <a:pt x="18827" y="15751"/>
                </a:cubicBezTo>
              </a:path>
              <a:path w="721" h="1117">
                <a:moveTo>
                  <a:pt x="18405" y="15553"/>
                </a:moveTo>
                <a:cubicBezTo>
                  <a:pt x="18472" y="15539"/>
                  <a:pt x="18558" y="15475"/>
                  <a:pt x="18628" y="15478"/>
                </a:cubicBezTo>
                <a:cubicBezTo>
                  <a:pt x="18645" y="15486"/>
                  <a:pt x="18661" y="15495"/>
                  <a:pt x="18678" y="15503"/>
                </a:cubicBezTo>
                <a:cubicBezTo>
                  <a:pt x="18678" y="15640"/>
                  <a:pt x="18598" y="15682"/>
                  <a:pt x="18504" y="15776"/>
                </a:cubicBezTo>
                <a:cubicBezTo>
                  <a:pt x="18496" y="15784"/>
                  <a:pt x="18487" y="15793"/>
                  <a:pt x="18479" y="15801"/>
                </a:cubicBezTo>
                <a:cubicBezTo>
                  <a:pt x="18582" y="15801"/>
                  <a:pt x="18656" y="15770"/>
                  <a:pt x="18752" y="15751"/>
                </a:cubicBezTo>
                <a:cubicBezTo>
                  <a:pt x="18769" y="15751"/>
                  <a:pt x="18785" y="15751"/>
                  <a:pt x="18802" y="15751"/>
                </a:cubicBezTo>
              </a:path>
              <a:path w="721" h="1117">
                <a:moveTo>
                  <a:pt x="18207" y="15602"/>
                </a:moveTo>
                <a:cubicBezTo>
                  <a:pt x="18237" y="15710"/>
                  <a:pt x="18263" y="15812"/>
                  <a:pt x="18281" y="15925"/>
                </a:cubicBezTo>
                <a:cubicBezTo>
                  <a:pt x="18281" y="15933"/>
                  <a:pt x="18281" y="15941"/>
                  <a:pt x="18281" y="159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82960" y="5589720"/>
            <a:ext cx="204840" cy="152280"/>
          </a:xfrm>
          <a:custGeom>
            <a:avLst/>
            <a:gdLst/>
            <a:ahLst/>
            <a:rect l="l" t="t" r="r" b="b"/>
            <a:pathLst>
              <a:path w="571" h="422">
                <a:moveTo>
                  <a:pt x="8310" y="15627"/>
                </a:moveTo>
                <a:cubicBezTo>
                  <a:pt x="8247" y="15627"/>
                  <a:pt x="8420" y="15627"/>
                  <a:pt x="8458" y="15627"/>
                </a:cubicBezTo>
                <a:cubicBezTo>
                  <a:pt x="8502" y="15627"/>
                  <a:pt x="8498" y="15626"/>
                  <a:pt x="8533" y="15652"/>
                </a:cubicBezTo>
              </a:path>
              <a:path w="571" h="422">
                <a:moveTo>
                  <a:pt x="8731" y="15528"/>
                </a:moveTo>
                <a:cubicBezTo>
                  <a:pt x="8713" y="15617"/>
                  <a:pt x="8671" y="15707"/>
                  <a:pt x="8657" y="15801"/>
                </a:cubicBezTo>
                <a:cubicBezTo>
                  <a:pt x="8648" y="15861"/>
                  <a:pt x="8656" y="15914"/>
                  <a:pt x="8731" y="15900"/>
                </a:cubicBezTo>
                <a:cubicBezTo>
                  <a:pt x="8821" y="15884"/>
                  <a:pt x="8858" y="15819"/>
                  <a:pt x="8830" y="15751"/>
                </a:cubicBezTo>
                <a:cubicBezTo>
                  <a:pt x="8761" y="15779"/>
                  <a:pt x="8744" y="15834"/>
                  <a:pt x="8731" y="15900"/>
                </a:cubicBezTo>
                <a:cubicBezTo>
                  <a:pt x="8731" y="15916"/>
                  <a:pt x="8731" y="15933"/>
                  <a:pt x="8731" y="159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17920" y="5340240"/>
            <a:ext cx="214200" cy="374760"/>
          </a:xfrm>
          <a:custGeom>
            <a:avLst/>
            <a:gdLst/>
            <a:ahLst/>
            <a:rect l="l" t="t" r="r" b="b"/>
            <a:pathLst>
              <a:path w="596" h="1043">
                <a:moveTo>
                  <a:pt x="10096" y="14858"/>
                </a:moveTo>
                <a:cubicBezTo>
                  <a:pt x="10104" y="14850"/>
                  <a:pt x="10112" y="14841"/>
                  <a:pt x="10120" y="14833"/>
                </a:cubicBezTo>
                <a:cubicBezTo>
                  <a:pt x="10120" y="14926"/>
                  <a:pt x="10140" y="15014"/>
                  <a:pt x="10145" y="15106"/>
                </a:cubicBezTo>
                <a:cubicBezTo>
                  <a:pt x="10145" y="15131"/>
                  <a:pt x="10145" y="15139"/>
                  <a:pt x="10145" y="15156"/>
                </a:cubicBezTo>
              </a:path>
              <a:path w="596" h="1043">
                <a:moveTo>
                  <a:pt x="9773" y="15701"/>
                </a:moveTo>
                <a:cubicBezTo>
                  <a:pt x="9773" y="15693"/>
                  <a:pt x="9773" y="15685"/>
                  <a:pt x="9773" y="15677"/>
                </a:cubicBezTo>
                <a:cubicBezTo>
                  <a:pt x="9818" y="15677"/>
                  <a:pt x="9833" y="15662"/>
                  <a:pt x="9872" y="15652"/>
                </a:cubicBezTo>
              </a:path>
              <a:path w="596" h="1043">
                <a:moveTo>
                  <a:pt x="10170" y="15478"/>
                </a:moveTo>
                <a:cubicBezTo>
                  <a:pt x="10130" y="15491"/>
                  <a:pt x="10160" y="15490"/>
                  <a:pt x="10120" y="15503"/>
                </a:cubicBezTo>
                <a:cubicBezTo>
                  <a:pt x="10132" y="15494"/>
                  <a:pt x="10239" y="15433"/>
                  <a:pt x="10244" y="15453"/>
                </a:cubicBezTo>
                <a:cubicBezTo>
                  <a:pt x="10244" y="15543"/>
                  <a:pt x="10251" y="15569"/>
                  <a:pt x="10195" y="15602"/>
                </a:cubicBezTo>
                <a:cubicBezTo>
                  <a:pt x="10250" y="15602"/>
                  <a:pt x="10380" y="15615"/>
                  <a:pt x="10368" y="15701"/>
                </a:cubicBezTo>
                <a:cubicBezTo>
                  <a:pt x="10359" y="15766"/>
                  <a:pt x="10235" y="15951"/>
                  <a:pt x="10145" y="15875"/>
                </a:cubicBezTo>
                <a:cubicBezTo>
                  <a:pt x="10145" y="15850"/>
                  <a:pt x="10145" y="15842"/>
                  <a:pt x="10120" y="158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5320" y="5616720"/>
            <a:ext cx="160560" cy="80640"/>
          </a:xfrm>
          <a:custGeom>
            <a:avLst/>
            <a:gdLst/>
            <a:ahLst/>
            <a:rect l="l" t="t" r="r" b="b"/>
            <a:pathLst>
              <a:path w="447" h="224">
                <a:moveTo>
                  <a:pt x="4986" y="15726"/>
                </a:moveTo>
                <a:cubicBezTo>
                  <a:pt x="5043" y="15683"/>
                  <a:pt x="5042" y="15709"/>
                  <a:pt x="5110" y="15726"/>
                </a:cubicBezTo>
                <a:cubicBezTo>
                  <a:pt x="5161" y="15726"/>
                  <a:pt x="5194" y="15720"/>
                  <a:pt x="5234" y="15701"/>
                </a:cubicBezTo>
              </a:path>
              <a:path w="447" h="224">
                <a:moveTo>
                  <a:pt x="5383" y="15602"/>
                </a:moveTo>
                <a:cubicBezTo>
                  <a:pt x="5394" y="15678"/>
                  <a:pt x="5401" y="15763"/>
                  <a:pt x="5432" y="158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17800" y="5340240"/>
            <a:ext cx="108000" cy="339840"/>
          </a:xfrm>
          <a:custGeom>
            <a:avLst/>
            <a:gdLst/>
            <a:ahLst/>
            <a:rect l="l" t="t" r="r" b="b"/>
            <a:pathLst>
              <a:path w="299" h="944">
                <a:moveTo>
                  <a:pt x="5680" y="14858"/>
                </a:moveTo>
                <a:cubicBezTo>
                  <a:pt x="5680" y="14790"/>
                  <a:pt x="5680" y="15003"/>
                  <a:pt x="5680" y="15032"/>
                </a:cubicBezTo>
                <a:cubicBezTo>
                  <a:pt x="5680" y="15081"/>
                  <a:pt x="5680" y="15131"/>
                  <a:pt x="5680" y="15180"/>
                </a:cubicBezTo>
              </a:path>
              <a:path w="299" h="944">
                <a:moveTo>
                  <a:pt x="5606" y="15528"/>
                </a:moveTo>
                <a:cubicBezTo>
                  <a:pt x="5653" y="15508"/>
                  <a:pt x="5709" y="15475"/>
                  <a:pt x="5730" y="15528"/>
                </a:cubicBezTo>
                <a:cubicBezTo>
                  <a:pt x="5770" y="15629"/>
                  <a:pt x="5728" y="15668"/>
                  <a:pt x="5680" y="15751"/>
                </a:cubicBezTo>
                <a:cubicBezTo>
                  <a:pt x="5749" y="15774"/>
                  <a:pt x="5804" y="15776"/>
                  <a:pt x="5879" y="15776"/>
                </a:cubicBezTo>
                <a:cubicBezTo>
                  <a:pt x="5887" y="15776"/>
                  <a:pt x="5896" y="15776"/>
                  <a:pt x="5904" y="157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9200" y="5348160"/>
            <a:ext cx="216000" cy="349200"/>
          </a:xfrm>
          <a:custGeom>
            <a:avLst/>
            <a:gdLst/>
            <a:ahLst/>
            <a:rect l="l" t="t" r="r" b="b"/>
            <a:pathLst>
              <a:path w="596" h="968">
                <a:moveTo>
                  <a:pt x="7218" y="14858"/>
                </a:moveTo>
                <a:cubicBezTo>
                  <a:pt x="7218" y="14957"/>
                  <a:pt x="7225" y="15039"/>
                  <a:pt x="7243" y="15131"/>
                </a:cubicBezTo>
                <a:cubicBezTo>
                  <a:pt x="7243" y="15156"/>
                  <a:pt x="7243" y="15164"/>
                  <a:pt x="7243" y="15180"/>
                </a:cubicBezTo>
              </a:path>
              <a:path w="596" h="968">
                <a:moveTo>
                  <a:pt x="6722" y="15652"/>
                </a:moveTo>
                <a:cubicBezTo>
                  <a:pt x="6772" y="15652"/>
                  <a:pt x="6821" y="15652"/>
                  <a:pt x="6871" y="15652"/>
                </a:cubicBezTo>
              </a:path>
              <a:path w="596" h="968">
                <a:moveTo>
                  <a:pt x="7293" y="15528"/>
                </a:moveTo>
                <a:cubicBezTo>
                  <a:pt x="7286" y="15485"/>
                  <a:pt x="7238" y="15425"/>
                  <a:pt x="7169" y="15429"/>
                </a:cubicBezTo>
                <a:cubicBezTo>
                  <a:pt x="7076" y="15434"/>
                  <a:pt x="7075" y="15541"/>
                  <a:pt x="7069" y="15602"/>
                </a:cubicBezTo>
                <a:cubicBezTo>
                  <a:pt x="7146" y="15593"/>
                  <a:pt x="7247" y="15579"/>
                  <a:pt x="7293" y="15503"/>
                </a:cubicBezTo>
                <a:cubicBezTo>
                  <a:pt x="7295" y="15499"/>
                  <a:pt x="7293" y="15408"/>
                  <a:pt x="7293" y="15478"/>
                </a:cubicBezTo>
                <a:cubicBezTo>
                  <a:pt x="7293" y="15529"/>
                  <a:pt x="7255" y="15804"/>
                  <a:pt x="7317" y="158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28960" y="5099040"/>
            <a:ext cx="214200" cy="366840"/>
          </a:xfrm>
          <a:custGeom>
            <a:avLst/>
            <a:gdLst/>
            <a:ahLst/>
            <a:rect l="l" t="t" r="r" b="b"/>
            <a:pathLst>
              <a:path w="596" h="1018">
                <a:moveTo>
                  <a:pt x="8706" y="14784"/>
                </a:moveTo>
                <a:cubicBezTo>
                  <a:pt x="8706" y="14862"/>
                  <a:pt x="8664" y="15158"/>
                  <a:pt x="8731" y="15180"/>
                </a:cubicBezTo>
              </a:path>
              <a:path w="596" h="1018">
                <a:moveTo>
                  <a:pt x="8136" y="14387"/>
                </a:moveTo>
                <a:cubicBezTo>
                  <a:pt x="8136" y="14486"/>
                  <a:pt x="8136" y="14585"/>
                  <a:pt x="8136" y="14684"/>
                </a:cubicBezTo>
                <a:cubicBezTo>
                  <a:pt x="8197" y="14677"/>
                  <a:pt x="8228" y="14663"/>
                  <a:pt x="8285" y="14635"/>
                </a:cubicBezTo>
              </a:path>
              <a:path w="596" h="1018">
                <a:moveTo>
                  <a:pt x="8161" y="14536"/>
                </a:moveTo>
                <a:cubicBezTo>
                  <a:pt x="8175" y="14501"/>
                  <a:pt x="8196" y="14471"/>
                  <a:pt x="8210" y="14436"/>
                </a:cubicBezTo>
                <a:cubicBezTo>
                  <a:pt x="8235" y="14436"/>
                  <a:pt x="8243" y="14436"/>
                  <a:pt x="8235" y="14412"/>
                </a:cubicBezTo>
              </a:path>
              <a:path w="596" h="1018">
                <a:moveTo>
                  <a:pt x="8136" y="14312"/>
                </a:moveTo>
                <a:cubicBezTo>
                  <a:pt x="8136" y="14250"/>
                  <a:pt x="8167" y="14232"/>
                  <a:pt x="8210" y="14188"/>
                </a:cubicBezTo>
                <a:cubicBezTo>
                  <a:pt x="8233" y="14165"/>
                  <a:pt x="8241" y="14154"/>
                  <a:pt x="8235" y="14188"/>
                </a:cubicBezTo>
              </a:path>
              <a:path w="596" h="1018">
                <a:moveTo>
                  <a:pt x="8161" y="15131"/>
                </a:moveTo>
                <a:cubicBezTo>
                  <a:pt x="8215" y="15113"/>
                  <a:pt x="8162" y="15100"/>
                  <a:pt x="8186" y="15056"/>
                </a:cubicBezTo>
                <a:cubicBezTo>
                  <a:pt x="8207" y="15018"/>
                  <a:pt x="8230" y="15022"/>
                  <a:pt x="8186" y="15007"/>
                </a:cubicBezTo>
                <a:cubicBezTo>
                  <a:pt x="8186" y="14974"/>
                  <a:pt x="8158" y="15073"/>
                  <a:pt x="8186" y="15056"/>
                </a:cubicBezTo>
                <a:cubicBezTo>
                  <a:pt x="8249" y="15018"/>
                  <a:pt x="8235" y="14991"/>
                  <a:pt x="8235" y="14932"/>
                </a:cubicBezTo>
                <a:cubicBezTo>
                  <a:pt x="8195" y="14942"/>
                  <a:pt x="8126" y="15005"/>
                  <a:pt x="8161" y="15056"/>
                </a:cubicBezTo>
                <a:cubicBezTo>
                  <a:pt x="8229" y="15156"/>
                  <a:pt x="8262" y="14953"/>
                  <a:pt x="8260" y="14932"/>
                </a:cubicBezTo>
                <a:cubicBezTo>
                  <a:pt x="8221" y="14961"/>
                  <a:pt x="8210" y="14998"/>
                  <a:pt x="8210" y="15056"/>
                </a:cubicBezTo>
                <a:cubicBezTo>
                  <a:pt x="8260" y="15031"/>
                  <a:pt x="8309" y="14931"/>
                  <a:pt x="8235" y="14883"/>
                </a:cubicBezTo>
                <a:cubicBezTo>
                  <a:pt x="8209" y="14866"/>
                  <a:pt x="8208" y="14935"/>
                  <a:pt x="8186" y="149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25840" y="3840120"/>
            <a:ext cx="9360" cy="133560"/>
          </a:xfrm>
          <a:custGeom>
            <a:avLst/>
            <a:gdLst/>
            <a:ahLst/>
            <a:rect l="l" t="t" r="r" b="b"/>
            <a:pathLst>
              <a:path w="25" h="373">
                <a:moveTo>
                  <a:pt x="7317" y="10691"/>
                </a:moveTo>
                <a:cubicBezTo>
                  <a:pt x="7317" y="10653"/>
                  <a:pt x="7295" y="10928"/>
                  <a:pt x="7293" y="10988"/>
                </a:cubicBezTo>
                <a:cubicBezTo>
                  <a:pt x="7293" y="11013"/>
                  <a:pt x="7293" y="11021"/>
                  <a:pt x="7293" y="110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4880" y="3840120"/>
            <a:ext cx="169920" cy="392040"/>
          </a:xfrm>
          <a:custGeom>
            <a:avLst/>
            <a:gdLst/>
            <a:ahLst/>
            <a:rect l="l" t="t" r="r" b="b"/>
            <a:pathLst>
              <a:path w="473" h="1092">
                <a:moveTo>
                  <a:pt x="8855" y="10691"/>
                </a:moveTo>
                <a:cubicBezTo>
                  <a:pt x="8855" y="10648"/>
                  <a:pt x="8855" y="10888"/>
                  <a:pt x="8855" y="10939"/>
                </a:cubicBezTo>
                <a:cubicBezTo>
                  <a:pt x="8855" y="10980"/>
                  <a:pt x="8855" y="10988"/>
                  <a:pt x="8855" y="11013"/>
                </a:cubicBezTo>
              </a:path>
              <a:path w="473" h="1092">
                <a:moveTo>
                  <a:pt x="8458" y="11509"/>
                </a:moveTo>
                <a:cubicBezTo>
                  <a:pt x="8491" y="11509"/>
                  <a:pt x="8525" y="11509"/>
                  <a:pt x="8558" y="11509"/>
                </a:cubicBezTo>
              </a:path>
              <a:path w="473" h="1092">
                <a:moveTo>
                  <a:pt x="8781" y="11385"/>
                </a:moveTo>
                <a:cubicBezTo>
                  <a:pt x="8781" y="11446"/>
                  <a:pt x="8775" y="11479"/>
                  <a:pt x="8756" y="11534"/>
                </a:cubicBezTo>
                <a:cubicBezTo>
                  <a:pt x="8807" y="11534"/>
                  <a:pt x="8905" y="11544"/>
                  <a:pt x="8930" y="11485"/>
                </a:cubicBezTo>
                <a:cubicBezTo>
                  <a:pt x="8930" y="11468"/>
                  <a:pt x="8930" y="11452"/>
                  <a:pt x="8930" y="11435"/>
                </a:cubicBezTo>
              </a:path>
              <a:path w="473" h="1092">
                <a:moveTo>
                  <a:pt x="8880" y="11311"/>
                </a:moveTo>
                <a:cubicBezTo>
                  <a:pt x="8832" y="11454"/>
                  <a:pt x="8830" y="11582"/>
                  <a:pt x="8830" y="11733"/>
                </a:cubicBezTo>
                <a:cubicBezTo>
                  <a:pt x="8830" y="11741"/>
                  <a:pt x="8830" y="11749"/>
                  <a:pt x="8830" y="117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25920" y="3510000"/>
            <a:ext cx="169920" cy="438120"/>
          </a:xfrm>
          <a:custGeom>
            <a:avLst/>
            <a:gdLst/>
            <a:ahLst/>
            <a:rect l="l" t="t" r="r" b="b"/>
            <a:pathLst>
              <a:path w="472" h="1217">
                <a:moveTo>
                  <a:pt x="10220" y="10641"/>
                </a:moveTo>
                <a:cubicBezTo>
                  <a:pt x="10186" y="10686"/>
                  <a:pt x="10175" y="10828"/>
                  <a:pt x="10170" y="10914"/>
                </a:cubicBezTo>
                <a:cubicBezTo>
                  <a:pt x="10170" y="10939"/>
                  <a:pt x="10170" y="10947"/>
                  <a:pt x="10170" y="10964"/>
                </a:cubicBezTo>
              </a:path>
              <a:path w="472" h="1217">
                <a:moveTo>
                  <a:pt x="10269" y="9847"/>
                </a:moveTo>
                <a:cubicBezTo>
                  <a:pt x="10333" y="9826"/>
                  <a:pt x="10256" y="9792"/>
                  <a:pt x="10220" y="9773"/>
                </a:cubicBezTo>
                <a:cubicBezTo>
                  <a:pt x="10203" y="9765"/>
                  <a:pt x="10187" y="9756"/>
                  <a:pt x="10170" y="9748"/>
                </a:cubicBezTo>
                <a:cubicBezTo>
                  <a:pt x="10067" y="9864"/>
                  <a:pt x="10005" y="10090"/>
                  <a:pt x="10120" y="10244"/>
                </a:cubicBezTo>
                <a:cubicBezTo>
                  <a:pt x="10224" y="10383"/>
                  <a:pt x="10435" y="10218"/>
                  <a:pt x="10492" y="10120"/>
                </a:cubicBezTo>
                <a:cubicBezTo>
                  <a:pt x="10512" y="10086"/>
                  <a:pt x="10506" y="10099"/>
                  <a:pt x="10542" y="10046"/>
                </a:cubicBezTo>
              </a:path>
              <a:path w="472" h="1217">
                <a:moveTo>
                  <a:pt x="10220" y="10815"/>
                </a:moveTo>
                <a:cubicBezTo>
                  <a:pt x="10185" y="10815"/>
                  <a:pt x="10167" y="10810"/>
                  <a:pt x="10145" y="10790"/>
                </a:cubicBezTo>
                <a:cubicBezTo>
                  <a:pt x="10145" y="10944"/>
                  <a:pt x="10255" y="10795"/>
                  <a:pt x="10220" y="10740"/>
                </a:cubicBezTo>
                <a:cubicBezTo>
                  <a:pt x="10187" y="10688"/>
                  <a:pt x="10078" y="10790"/>
                  <a:pt x="10120" y="10840"/>
                </a:cubicBezTo>
                <a:cubicBezTo>
                  <a:pt x="10164" y="10861"/>
                  <a:pt x="10175" y="10874"/>
                  <a:pt x="10195" y="10840"/>
                </a:cubicBezTo>
                <a:cubicBezTo>
                  <a:pt x="10226" y="10736"/>
                  <a:pt x="10187" y="10712"/>
                  <a:pt x="10170" y="10790"/>
                </a:cubicBezTo>
                <a:cubicBezTo>
                  <a:pt x="10170" y="10798"/>
                  <a:pt x="10170" y="10807"/>
                  <a:pt x="10170" y="108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27160" y="3840120"/>
            <a:ext cx="1800" cy="125280"/>
          </a:xfrm>
          <a:custGeom>
            <a:avLst/>
            <a:gdLst/>
            <a:ahLst/>
            <a:rect l="l" t="t" r="r" b="b"/>
            <a:pathLst>
              <a:path w="1" h="348">
                <a:moveTo>
                  <a:pt x="5631" y="10666"/>
                </a:moveTo>
                <a:cubicBezTo>
                  <a:pt x="5631" y="10782"/>
                  <a:pt x="5631" y="10897"/>
                  <a:pt x="5631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14840" y="2517840"/>
            <a:ext cx="17280" cy="376200"/>
          </a:xfrm>
          <a:custGeom>
            <a:avLst/>
            <a:gdLst/>
            <a:ahLst/>
            <a:rect l="l" t="t" r="r" b="b"/>
            <a:pathLst>
              <a:path w="50" h="1043">
                <a:moveTo>
                  <a:pt x="10368" y="6995"/>
                </a:moveTo>
                <a:cubicBezTo>
                  <a:pt x="10350" y="7050"/>
                  <a:pt x="10344" y="7019"/>
                  <a:pt x="10344" y="7119"/>
                </a:cubicBezTo>
                <a:cubicBezTo>
                  <a:pt x="10344" y="7193"/>
                  <a:pt x="10344" y="7268"/>
                  <a:pt x="10344" y="7342"/>
                </a:cubicBezTo>
              </a:path>
              <a:path w="50" h="1043">
                <a:moveTo>
                  <a:pt x="10319" y="7714"/>
                </a:moveTo>
                <a:cubicBezTo>
                  <a:pt x="10343" y="7824"/>
                  <a:pt x="10344" y="7938"/>
                  <a:pt x="10319" y="8012"/>
                </a:cubicBezTo>
                <a:cubicBezTo>
                  <a:pt x="10319" y="8020"/>
                  <a:pt x="10319" y="8029"/>
                  <a:pt x="10319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0280" y="2847960"/>
            <a:ext cx="98640" cy="9720"/>
          </a:xfrm>
          <a:custGeom>
            <a:avLst/>
            <a:gdLst/>
            <a:ahLst/>
            <a:rect l="l" t="t" r="r" b="b"/>
            <a:pathLst>
              <a:path w="274" h="26">
                <a:moveTo>
                  <a:pt x="9723" y="7938"/>
                </a:moveTo>
                <a:cubicBezTo>
                  <a:pt x="9814" y="7938"/>
                  <a:pt x="9884" y="7929"/>
                  <a:pt x="9971" y="7913"/>
                </a:cubicBezTo>
                <a:cubicBezTo>
                  <a:pt x="9979" y="7913"/>
                  <a:pt x="9988" y="7913"/>
                  <a:pt x="9996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1880" y="2536920"/>
            <a:ext cx="142920" cy="347400"/>
          </a:xfrm>
          <a:custGeom>
            <a:avLst/>
            <a:gdLst/>
            <a:ahLst/>
            <a:rect l="l" t="t" r="r" b="b"/>
            <a:pathLst>
              <a:path w="398" h="968">
                <a:moveTo>
                  <a:pt x="8806" y="7094"/>
                </a:moveTo>
                <a:cubicBezTo>
                  <a:pt x="8806" y="7066"/>
                  <a:pt x="8808" y="7056"/>
                  <a:pt x="8830" y="7045"/>
                </a:cubicBezTo>
                <a:cubicBezTo>
                  <a:pt x="8830" y="7128"/>
                  <a:pt x="8830" y="7210"/>
                  <a:pt x="8830" y="7293"/>
                </a:cubicBezTo>
              </a:path>
              <a:path w="398" h="968">
                <a:moveTo>
                  <a:pt x="8533" y="7863"/>
                </a:moveTo>
                <a:cubicBezTo>
                  <a:pt x="8590" y="7863"/>
                  <a:pt x="8629" y="7843"/>
                  <a:pt x="8682" y="7838"/>
                </a:cubicBezTo>
                <a:cubicBezTo>
                  <a:pt x="8690" y="7838"/>
                  <a:pt x="8698" y="7838"/>
                  <a:pt x="8706" y="7838"/>
                </a:cubicBezTo>
              </a:path>
              <a:path w="398" h="968">
                <a:moveTo>
                  <a:pt x="8806" y="7689"/>
                </a:moveTo>
                <a:cubicBezTo>
                  <a:pt x="8829" y="7650"/>
                  <a:pt x="8828" y="7633"/>
                  <a:pt x="8855" y="7615"/>
                </a:cubicBezTo>
                <a:cubicBezTo>
                  <a:pt x="8917" y="7697"/>
                  <a:pt x="8867" y="7775"/>
                  <a:pt x="8830" y="7863"/>
                </a:cubicBezTo>
                <a:cubicBezTo>
                  <a:pt x="8805" y="7924"/>
                  <a:pt x="8784" y="7969"/>
                  <a:pt x="8806" y="8012"/>
                </a:cubicBezTo>
                <a:cubicBezTo>
                  <a:pt x="8849" y="7985"/>
                  <a:pt x="8889" y="7954"/>
                  <a:pt x="8930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54200" y="2143080"/>
            <a:ext cx="177840" cy="758880"/>
          </a:xfrm>
          <a:custGeom>
            <a:avLst/>
            <a:gdLst/>
            <a:ahLst/>
            <a:rect l="l" t="t" r="r" b="b"/>
            <a:pathLst>
              <a:path w="497" h="2110">
                <a:moveTo>
                  <a:pt x="7392" y="7119"/>
                </a:moveTo>
                <a:cubicBezTo>
                  <a:pt x="7379" y="7081"/>
                  <a:pt x="7367" y="7098"/>
                  <a:pt x="7367" y="7045"/>
                </a:cubicBezTo>
                <a:cubicBezTo>
                  <a:pt x="7317" y="7126"/>
                  <a:pt x="7362" y="7243"/>
                  <a:pt x="7367" y="7342"/>
                </a:cubicBezTo>
                <a:cubicBezTo>
                  <a:pt x="7367" y="7350"/>
                  <a:pt x="7367" y="7359"/>
                  <a:pt x="7367" y="7367"/>
                </a:cubicBezTo>
              </a:path>
              <a:path w="497" h="2110">
                <a:moveTo>
                  <a:pt x="7094" y="7938"/>
                </a:moveTo>
                <a:cubicBezTo>
                  <a:pt x="7142" y="7938"/>
                  <a:pt x="7204" y="7915"/>
                  <a:pt x="7243" y="7888"/>
                </a:cubicBezTo>
                <a:cubicBezTo>
                  <a:pt x="7260" y="7871"/>
                  <a:pt x="7276" y="7855"/>
                  <a:pt x="7293" y="7838"/>
                </a:cubicBezTo>
              </a:path>
              <a:path w="497" h="2110">
                <a:moveTo>
                  <a:pt x="7417" y="7739"/>
                </a:moveTo>
                <a:cubicBezTo>
                  <a:pt x="7443" y="7719"/>
                  <a:pt x="7521" y="7677"/>
                  <a:pt x="7516" y="7764"/>
                </a:cubicBezTo>
                <a:cubicBezTo>
                  <a:pt x="7512" y="7823"/>
                  <a:pt x="7459" y="7836"/>
                  <a:pt x="7516" y="7863"/>
                </a:cubicBezTo>
                <a:cubicBezTo>
                  <a:pt x="7603" y="7904"/>
                  <a:pt x="7614" y="8016"/>
                  <a:pt x="7516" y="8062"/>
                </a:cubicBezTo>
                <a:cubicBezTo>
                  <a:pt x="7474" y="8062"/>
                  <a:pt x="7466" y="8062"/>
                  <a:pt x="7441" y="8062"/>
                </a:cubicBezTo>
              </a:path>
              <a:path w="497" h="2110">
                <a:moveTo>
                  <a:pt x="7293" y="6251"/>
                </a:moveTo>
                <a:cubicBezTo>
                  <a:pt x="7216" y="6200"/>
                  <a:pt x="7291" y="6479"/>
                  <a:pt x="7293" y="6499"/>
                </a:cubicBezTo>
                <a:cubicBezTo>
                  <a:pt x="7296" y="6540"/>
                  <a:pt x="7293" y="6614"/>
                  <a:pt x="7293" y="6573"/>
                </a:cubicBezTo>
                <a:cubicBezTo>
                  <a:pt x="7222" y="6361"/>
                  <a:pt x="7246" y="6204"/>
                  <a:pt x="7367" y="6003"/>
                </a:cubicBezTo>
                <a:cubicBezTo>
                  <a:pt x="7384" y="5986"/>
                  <a:pt x="7400" y="5970"/>
                  <a:pt x="7417" y="5953"/>
                </a:cubicBezTo>
                <a:cubicBezTo>
                  <a:pt x="7443" y="6066"/>
                  <a:pt x="7510" y="6222"/>
                  <a:pt x="7417" y="6325"/>
                </a:cubicBezTo>
                <a:cubicBezTo>
                  <a:pt x="7409" y="6325"/>
                  <a:pt x="7400" y="6325"/>
                  <a:pt x="7392" y="6325"/>
                </a:cubicBezTo>
                <a:cubicBezTo>
                  <a:pt x="7405" y="6285"/>
                  <a:pt x="7469" y="6285"/>
                  <a:pt x="7491" y="6350"/>
                </a:cubicBezTo>
                <a:cubicBezTo>
                  <a:pt x="7525" y="6451"/>
                  <a:pt x="7417" y="6556"/>
                  <a:pt x="7342" y="6598"/>
                </a:cubicBezTo>
                <a:cubicBezTo>
                  <a:pt x="7317" y="6598"/>
                  <a:pt x="7309" y="6598"/>
                  <a:pt x="7293" y="6598"/>
                </a:cubicBezTo>
              </a:path>
              <a:path w="497" h="2110">
                <a:moveTo>
                  <a:pt x="7342" y="7193"/>
                </a:moveTo>
                <a:cubicBezTo>
                  <a:pt x="7342" y="7185"/>
                  <a:pt x="7342" y="7177"/>
                  <a:pt x="7342" y="7169"/>
                </a:cubicBezTo>
                <a:cubicBezTo>
                  <a:pt x="7321" y="7128"/>
                  <a:pt x="7299" y="7188"/>
                  <a:pt x="7342" y="7193"/>
                </a:cubicBezTo>
                <a:cubicBezTo>
                  <a:pt x="7403" y="7200"/>
                  <a:pt x="7426" y="7069"/>
                  <a:pt x="7342" y="7069"/>
                </a:cubicBezTo>
                <a:cubicBezTo>
                  <a:pt x="7304" y="7069"/>
                  <a:pt x="7227" y="7311"/>
                  <a:pt x="7367" y="7193"/>
                </a:cubicBezTo>
                <a:cubicBezTo>
                  <a:pt x="7384" y="7168"/>
                  <a:pt x="7400" y="7144"/>
                  <a:pt x="7417" y="7119"/>
                </a:cubicBezTo>
                <a:cubicBezTo>
                  <a:pt x="7371" y="7050"/>
                  <a:pt x="7344" y="7135"/>
                  <a:pt x="7367" y="7193"/>
                </a:cubicBezTo>
                <a:cubicBezTo>
                  <a:pt x="7392" y="7218"/>
                  <a:pt x="7400" y="7226"/>
                  <a:pt x="7417" y="71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1880" y="2536920"/>
            <a:ext cx="196920" cy="384120"/>
          </a:xfrm>
          <a:custGeom>
            <a:avLst/>
            <a:gdLst/>
            <a:ahLst/>
            <a:rect l="l" t="t" r="r" b="b"/>
            <a:pathLst>
              <a:path w="547" h="1067">
                <a:moveTo>
                  <a:pt x="5655" y="7069"/>
                </a:moveTo>
                <a:cubicBezTo>
                  <a:pt x="5655" y="6999"/>
                  <a:pt x="5655" y="7251"/>
                  <a:pt x="5655" y="7268"/>
                </a:cubicBezTo>
                <a:cubicBezTo>
                  <a:pt x="5655" y="7377"/>
                  <a:pt x="5662" y="7346"/>
                  <a:pt x="5680" y="7417"/>
                </a:cubicBezTo>
              </a:path>
              <a:path w="547" h="1067">
                <a:moveTo>
                  <a:pt x="5283" y="7987"/>
                </a:moveTo>
                <a:cubicBezTo>
                  <a:pt x="5283" y="7979"/>
                  <a:pt x="5283" y="7970"/>
                  <a:pt x="5283" y="7962"/>
                </a:cubicBezTo>
                <a:cubicBezTo>
                  <a:pt x="5355" y="7962"/>
                  <a:pt x="5392" y="7945"/>
                  <a:pt x="5457" y="7913"/>
                </a:cubicBezTo>
              </a:path>
              <a:path w="547" h="1067">
                <a:moveTo>
                  <a:pt x="5606" y="7813"/>
                </a:moveTo>
                <a:cubicBezTo>
                  <a:pt x="5615" y="7857"/>
                  <a:pt x="5625" y="7892"/>
                  <a:pt x="5631" y="7938"/>
                </a:cubicBezTo>
                <a:cubicBezTo>
                  <a:pt x="5716" y="7899"/>
                  <a:pt x="5731" y="7892"/>
                  <a:pt x="5779" y="7813"/>
                </a:cubicBezTo>
              </a:path>
              <a:path w="547" h="1067">
                <a:moveTo>
                  <a:pt x="5755" y="7689"/>
                </a:moveTo>
                <a:cubicBezTo>
                  <a:pt x="5773" y="7821"/>
                  <a:pt x="5808" y="7953"/>
                  <a:pt x="5829" y="8086"/>
                </a:cubicBezTo>
                <a:cubicBezTo>
                  <a:pt x="5829" y="8094"/>
                  <a:pt x="5829" y="8103"/>
                  <a:pt x="5829" y="81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47880" y="4044960"/>
            <a:ext cx="322200" cy="196920"/>
          </a:xfrm>
          <a:custGeom>
            <a:avLst/>
            <a:gdLst/>
            <a:ahLst/>
            <a:rect l="l" t="t" r="r" b="b"/>
            <a:pathLst>
              <a:path w="894" h="546">
                <a:moveTo>
                  <a:pt x="5135" y="11385"/>
                </a:moveTo>
                <a:cubicBezTo>
                  <a:pt x="5199" y="11385"/>
                  <a:pt x="5241" y="11404"/>
                  <a:pt x="5308" y="11410"/>
                </a:cubicBezTo>
                <a:cubicBezTo>
                  <a:pt x="5364" y="11415"/>
                  <a:pt x="5465" y="11384"/>
                  <a:pt x="5482" y="11435"/>
                </a:cubicBezTo>
              </a:path>
              <a:path w="894" h="546">
                <a:moveTo>
                  <a:pt x="6028" y="11261"/>
                </a:moveTo>
                <a:cubicBezTo>
                  <a:pt x="5929" y="11229"/>
                  <a:pt x="5829" y="11301"/>
                  <a:pt x="5755" y="11385"/>
                </a:cubicBezTo>
                <a:cubicBezTo>
                  <a:pt x="5629" y="11528"/>
                  <a:pt x="5802" y="11529"/>
                  <a:pt x="5879" y="11633"/>
                </a:cubicBezTo>
                <a:cubicBezTo>
                  <a:pt x="5956" y="11736"/>
                  <a:pt x="5846" y="11752"/>
                  <a:pt x="5779" y="11782"/>
                </a:cubicBezTo>
                <a:cubicBezTo>
                  <a:pt x="5719" y="11699"/>
                  <a:pt x="5782" y="11596"/>
                  <a:pt x="5854" y="11509"/>
                </a:cubicBezTo>
                <a:cubicBezTo>
                  <a:pt x="5918" y="11432"/>
                  <a:pt x="5935" y="11428"/>
                  <a:pt x="5953" y="113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70800" y="3830760"/>
            <a:ext cx="133200" cy="401400"/>
          </a:xfrm>
          <a:custGeom>
            <a:avLst/>
            <a:gdLst/>
            <a:ahLst/>
            <a:rect l="l" t="t" r="r" b="b"/>
            <a:pathLst>
              <a:path w="373" h="1117">
                <a:moveTo>
                  <a:pt x="18529" y="10641"/>
                </a:moveTo>
                <a:cubicBezTo>
                  <a:pt x="18581" y="10676"/>
                  <a:pt x="18554" y="10868"/>
                  <a:pt x="18554" y="10939"/>
                </a:cubicBezTo>
                <a:cubicBezTo>
                  <a:pt x="18554" y="10988"/>
                  <a:pt x="18554" y="11005"/>
                  <a:pt x="18554" y="11038"/>
                </a:cubicBezTo>
              </a:path>
              <a:path w="373" h="1117">
                <a:moveTo>
                  <a:pt x="18827" y="11385"/>
                </a:moveTo>
                <a:cubicBezTo>
                  <a:pt x="18798" y="11348"/>
                  <a:pt x="18704" y="11295"/>
                  <a:pt x="18653" y="11361"/>
                </a:cubicBezTo>
                <a:cubicBezTo>
                  <a:pt x="18653" y="11369"/>
                  <a:pt x="18653" y="11377"/>
                  <a:pt x="18653" y="11385"/>
                </a:cubicBezTo>
                <a:cubicBezTo>
                  <a:pt x="18724" y="11501"/>
                  <a:pt x="18827" y="11584"/>
                  <a:pt x="18901" y="11708"/>
                </a:cubicBezTo>
                <a:cubicBezTo>
                  <a:pt x="18875" y="11723"/>
                  <a:pt x="18631" y="11816"/>
                  <a:pt x="18678" y="11683"/>
                </a:cubicBezTo>
                <a:cubicBezTo>
                  <a:pt x="18714" y="11582"/>
                  <a:pt x="18818" y="11511"/>
                  <a:pt x="18852" y="114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64080" y="2955960"/>
            <a:ext cx="152640" cy="187200"/>
          </a:xfrm>
          <a:custGeom>
            <a:avLst/>
            <a:gdLst/>
            <a:ahLst/>
            <a:rect l="l" t="t" r="r" b="b"/>
            <a:pathLst>
              <a:path w="423" h="522">
                <a:moveTo>
                  <a:pt x="15280" y="8334"/>
                </a:moveTo>
                <a:cubicBezTo>
                  <a:pt x="15294" y="8263"/>
                  <a:pt x="15329" y="8240"/>
                  <a:pt x="15404" y="8210"/>
                </a:cubicBezTo>
                <a:cubicBezTo>
                  <a:pt x="15421" y="8203"/>
                  <a:pt x="15460" y="8210"/>
                  <a:pt x="15478" y="8210"/>
                </a:cubicBezTo>
                <a:cubicBezTo>
                  <a:pt x="15478" y="8277"/>
                  <a:pt x="15482" y="8328"/>
                  <a:pt x="15453" y="8384"/>
                </a:cubicBezTo>
                <a:cubicBezTo>
                  <a:pt x="15409" y="8468"/>
                  <a:pt x="15370" y="8449"/>
                  <a:pt x="15304" y="8483"/>
                </a:cubicBezTo>
                <a:cubicBezTo>
                  <a:pt x="15238" y="8517"/>
                  <a:pt x="15196" y="8583"/>
                  <a:pt x="15180" y="8657"/>
                </a:cubicBezTo>
                <a:cubicBezTo>
                  <a:pt x="15180" y="8698"/>
                  <a:pt x="15180" y="8706"/>
                  <a:pt x="15180" y="8731"/>
                </a:cubicBezTo>
                <a:cubicBezTo>
                  <a:pt x="15232" y="8666"/>
                  <a:pt x="15245" y="8642"/>
                  <a:pt x="15304" y="8607"/>
                </a:cubicBezTo>
                <a:cubicBezTo>
                  <a:pt x="15327" y="8584"/>
                  <a:pt x="15331" y="8576"/>
                  <a:pt x="15354" y="8582"/>
                </a:cubicBezTo>
                <a:cubicBezTo>
                  <a:pt x="15384" y="8630"/>
                  <a:pt x="15429" y="8731"/>
                  <a:pt x="15503" y="8706"/>
                </a:cubicBezTo>
                <a:cubicBezTo>
                  <a:pt x="15614" y="8669"/>
                  <a:pt x="15602" y="8679"/>
                  <a:pt x="15602" y="86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02200" y="4010040"/>
            <a:ext cx="376200" cy="401760"/>
          </a:xfrm>
          <a:custGeom>
            <a:avLst/>
            <a:gdLst/>
            <a:ahLst/>
            <a:rect l="l" t="t" r="r" b="b"/>
            <a:pathLst>
              <a:path w="1043" h="1118">
                <a:moveTo>
                  <a:pt x="16768" y="11534"/>
                </a:moveTo>
                <a:cubicBezTo>
                  <a:pt x="16783" y="11636"/>
                  <a:pt x="16793" y="11727"/>
                  <a:pt x="16793" y="11832"/>
                </a:cubicBezTo>
                <a:cubicBezTo>
                  <a:pt x="16793" y="11859"/>
                  <a:pt x="16804" y="11973"/>
                  <a:pt x="16842" y="11981"/>
                </a:cubicBezTo>
                <a:cubicBezTo>
                  <a:pt x="16922" y="11999"/>
                  <a:pt x="17007" y="11987"/>
                  <a:pt x="17066" y="11931"/>
                </a:cubicBezTo>
                <a:cubicBezTo>
                  <a:pt x="17121" y="11879"/>
                  <a:pt x="17161" y="11843"/>
                  <a:pt x="17115" y="11782"/>
                </a:cubicBezTo>
                <a:cubicBezTo>
                  <a:pt x="17060" y="11782"/>
                  <a:pt x="17052" y="11801"/>
                  <a:pt x="17016" y="11857"/>
                </a:cubicBezTo>
                <a:cubicBezTo>
                  <a:pt x="16987" y="11902"/>
                  <a:pt x="16991" y="11931"/>
                  <a:pt x="16991" y="11981"/>
                </a:cubicBezTo>
              </a:path>
              <a:path w="1043" h="1118">
                <a:moveTo>
                  <a:pt x="16718" y="12229"/>
                </a:moveTo>
                <a:cubicBezTo>
                  <a:pt x="16821" y="12268"/>
                  <a:pt x="16933" y="12265"/>
                  <a:pt x="17041" y="12229"/>
                </a:cubicBezTo>
                <a:cubicBezTo>
                  <a:pt x="17191" y="12178"/>
                  <a:pt x="17350" y="12081"/>
                  <a:pt x="17413" y="11931"/>
                </a:cubicBezTo>
                <a:cubicBezTo>
                  <a:pt x="17463" y="11813"/>
                  <a:pt x="17430" y="11579"/>
                  <a:pt x="17388" y="11460"/>
                </a:cubicBezTo>
                <a:cubicBezTo>
                  <a:pt x="17339" y="11321"/>
                  <a:pt x="17275" y="11217"/>
                  <a:pt x="17140" y="11162"/>
                </a:cubicBezTo>
                <a:cubicBezTo>
                  <a:pt x="17043" y="11122"/>
                  <a:pt x="16897" y="11121"/>
                  <a:pt x="16793" y="11137"/>
                </a:cubicBezTo>
                <a:cubicBezTo>
                  <a:pt x="16685" y="11154"/>
                  <a:pt x="16534" y="11216"/>
                  <a:pt x="16470" y="11311"/>
                </a:cubicBezTo>
                <a:cubicBezTo>
                  <a:pt x="16380" y="11445"/>
                  <a:pt x="16359" y="11703"/>
                  <a:pt x="16396" y="11857"/>
                </a:cubicBezTo>
                <a:cubicBezTo>
                  <a:pt x="16425" y="11977"/>
                  <a:pt x="16495" y="12081"/>
                  <a:pt x="16619" y="12105"/>
                </a:cubicBezTo>
                <a:cubicBezTo>
                  <a:pt x="16678" y="12116"/>
                  <a:pt x="16690" y="12115"/>
                  <a:pt x="16718" y="12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84280" y="3027240"/>
            <a:ext cx="473400" cy="339840"/>
          </a:xfrm>
          <a:custGeom>
            <a:avLst/>
            <a:gdLst/>
            <a:ahLst/>
            <a:rect l="l" t="t" r="r" b="b"/>
            <a:pathLst>
              <a:path w="1316" h="943">
                <a:moveTo>
                  <a:pt x="7020" y="8731"/>
                </a:moveTo>
                <a:cubicBezTo>
                  <a:pt x="7085" y="8707"/>
                  <a:pt x="7152" y="8670"/>
                  <a:pt x="7218" y="8657"/>
                </a:cubicBezTo>
              </a:path>
              <a:path w="1316" h="943">
                <a:moveTo>
                  <a:pt x="7367" y="8508"/>
                </a:moveTo>
                <a:cubicBezTo>
                  <a:pt x="7367" y="8460"/>
                  <a:pt x="7370" y="8458"/>
                  <a:pt x="7392" y="8409"/>
                </a:cubicBezTo>
                <a:cubicBezTo>
                  <a:pt x="7485" y="8432"/>
                  <a:pt x="7476" y="8556"/>
                  <a:pt x="7441" y="8632"/>
                </a:cubicBezTo>
                <a:cubicBezTo>
                  <a:pt x="7425" y="8649"/>
                  <a:pt x="7408" y="8665"/>
                  <a:pt x="7392" y="8682"/>
                </a:cubicBezTo>
                <a:cubicBezTo>
                  <a:pt x="7426" y="8594"/>
                  <a:pt x="7481" y="8553"/>
                  <a:pt x="7565" y="8632"/>
                </a:cubicBezTo>
                <a:cubicBezTo>
                  <a:pt x="7675" y="8736"/>
                  <a:pt x="7655" y="8977"/>
                  <a:pt x="7516" y="9054"/>
                </a:cubicBezTo>
                <a:cubicBezTo>
                  <a:pt x="7446" y="9093"/>
                  <a:pt x="7389" y="9047"/>
                  <a:pt x="7367" y="9004"/>
                </a:cubicBezTo>
              </a:path>
              <a:path w="1316" h="943">
                <a:moveTo>
                  <a:pt x="6995" y="9227"/>
                </a:moveTo>
                <a:cubicBezTo>
                  <a:pt x="7102" y="9239"/>
                  <a:pt x="7148" y="9295"/>
                  <a:pt x="7243" y="9327"/>
                </a:cubicBezTo>
                <a:cubicBezTo>
                  <a:pt x="7389" y="9375"/>
                  <a:pt x="7556" y="9350"/>
                  <a:pt x="7689" y="9277"/>
                </a:cubicBezTo>
                <a:cubicBezTo>
                  <a:pt x="7792" y="9220"/>
                  <a:pt x="7938" y="9085"/>
                  <a:pt x="7938" y="8954"/>
                </a:cubicBezTo>
                <a:cubicBezTo>
                  <a:pt x="7938" y="8885"/>
                  <a:pt x="7906" y="8726"/>
                  <a:pt x="7888" y="8657"/>
                </a:cubicBezTo>
                <a:cubicBezTo>
                  <a:pt x="7876" y="8612"/>
                  <a:pt x="7809" y="8529"/>
                  <a:pt x="7764" y="8508"/>
                </a:cubicBezTo>
                <a:cubicBezTo>
                  <a:pt x="7676" y="8466"/>
                  <a:pt x="7588" y="8437"/>
                  <a:pt x="7491" y="8434"/>
                </a:cubicBezTo>
                <a:cubicBezTo>
                  <a:pt x="7381" y="8430"/>
                  <a:pt x="7282" y="8409"/>
                  <a:pt x="7169" y="8409"/>
                </a:cubicBezTo>
                <a:cubicBezTo>
                  <a:pt x="7045" y="8409"/>
                  <a:pt x="6921" y="8427"/>
                  <a:pt x="6821" y="8508"/>
                </a:cubicBezTo>
                <a:cubicBezTo>
                  <a:pt x="6727" y="8584"/>
                  <a:pt x="6640" y="8735"/>
                  <a:pt x="6623" y="8855"/>
                </a:cubicBezTo>
                <a:cubicBezTo>
                  <a:pt x="6606" y="8977"/>
                  <a:pt x="6692" y="9183"/>
                  <a:pt x="6796" y="9252"/>
                </a:cubicBezTo>
                <a:cubicBezTo>
                  <a:pt x="6934" y="9344"/>
                  <a:pt x="7070" y="9314"/>
                  <a:pt x="7218" y="93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83000" y="3990960"/>
            <a:ext cx="455760" cy="349200"/>
          </a:xfrm>
          <a:custGeom>
            <a:avLst/>
            <a:gdLst/>
            <a:ahLst/>
            <a:rect l="l" t="t" r="r" b="b"/>
            <a:pathLst>
              <a:path w="1266" h="968">
                <a:moveTo>
                  <a:pt x="9947" y="11559"/>
                </a:moveTo>
                <a:cubicBezTo>
                  <a:pt x="10018" y="11559"/>
                  <a:pt x="10090" y="11576"/>
                  <a:pt x="10145" y="11534"/>
                </a:cubicBezTo>
              </a:path>
              <a:path w="1266" h="968">
                <a:moveTo>
                  <a:pt x="10319" y="11385"/>
                </a:moveTo>
                <a:cubicBezTo>
                  <a:pt x="10287" y="11344"/>
                  <a:pt x="10282" y="11328"/>
                  <a:pt x="10319" y="11286"/>
                </a:cubicBezTo>
                <a:cubicBezTo>
                  <a:pt x="10362" y="11238"/>
                  <a:pt x="10433" y="11261"/>
                  <a:pt x="10468" y="11311"/>
                </a:cubicBezTo>
                <a:cubicBezTo>
                  <a:pt x="10503" y="11361"/>
                  <a:pt x="10478" y="11442"/>
                  <a:pt x="10443" y="11485"/>
                </a:cubicBezTo>
                <a:cubicBezTo>
                  <a:pt x="10408" y="11528"/>
                  <a:pt x="10364" y="11570"/>
                  <a:pt x="10344" y="11609"/>
                </a:cubicBezTo>
                <a:cubicBezTo>
                  <a:pt x="10307" y="11682"/>
                  <a:pt x="10269" y="11698"/>
                  <a:pt x="10269" y="11782"/>
                </a:cubicBezTo>
                <a:cubicBezTo>
                  <a:pt x="10269" y="11837"/>
                  <a:pt x="10305" y="11711"/>
                  <a:pt x="10319" y="11683"/>
                </a:cubicBezTo>
                <a:cubicBezTo>
                  <a:pt x="10379" y="11695"/>
                  <a:pt x="10458" y="11772"/>
                  <a:pt x="10517" y="11708"/>
                </a:cubicBezTo>
                <a:cubicBezTo>
                  <a:pt x="10525" y="11691"/>
                  <a:pt x="10534" y="11675"/>
                  <a:pt x="10542" y="11658"/>
                </a:cubicBezTo>
              </a:path>
              <a:path w="1266" h="968">
                <a:moveTo>
                  <a:pt x="9872" y="11956"/>
                </a:moveTo>
                <a:cubicBezTo>
                  <a:pt x="10024" y="12022"/>
                  <a:pt x="10149" y="12048"/>
                  <a:pt x="10319" y="12030"/>
                </a:cubicBezTo>
                <a:cubicBezTo>
                  <a:pt x="10457" y="12015"/>
                  <a:pt x="10683" y="11955"/>
                  <a:pt x="10790" y="11857"/>
                </a:cubicBezTo>
                <a:cubicBezTo>
                  <a:pt x="10891" y="11765"/>
                  <a:pt x="10957" y="11621"/>
                  <a:pt x="10939" y="11485"/>
                </a:cubicBezTo>
                <a:cubicBezTo>
                  <a:pt x="10920" y="11340"/>
                  <a:pt x="10834" y="11238"/>
                  <a:pt x="10716" y="11162"/>
                </a:cubicBezTo>
                <a:cubicBezTo>
                  <a:pt x="10671" y="11133"/>
                  <a:pt x="10571" y="11086"/>
                  <a:pt x="10517" y="11088"/>
                </a:cubicBezTo>
                <a:cubicBezTo>
                  <a:pt x="10441" y="11091"/>
                  <a:pt x="10347" y="11128"/>
                  <a:pt x="10269" y="11137"/>
                </a:cubicBezTo>
                <a:cubicBezTo>
                  <a:pt x="10193" y="11146"/>
                  <a:pt x="10087" y="11184"/>
                  <a:pt x="10021" y="11237"/>
                </a:cubicBezTo>
                <a:cubicBezTo>
                  <a:pt x="9940" y="11301"/>
                  <a:pt x="9836" y="11361"/>
                  <a:pt x="9773" y="11435"/>
                </a:cubicBezTo>
                <a:cubicBezTo>
                  <a:pt x="9711" y="11507"/>
                  <a:pt x="9660" y="11637"/>
                  <a:pt x="9674" y="11733"/>
                </a:cubicBezTo>
                <a:cubicBezTo>
                  <a:pt x="9690" y="11839"/>
                  <a:pt x="9727" y="11929"/>
                  <a:pt x="9798" y="12005"/>
                </a:cubicBezTo>
                <a:cubicBezTo>
                  <a:pt x="9878" y="12090"/>
                  <a:pt x="10023" y="12055"/>
                  <a:pt x="10120" y="12030"/>
                </a:cubicBezTo>
                <a:cubicBezTo>
                  <a:pt x="10183" y="12014"/>
                  <a:pt x="10191" y="12011"/>
                  <a:pt x="10244" y="120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76880" y="2928960"/>
            <a:ext cx="411120" cy="322200"/>
          </a:xfrm>
          <a:custGeom>
            <a:avLst/>
            <a:gdLst/>
            <a:ahLst/>
            <a:rect l="l" t="t" r="r" b="b"/>
            <a:pathLst>
              <a:path w="1142" h="894">
                <a:moveTo>
                  <a:pt x="14932" y="8979"/>
                </a:moveTo>
                <a:cubicBezTo>
                  <a:pt x="15025" y="8979"/>
                  <a:pt x="15091" y="9018"/>
                  <a:pt x="15180" y="9029"/>
                </a:cubicBezTo>
                <a:cubicBezTo>
                  <a:pt x="15291" y="9043"/>
                  <a:pt x="15505" y="9006"/>
                  <a:pt x="15602" y="8954"/>
                </a:cubicBezTo>
                <a:cubicBezTo>
                  <a:pt x="15674" y="8916"/>
                  <a:pt x="15739" y="8808"/>
                  <a:pt x="15776" y="8731"/>
                </a:cubicBezTo>
                <a:cubicBezTo>
                  <a:pt x="15822" y="8636"/>
                  <a:pt x="15788" y="8562"/>
                  <a:pt x="15776" y="8483"/>
                </a:cubicBezTo>
                <a:cubicBezTo>
                  <a:pt x="15766" y="8418"/>
                  <a:pt x="15762" y="8361"/>
                  <a:pt x="15726" y="8310"/>
                </a:cubicBezTo>
                <a:cubicBezTo>
                  <a:pt x="15698" y="8269"/>
                  <a:pt x="15600" y="8199"/>
                  <a:pt x="15553" y="8186"/>
                </a:cubicBezTo>
                <a:cubicBezTo>
                  <a:pt x="15491" y="8169"/>
                  <a:pt x="15424" y="8146"/>
                  <a:pt x="15354" y="8136"/>
                </a:cubicBezTo>
                <a:cubicBezTo>
                  <a:pt x="15274" y="8125"/>
                  <a:pt x="15132" y="8155"/>
                  <a:pt x="15056" y="8186"/>
                </a:cubicBezTo>
                <a:cubicBezTo>
                  <a:pt x="14933" y="8236"/>
                  <a:pt x="14813" y="8267"/>
                  <a:pt x="14734" y="8384"/>
                </a:cubicBezTo>
                <a:cubicBezTo>
                  <a:pt x="14598" y="8583"/>
                  <a:pt x="14648" y="8805"/>
                  <a:pt x="14808" y="8954"/>
                </a:cubicBezTo>
                <a:cubicBezTo>
                  <a:pt x="14816" y="8962"/>
                  <a:pt x="14825" y="8971"/>
                  <a:pt x="14833" y="89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1120" y="5732640"/>
            <a:ext cx="428760" cy="376200"/>
          </a:xfrm>
          <a:custGeom>
            <a:avLst/>
            <a:gdLst/>
            <a:ahLst/>
            <a:rect l="l" t="t" r="r" b="b"/>
            <a:pathLst>
              <a:path w="1191" h="1042">
                <a:moveTo>
                  <a:pt x="7838" y="16470"/>
                </a:moveTo>
                <a:cubicBezTo>
                  <a:pt x="7929" y="16504"/>
                  <a:pt x="7971" y="16484"/>
                  <a:pt x="8062" y="16470"/>
                </a:cubicBezTo>
                <a:cubicBezTo>
                  <a:pt x="8078" y="16470"/>
                  <a:pt x="8095" y="16470"/>
                  <a:pt x="8111" y="16470"/>
                </a:cubicBezTo>
              </a:path>
              <a:path w="1191" h="1042">
                <a:moveTo>
                  <a:pt x="8210" y="16272"/>
                </a:moveTo>
                <a:cubicBezTo>
                  <a:pt x="8202" y="16255"/>
                  <a:pt x="8194" y="16239"/>
                  <a:pt x="8186" y="16222"/>
                </a:cubicBezTo>
                <a:cubicBezTo>
                  <a:pt x="8223" y="16213"/>
                  <a:pt x="8331" y="16171"/>
                  <a:pt x="8359" y="16148"/>
                </a:cubicBezTo>
                <a:cubicBezTo>
                  <a:pt x="8359" y="16123"/>
                  <a:pt x="8359" y="16115"/>
                  <a:pt x="8384" y="16123"/>
                </a:cubicBezTo>
                <a:cubicBezTo>
                  <a:pt x="8471" y="16166"/>
                  <a:pt x="8434" y="16331"/>
                  <a:pt x="8434" y="16421"/>
                </a:cubicBezTo>
                <a:cubicBezTo>
                  <a:pt x="8434" y="16523"/>
                  <a:pt x="8442" y="16538"/>
                  <a:pt x="8458" y="16619"/>
                </a:cubicBezTo>
              </a:path>
              <a:path w="1191" h="1042">
                <a:moveTo>
                  <a:pt x="7739" y="16768"/>
                </a:moveTo>
                <a:cubicBezTo>
                  <a:pt x="7783" y="16828"/>
                  <a:pt x="7830" y="16907"/>
                  <a:pt x="7913" y="16942"/>
                </a:cubicBezTo>
                <a:cubicBezTo>
                  <a:pt x="8023" y="16988"/>
                  <a:pt x="8223" y="16976"/>
                  <a:pt x="8334" y="16942"/>
                </a:cubicBezTo>
                <a:cubicBezTo>
                  <a:pt x="8443" y="16909"/>
                  <a:pt x="8589" y="16834"/>
                  <a:pt x="8682" y="16768"/>
                </a:cubicBezTo>
                <a:cubicBezTo>
                  <a:pt x="8732" y="16733"/>
                  <a:pt x="8817" y="16656"/>
                  <a:pt x="8830" y="16594"/>
                </a:cubicBezTo>
                <a:cubicBezTo>
                  <a:pt x="8851" y="16497"/>
                  <a:pt x="8817" y="16387"/>
                  <a:pt x="8806" y="16297"/>
                </a:cubicBezTo>
                <a:cubicBezTo>
                  <a:pt x="8799" y="16243"/>
                  <a:pt x="8803" y="16171"/>
                  <a:pt x="8781" y="16123"/>
                </a:cubicBezTo>
                <a:cubicBezTo>
                  <a:pt x="8752" y="16060"/>
                  <a:pt x="8693" y="16057"/>
                  <a:pt x="8657" y="16024"/>
                </a:cubicBezTo>
                <a:cubicBezTo>
                  <a:pt x="8606" y="15977"/>
                  <a:pt x="8546" y="15938"/>
                  <a:pt x="8458" y="15925"/>
                </a:cubicBezTo>
                <a:cubicBezTo>
                  <a:pt x="8340" y="15907"/>
                  <a:pt x="8201" y="15925"/>
                  <a:pt x="8086" y="15949"/>
                </a:cubicBezTo>
                <a:cubicBezTo>
                  <a:pt x="7959" y="15976"/>
                  <a:pt x="7848" y="16009"/>
                  <a:pt x="7739" y="16073"/>
                </a:cubicBezTo>
                <a:cubicBezTo>
                  <a:pt x="7642" y="16131"/>
                  <a:pt x="7644" y="16212"/>
                  <a:pt x="7640" y="16321"/>
                </a:cubicBezTo>
                <a:cubicBezTo>
                  <a:pt x="7636" y="16431"/>
                  <a:pt x="7647" y="16552"/>
                  <a:pt x="7714" y="16644"/>
                </a:cubicBezTo>
                <a:cubicBezTo>
                  <a:pt x="7771" y="16724"/>
                  <a:pt x="7848" y="16728"/>
                  <a:pt x="7913" y="16793"/>
                </a:cubicBezTo>
                <a:cubicBezTo>
                  <a:pt x="7935" y="16815"/>
                  <a:pt x="7940" y="16824"/>
                  <a:pt x="7962" y="168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8880" y="5732640"/>
            <a:ext cx="295200" cy="285480"/>
          </a:xfrm>
          <a:custGeom>
            <a:avLst/>
            <a:gdLst/>
            <a:ahLst/>
            <a:rect l="l" t="t" r="r" b="b"/>
            <a:pathLst>
              <a:path w="819" h="794">
                <a:moveTo>
                  <a:pt x="12229" y="16024"/>
                </a:moveTo>
                <a:cubicBezTo>
                  <a:pt x="12277" y="16120"/>
                  <a:pt x="12237" y="16236"/>
                  <a:pt x="12254" y="16346"/>
                </a:cubicBezTo>
                <a:cubicBezTo>
                  <a:pt x="12263" y="16407"/>
                  <a:pt x="12278" y="16436"/>
                  <a:pt x="12278" y="16495"/>
                </a:cubicBezTo>
              </a:path>
              <a:path w="819" h="794">
                <a:moveTo>
                  <a:pt x="11981" y="16619"/>
                </a:moveTo>
                <a:cubicBezTo>
                  <a:pt x="12006" y="16645"/>
                  <a:pt x="12047" y="16687"/>
                  <a:pt x="12080" y="16694"/>
                </a:cubicBezTo>
                <a:cubicBezTo>
                  <a:pt x="12166" y="16713"/>
                  <a:pt x="12250" y="16681"/>
                  <a:pt x="12328" y="16669"/>
                </a:cubicBezTo>
                <a:cubicBezTo>
                  <a:pt x="12380" y="16661"/>
                  <a:pt x="12424" y="16644"/>
                  <a:pt x="12477" y="16644"/>
                </a:cubicBezTo>
                <a:cubicBezTo>
                  <a:pt x="12542" y="16644"/>
                  <a:pt x="12535" y="16576"/>
                  <a:pt x="12576" y="16545"/>
                </a:cubicBezTo>
                <a:cubicBezTo>
                  <a:pt x="12620" y="16511"/>
                  <a:pt x="12663" y="16482"/>
                  <a:pt x="12675" y="16421"/>
                </a:cubicBezTo>
                <a:cubicBezTo>
                  <a:pt x="12693" y="16330"/>
                  <a:pt x="12665" y="16224"/>
                  <a:pt x="12650" y="16148"/>
                </a:cubicBezTo>
                <a:cubicBezTo>
                  <a:pt x="12636" y="16077"/>
                  <a:pt x="12667" y="16077"/>
                  <a:pt x="12601" y="16049"/>
                </a:cubicBezTo>
                <a:cubicBezTo>
                  <a:pt x="12555" y="16029"/>
                  <a:pt x="12517" y="16016"/>
                  <a:pt x="12477" y="15999"/>
                </a:cubicBezTo>
                <a:cubicBezTo>
                  <a:pt x="12437" y="15982"/>
                  <a:pt x="12392" y="15952"/>
                  <a:pt x="12353" y="15949"/>
                </a:cubicBezTo>
                <a:cubicBezTo>
                  <a:pt x="12274" y="15943"/>
                  <a:pt x="12253" y="15945"/>
                  <a:pt x="12179" y="15949"/>
                </a:cubicBezTo>
                <a:cubicBezTo>
                  <a:pt x="12114" y="15953"/>
                  <a:pt x="12067" y="15993"/>
                  <a:pt x="12005" y="16024"/>
                </a:cubicBezTo>
                <a:cubicBezTo>
                  <a:pt x="11949" y="16052"/>
                  <a:pt x="11902" y="16085"/>
                  <a:pt x="11881" y="16148"/>
                </a:cubicBezTo>
                <a:cubicBezTo>
                  <a:pt x="11865" y="16196"/>
                  <a:pt x="11857" y="16214"/>
                  <a:pt x="11857" y="16272"/>
                </a:cubicBezTo>
                <a:cubicBezTo>
                  <a:pt x="11857" y="16361"/>
                  <a:pt x="11869" y="16434"/>
                  <a:pt x="11881" y="16520"/>
                </a:cubicBezTo>
                <a:cubicBezTo>
                  <a:pt x="11891" y="16589"/>
                  <a:pt x="11901" y="16670"/>
                  <a:pt x="11981" y="16694"/>
                </a:cubicBezTo>
                <a:cubicBezTo>
                  <a:pt x="12015" y="16704"/>
                  <a:pt x="12047" y="16710"/>
                  <a:pt x="12080" y="167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ing Types of Change in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84200" y="4870440"/>
            <a:ext cx="66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 Students will identify the change occurring in a 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85920" y="2894040"/>
            <a:ext cx="6626160" cy="169920"/>
          </a:xfrm>
          <a:custGeom>
            <a:avLst/>
            <a:gdLst/>
            <a:ahLst/>
            <a:rect l="l" t="t" r="r" b="b"/>
            <a:pathLst>
              <a:path w="18406" h="472">
                <a:moveTo>
                  <a:pt x="3572" y="8111"/>
                </a:moveTo>
                <a:cubicBezTo>
                  <a:pt x="3918" y="8067"/>
                  <a:pt x="4198" y="8034"/>
                  <a:pt x="4564" y="8086"/>
                </a:cubicBezTo>
                <a:cubicBezTo>
                  <a:pt x="4845" y="8126"/>
                  <a:pt x="5126" y="8168"/>
                  <a:pt x="5407" y="8210"/>
                </a:cubicBezTo>
                <a:cubicBezTo>
                  <a:pt x="5574" y="8235"/>
                  <a:pt x="5737" y="8270"/>
                  <a:pt x="5904" y="8285"/>
                </a:cubicBezTo>
                <a:cubicBezTo>
                  <a:pt x="6175" y="8310"/>
                  <a:pt x="6448" y="8328"/>
                  <a:pt x="6722" y="8334"/>
                </a:cubicBezTo>
                <a:cubicBezTo>
                  <a:pt x="7164" y="8343"/>
                  <a:pt x="7597" y="8296"/>
                  <a:pt x="8037" y="8285"/>
                </a:cubicBezTo>
                <a:cubicBezTo>
                  <a:pt x="8559" y="8272"/>
                  <a:pt x="9079" y="8292"/>
                  <a:pt x="9599" y="8260"/>
                </a:cubicBezTo>
                <a:cubicBezTo>
                  <a:pt x="9755" y="8250"/>
                  <a:pt x="9915" y="8250"/>
                  <a:pt x="10071" y="8235"/>
                </a:cubicBezTo>
                <a:cubicBezTo>
                  <a:pt x="10243" y="8218"/>
                  <a:pt x="10419" y="8169"/>
                  <a:pt x="10592" y="8161"/>
                </a:cubicBezTo>
                <a:cubicBezTo>
                  <a:pt x="11377" y="8123"/>
                  <a:pt x="12159" y="8035"/>
                  <a:pt x="12948" y="8062"/>
                </a:cubicBezTo>
                <a:cubicBezTo>
                  <a:pt x="13337" y="8075"/>
                  <a:pt x="13725" y="8114"/>
                  <a:pt x="14114" y="8136"/>
                </a:cubicBezTo>
                <a:cubicBezTo>
                  <a:pt x="14562" y="8162"/>
                  <a:pt x="15005" y="8202"/>
                  <a:pt x="15453" y="8235"/>
                </a:cubicBezTo>
                <a:cubicBezTo>
                  <a:pt x="15866" y="8265"/>
                  <a:pt x="16281" y="8281"/>
                  <a:pt x="16694" y="8310"/>
                </a:cubicBezTo>
                <a:cubicBezTo>
                  <a:pt x="17049" y="8335"/>
                  <a:pt x="17405" y="8374"/>
                  <a:pt x="17760" y="8384"/>
                </a:cubicBezTo>
                <a:cubicBezTo>
                  <a:pt x="19146" y="8424"/>
                  <a:pt x="20627" y="8221"/>
                  <a:pt x="21977" y="8508"/>
                </a:cubicBezTo>
                <a:cubicBezTo>
                  <a:pt x="21960" y="8508"/>
                  <a:pt x="21944" y="8508"/>
                  <a:pt x="21927" y="85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84720" y="3500280"/>
            <a:ext cx="2312640" cy="88920"/>
          </a:xfrm>
          <a:custGeom>
            <a:avLst/>
            <a:gdLst/>
            <a:ahLst/>
            <a:rect l="l" t="t" r="r" b="b"/>
            <a:pathLst>
              <a:path w="6425" h="249">
                <a:moveTo>
                  <a:pt x="9401" y="9723"/>
                </a:moveTo>
                <a:cubicBezTo>
                  <a:pt x="10410" y="9723"/>
                  <a:pt x="11420" y="9715"/>
                  <a:pt x="12427" y="9773"/>
                </a:cubicBezTo>
                <a:cubicBezTo>
                  <a:pt x="12776" y="9793"/>
                  <a:pt x="13121" y="9814"/>
                  <a:pt x="13469" y="9847"/>
                </a:cubicBezTo>
                <a:cubicBezTo>
                  <a:pt x="13858" y="9884"/>
                  <a:pt x="14246" y="9897"/>
                  <a:pt x="14635" y="9922"/>
                </a:cubicBezTo>
                <a:cubicBezTo>
                  <a:pt x="14926" y="9941"/>
                  <a:pt x="15211" y="9947"/>
                  <a:pt x="15503" y="9947"/>
                </a:cubicBezTo>
                <a:cubicBezTo>
                  <a:pt x="15619" y="9947"/>
                  <a:pt x="15686" y="9957"/>
                  <a:pt x="15801" y="99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1840" y="241200"/>
            <a:ext cx="86518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the change occurring in a graph.</a:t>
            </a:r>
            <a:br>
              <a:rPr sz="2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259680" y="4159080"/>
            <a:ext cx="2884320" cy="2698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68440" y="1303200"/>
            <a:ext cx="817704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graphing functions or linear equations, the result will be a line that is created by connecting various solution sets, expressed as points (x,y).  The lines can be described using the following vocabula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ncreas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Decreas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Verdana"/>
              </a:rPr>
              <a:t>Constant 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97800" y="5022720"/>
            <a:ext cx="1820880" cy="1517760"/>
          </a:xfrm>
          <a:prstGeom prst="line">
            <a:avLst/>
          </a:prstGeom>
          <a:ln w="38160">
            <a:solidFill>
              <a:srgbClr val="bbe0e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530840" y="4946760"/>
            <a:ext cx="928440" cy="1670040"/>
          </a:xfrm>
          <a:prstGeom prst="line">
            <a:avLst/>
          </a:prstGeom>
          <a:ln w="4140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469200" y="4719600"/>
            <a:ext cx="2674800" cy="0"/>
          </a:xfrm>
          <a:prstGeom prst="line">
            <a:avLst/>
          </a:prstGeom>
          <a:ln w="38160">
            <a:solidFill>
              <a:srgbClr val="ff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8280" y="3411360"/>
            <a:ext cx="446400" cy="1419480"/>
          </a:xfrm>
          <a:custGeom>
            <a:avLst/>
            <a:gdLst/>
            <a:ahLst/>
            <a:rect l="l" t="t" r="r" b="b"/>
            <a:pathLst>
              <a:path w="1241" h="3945">
                <a:moveTo>
                  <a:pt x="893" y="9847"/>
                </a:moveTo>
                <a:cubicBezTo>
                  <a:pt x="905" y="9814"/>
                  <a:pt x="1024" y="9801"/>
                  <a:pt x="1067" y="9798"/>
                </a:cubicBezTo>
                <a:cubicBezTo>
                  <a:pt x="1158" y="9791"/>
                  <a:pt x="1409" y="9714"/>
                  <a:pt x="1339" y="9773"/>
                </a:cubicBezTo>
                <a:cubicBezTo>
                  <a:pt x="1279" y="9824"/>
                  <a:pt x="1046" y="9838"/>
                  <a:pt x="967" y="9847"/>
                </a:cubicBezTo>
                <a:cubicBezTo>
                  <a:pt x="892" y="9856"/>
                  <a:pt x="968" y="9836"/>
                  <a:pt x="1042" y="9823"/>
                </a:cubicBezTo>
                <a:cubicBezTo>
                  <a:pt x="1044" y="9823"/>
                  <a:pt x="1398" y="9831"/>
                  <a:pt x="1191" y="9847"/>
                </a:cubicBezTo>
                <a:cubicBezTo>
                  <a:pt x="1172" y="9848"/>
                  <a:pt x="875" y="9859"/>
                  <a:pt x="943" y="9847"/>
                </a:cubicBezTo>
                <a:cubicBezTo>
                  <a:pt x="1075" y="9824"/>
                  <a:pt x="1206" y="9817"/>
                  <a:pt x="1339" y="9798"/>
                </a:cubicBezTo>
              </a:path>
              <a:path w="1241" h="3945">
                <a:moveTo>
                  <a:pt x="1166" y="11534"/>
                </a:moveTo>
                <a:cubicBezTo>
                  <a:pt x="1282" y="11534"/>
                  <a:pt x="1376" y="11513"/>
                  <a:pt x="1488" y="11485"/>
                </a:cubicBezTo>
                <a:cubicBezTo>
                  <a:pt x="1355" y="11506"/>
                  <a:pt x="1228" y="11530"/>
                  <a:pt x="1091" y="11534"/>
                </a:cubicBezTo>
                <a:cubicBezTo>
                  <a:pt x="942" y="11539"/>
                  <a:pt x="1283" y="11487"/>
                  <a:pt x="1290" y="11485"/>
                </a:cubicBezTo>
                <a:cubicBezTo>
                  <a:pt x="1554" y="11424"/>
                  <a:pt x="1166" y="11484"/>
                  <a:pt x="1141" y="11485"/>
                </a:cubicBezTo>
                <a:cubicBezTo>
                  <a:pt x="947" y="11566"/>
                  <a:pt x="1288" y="11463"/>
                  <a:pt x="1315" y="11460"/>
                </a:cubicBezTo>
                <a:cubicBezTo>
                  <a:pt x="1373" y="11460"/>
                  <a:pt x="1381" y="11460"/>
                  <a:pt x="1414" y="11460"/>
                </a:cubicBezTo>
              </a:path>
              <a:path w="1241" h="3945">
                <a:moveTo>
                  <a:pt x="1315" y="12998"/>
                </a:moveTo>
                <a:cubicBezTo>
                  <a:pt x="1386" y="12998"/>
                  <a:pt x="1445" y="13002"/>
                  <a:pt x="1513" y="12973"/>
                </a:cubicBezTo>
                <a:cubicBezTo>
                  <a:pt x="1598" y="12936"/>
                  <a:pt x="1332" y="13007"/>
                  <a:pt x="1240" y="13022"/>
                </a:cubicBezTo>
                <a:cubicBezTo>
                  <a:pt x="1053" y="13022"/>
                  <a:pt x="1408" y="12993"/>
                  <a:pt x="1463" y="12973"/>
                </a:cubicBezTo>
                <a:cubicBezTo>
                  <a:pt x="1428" y="12973"/>
                  <a:pt x="1411" y="12978"/>
                  <a:pt x="1389" y="12998"/>
                </a:cubicBezTo>
                <a:cubicBezTo>
                  <a:pt x="1311" y="13012"/>
                  <a:pt x="962" y="13085"/>
                  <a:pt x="1290" y="13022"/>
                </a:cubicBezTo>
                <a:cubicBezTo>
                  <a:pt x="1391" y="13003"/>
                  <a:pt x="1411" y="13005"/>
                  <a:pt x="1463" y="12973"/>
                </a:cubicBezTo>
              </a:path>
              <a:path w="1241" h="3945">
                <a:moveTo>
                  <a:pt x="843" y="9475"/>
                </a:moveTo>
                <a:cubicBezTo>
                  <a:pt x="708" y="9490"/>
                  <a:pt x="566" y="9500"/>
                  <a:pt x="422" y="9500"/>
                </a:cubicBezTo>
                <a:cubicBezTo>
                  <a:pt x="381" y="9500"/>
                  <a:pt x="339" y="9500"/>
                  <a:pt x="298" y="9500"/>
                </a:cubicBezTo>
                <a:cubicBezTo>
                  <a:pt x="280" y="9606"/>
                  <a:pt x="286" y="9669"/>
                  <a:pt x="298" y="9773"/>
                </a:cubicBezTo>
                <a:cubicBezTo>
                  <a:pt x="307" y="9855"/>
                  <a:pt x="315" y="9941"/>
                  <a:pt x="322" y="10021"/>
                </a:cubicBezTo>
                <a:cubicBezTo>
                  <a:pt x="330" y="10119"/>
                  <a:pt x="331" y="10221"/>
                  <a:pt x="347" y="10319"/>
                </a:cubicBezTo>
                <a:cubicBezTo>
                  <a:pt x="356" y="10378"/>
                  <a:pt x="380" y="10459"/>
                  <a:pt x="397" y="10517"/>
                </a:cubicBezTo>
                <a:cubicBezTo>
                  <a:pt x="432" y="10632"/>
                  <a:pt x="451" y="10743"/>
                  <a:pt x="471" y="10864"/>
                </a:cubicBezTo>
                <a:cubicBezTo>
                  <a:pt x="488" y="10967"/>
                  <a:pt x="528" y="11063"/>
                  <a:pt x="546" y="11162"/>
                </a:cubicBezTo>
                <a:cubicBezTo>
                  <a:pt x="568" y="11281"/>
                  <a:pt x="609" y="11412"/>
                  <a:pt x="620" y="11534"/>
                </a:cubicBezTo>
                <a:cubicBezTo>
                  <a:pt x="633" y="11680"/>
                  <a:pt x="640" y="11835"/>
                  <a:pt x="645" y="11981"/>
                </a:cubicBezTo>
                <a:cubicBezTo>
                  <a:pt x="649" y="12084"/>
                  <a:pt x="662" y="12178"/>
                  <a:pt x="670" y="12278"/>
                </a:cubicBezTo>
                <a:cubicBezTo>
                  <a:pt x="679" y="12394"/>
                  <a:pt x="691" y="12511"/>
                  <a:pt x="695" y="12626"/>
                </a:cubicBezTo>
                <a:cubicBezTo>
                  <a:pt x="704" y="12888"/>
                  <a:pt x="703" y="13166"/>
                  <a:pt x="670" y="13419"/>
                </a:cubicBezTo>
                <a:cubicBezTo>
                  <a:pt x="743" y="13408"/>
                  <a:pt x="822" y="13409"/>
                  <a:pt x="893" y="13395"/>
                </a:cubicBezTo>
                <a:cubicBezTo>
                  <a:pt x="978" y="13378"/>
                  <a:pt x="1053" y="13370"/>
                  <a:pt x="1141" y="133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37120" y="965160"/>
            <a:ext cx="1409760" cy="785880"/>
          </a:xfrm>
          <a:custGeom>
            <a:avLst/>
            <a:gdLst/>
            <a:ahLst/>
            <a:rect l="l" t="t" r="r" b="b"/>
            <a:pathLst>
              <a:path w="3920" h="2184">
                <a:moveTo>
                  <a:pt x="13990" y="4738"/>
                </a:moveTo>
                <a:cubicBezTo>
                  <a:pt x="13998" y="4735"/>
                  <a:pt x="14083" y="4692"/>
                  <a:pt x="14114" y="4688"/>
                </a:cubicBezTo>
                <a:cubicBezTo>
                  <a:pt x="14237" y="4670"/>
                  <a:pt x="14364" y="4680"/>
                  <a:pt x="14486" y="4663"/>
                </a:cubicBezTo>
                <a:cubicBezTo>
                  <a:pt x="14600" y="4647"/>
                  <a:pt x="14719" y="4654"/>
                  <a:pt x="14833" y="4638"/>
                </a:cubicBezTo>
                <a:cubicBezTo>
                  <a:pt x="14910" y="4627"/>
                  <a:pt x="15006" y="4632"/>
                  <a:pt x="15081" y="4614"/>
                </a:cubicBezTo>
                <a:cubicBezTo>
                  <a:pt x="15135" y="4601"/>
                  <a:pt x="15203" y="4604"/>
                  <a:pt x="15255" y="4589"/>
                </a:cubicBezTo>
                <a:cubicBezTo>
                  <a:pt x="15340" y="4565"/>
                  <a:pt x="15412" y="4564"/>
                  <a:pt x="15503" y="4564"/>
                </a:cubicBezTo>
                <a:cubicBezTo>
                  <a:pt x="15724" y="4564"/>
                  <a:pt x="15969" y="4550"/>
                  <a:pt x="16173" y="4589"/>
                </a:cubicBezTo>
                <a:cubicBezTo>
                  <a:pt x="16181" y="4589"/>
                  <a:pt x="16189" y="4589"/>
                  <a:pt x="16197" y="4589"/>
                </a:cubicBezTo>
              </a:path>
              <a:path w="3920" h="2184">
                <a:moveTo>
                  <a:pt x="13990" y="4837"/>
                </a:moveTo>
                <a:cubicBezTo>
                  <a:pt x="14019" y="4882"/>
                  <a:pt x="14149" y="4862"/>
                  <a:pt x="14213" y="4862"/>
                </a:cubicBezTo>
                <a:cubicBezTo>
                  <a:pt x="14341" y="4862"/>
                  <a:pt x="14459" y="4824"/>
                  <a:pt x="14585" y="4812"/>
                </a:cubicBezTo>
                <a:cubicBezTo>
                  <a:pt x="14656" y="4805"/>
                  <a:pt x="14718" y="4796"/>
                  <a:pt x="14784" y="4787"/>
                </a:cubicBezTo>
                <a:cubicBezTo>
                  <a:pt x="14822" y="4782"/>
                  <a:pt x="14973" y="4756"/>
                  <a:pt x="15007" y="4762"/>
                </a:cubicBezTo>
                <a:cubicBezTo>
                  <a:pt x="15040" y="4768"/>
                  <a:pt x="15061" y="4787"/>
                  <a:pt x="15106" y="4787"/>
                </a:cubicBezTo>
                <a:cubicBezTo>
                  <a:pt x="15156" y="4787"/>
                  <a:pt x="15205" y="4787"/>
                  <a:pt x="15255" y="4787"/>
                </a:cubicBezTo>
              </a:path>
              <a:path w="3920" h="2184">
                <a:moveTo>
                  <a:pt x="14536" y="2902"/>
                </a:moveTo>
                <a:cubicBezTo>
                  <a:pt x="14639" y="3042"/>
                  <a:pt x="14732" y="3186"/>
                  <a:pt x="14833" y="3324"/>
                </a:cubicBezTo>
                <a:cubicBezTo>
                  <a:pt x="14872" y="3362"/>
                  <a:pt x="14889" y="3364"/>
                  <a:pt x="14883" y="3398"/>
                </a:cubicBezTo>
              </a:path>
              <a:path w="3920" h="2184">
                <a:moveTo>
                  <a:pt x="14932" y="2679"/>
                </a:moveTo>
                <a:cubicBezTo>
                  <a:pt x="14817" y="2912"/>
                  <a:pt x="14643" y="3102"/>
                  <a:pt x="14511" y="3324"/>
                </a:cubicBezTo>
                <a:cubicBezTo>
                  <a:pt x="14503" y="3349"/>
                  <a:pt x="14494" y="3373"/>
                  <a:pt x="14486" y="3398"/>
                </a:cubicBezTo>
              </a:path>
              <a:path w="3920" h="2184">
                <a:moveTo>
                  <a:pt x="15453" y="2853"/>
                </a:moveTo>
                <a:cubicBezTo>
                  <a:pt x="15453" y="2812"/>
                  <a:pt x="15460" y="3094"/>
                  <a:pt x="15453" y="3150"/>
                </a:cubicBezTo>
                <a:cubicBezTo>
                  <a:pt x="15445" y="3175"/>
                  <a:pt x="15437" y="3200"/>
                  <a:pt x="15429" y="3225"/>
                </a:cubicBezTo>
              </a:path>
              <a:path w="3920" h="2184">
                <a:moveTo>
                  <a:pt x="15304" y="3026"/>
                </a:moveTo>
                <a:cubicBezTo>
                  <a:pt x="15447" y="3010"/>
                  <a:pt x="15585" y="2976"/>
                  <a:pt x="15726" y="2952"/>
                </a:cubicBezTo>
                <a:cubicBezTo>
                  <a:pt x="15759" y="2952"/>
                  <a:pt x="15776" y="2952"/>
                  <a:pt x="15801" y="2952"/>
                </a:cubicBezTo>
              </a:path>
              <a:path w="3920" h="2184">
                <a:moveTo>
                  <a:pt x="16024" y="2704"/>
                </a:moveTo>
                <a:cubicBezTo>
                  <a:pt x="16109" y="2704"/>
                  <a:pt x="16251" y="2672"/>
                  <a:pt x="16321" y="2729"/>
                </a:cubicBezTo>
                <a:cubicBezTo>
                  <a:pt x="16425" y="2814"/>
                  <a:pt x="16235" y="2919"/>
                  <a:pt x="16197" y="2952"/>
                </a:cubicBezTo>
                <a:cubicBezTo>
                  <a:pt x="16189" y="2952"/>
                  <a:pt x="16181" y="2952"/>
                  <a:pt x="16173" y="2952"/>
                </a:cubicBezTo>
                <a:cubicBezTo>
                  <a:pt x="16315" y="2928"/>
                  <a:pt x="16342" y="2932"/>
                  <a:pt x="16446" y="3026"/>
                </a:cubicBezTo>
                <a:cubicBezTo>
                  <a:pt x="16418" y="3068"/>
                  <a:pt x="16148" y="3397"/>
                  <a:pt x="16073" y="3225"/>
                </a:cubicBezTo>
                <a:cubicBezTo>
                  <a:pt x="16090" y="3200"/>
                  <a:pt x="16106" y="3175"/>
                  <a:pt x="16123" y="3150"/>
                </a:cubicBezTo>
              </a:path>
              <a:path w="3920" h="2184">
                <a:moveTo>
                  <a:pt x="16768" y="2803"/>
                </a:moveTo>
                <a:cubicBezTo>
                  <a:pt x="16845" y="2803"/>
                  <a:pt x="16911" y="2825"/>
                  <a:pt x="16991" y="2828"/>
                </a:cubicBezTo>
                <a:cubicBezTo>
                  <a:pt x="17049" y="2828"/>
                  <a:pt x="17074" y="2811"/>
                  <a:pt x="17066" y="2853"/>
                </a:cubicBezTo>
              </a:path>
              <a:path w="3920" h="2184">
                <a:moveTo>
                  <a:pt x="16644" y="3051"/>
                </a:moveTo>
                <a:cubicBezTo>
                  <a:pt x="16785" y="3045"/>
                  <a:pt x="16910" y="3037"/>
                  <a:pt x="17041" y="3051"/>
                </a:cubicBezTo>
                <a:cubicBezTo>
                  <a:pt x="17074" y="3051"/>
                  <a:pt x="17107" y="3051"/>
                  <a:pt x="17140" y="3051"/>
                </a:cubicBezTo>
              </a:path>
              <a:path w="3920" h="2184">
                <a:moveTo>
                  <a:pt x="17487" y="2828"/>
                </a:moveTo>
                <a:cubicBezTo>
                  <a:pt x="17530" y="2941"/>
                  <a:pt x="17609" y="3052"/>
                  <a:pt x="17686" y="3150"/>
                </a:cubicBezTo>
                <a:cubicBezTo>
                  <a:pt x="17720" y="3194"/>
                  <a:pt x="17695" y="3203"/>
                  <a:pt x="17735" y="3175"/>
                </a:cubicBezTo>
              </a:path>
              <a:path w="3920" h="2184">
                <a:moveTo>
                  <a:pt x="17909" y="2704"/>
                </a:moveTo>
                <a:cubicBezTo>
                  <a:pt x="17909" y="2875"/>
                  <a:pt x="17870" y="3034"/>
                  <a:pt x="17835" y="3200"/>
                </a:cubicBezTo>
                <a:cubicBezTo>
                  <a:pt x="17810" y="3315"/>
                  <a:pt x="17735" y="3476"/>
                  <a:pt x="17735" y="3597"/>
                </a:cubicBezTo>
              </a:path>
              <a:path w="3920" h="2184">
                <a:moveTo>
                  <a:pt x="15478" y="3473"/>
                </a:moveTo>
                <a:cubicBezTo>
                  <a:pt x="15490" y="3477"/>
                  <a:pt x="15617" y="3497"/>
                  <a:pt x="15553" y="3497"/>
                </a:cubicBezTo>
                <a:cubicBezTo>
                  <a:pt x="15464" y="3497"/>
                  <a:pt x="15370" y="3517"/>
                  <a:pt x="15280" y="3522"/>
                </a:cubicBezTo>
                <a:cubicBezTo>
                  <a:pt x="15354" y="3522"/>
                  <a:pt x="15431" y="3535"/>
                  <a:pt x="15503" y="3547"/>
                </a:cubicBezTo>
                <a:cubicBezTo>
                  <a:pt x="15555" y="3556"/>
                  <a:pt x="15358" y="3496"/>
                  <a:pt x="15404" y="3522"/>
                </a:cubicBezTo>
                <a:cubicBezTo>
                  <a:pt x="15444" y="3562"/>
                  <a:pt x="15474" y="3570"/>
                  <a:pt x="15528" y="3547"/>
                </a:cubicBezTo>
                <a:cubicBezTo>
                  <a:pt x="15610" y="3547"/>
                  <a:pt x="15510" y="3534"/>
                  <a:pt x="15429" y="3547"/>
                </a:cubicBezTo>
                <a:cubicBezTo>
                  <a:pt x="15237" y="3578"/>
                  <a:pt x="15514" y="3550"/>
                  <a:pt x="15577" y="3522"/>
                </a:cubicBezTo>
                <a:cubicBezTo>
                  <a:pt x="15658" y="3486"/>
                  <a:pt x="15413" y="3569"/>
                  <a:pt x="15329" y="3597"/>
                </a:cubicBezTo>
                <a:cubicBezTo>
                  <a:pt x="15400" y="3583"/>
                  <a:pt x="15489" y="3548"/>
                  <a:pt x="15553" y="3522"/>
                </a:cubicBezTo>
                <a:cubicBezTo>
                  <a:pt x="15611" y="3498"/>
                  <a:pt x="15368" y="3587"/>
                  <a:pt x="15429" y="3572"/>
                </a:cubicBezTo>
                <a:cubicBezTo>
                  <a:pt x="15490" y="3557"/>
                  <a:pt x="15649" y="3478"/>
                  <a:pt x="15503" y="3547"/>
                </a:cubicBezTo>
                <a:cubicBezTo>
                  <a:pt x="15462" y="3567"/>
                  <a:pt x="15435" y="3576"/>
                  <a:pt x="15478" y="35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2960" y="295200"/>
            <a:ext cx="1189080" cy="1035000"/>
          </a:xfrm>
          <a:custGeom>
            <a:avLst/>
            <a:gdLst/>
            <a:ahLst/>
            <a:rect l="l" t="t" r="r" b="b"/>
            <a:pathLst>
              <a:path w="3300" h="2878">
                <a:moveTo>
                  <a:pt x="20613" y="3497"/>
                </a:moveTo>
                <a:cubicBezTo>
                  <a:pt x="20710" y="3418"/>
                  <a:pt x="20836" y="3317"/>
                  <a:pt x="20935" y="3225"/>
                </a:cubicBezTo>
                <a:cubicBezTo>
                  <a:pt x="21113" y="3060"/>
                  <a:pt x="21295" y="2870"/>
                  <a:pt x="21506" y="2753"/>
                </a:cubicBezTo>
                <a:cubicBezTo>
                  <a:pt x="21606" y="2698"/>
                  <a:pt x="21687" y="2663"/>
                  <a:pt x="21779" y="2604"/>
                </a:cubicBezTo>
                <a:cubicBezTo>
                  <a:pt x="21877" y="2541"/>
                  <a:pt x="21988" y="2458"/>
                  <a:pt x="22076" y="2381"/>
                </a:cubicBezTo>
                <a:cubicBezTo>
                  <a:pt x="22161" y="2307"/>
                  <a:pt x="22236" y="2229"/>
                  <a:pt x="22324" y="2158"/>
                </a:cubicBezTo>
                <a:cubicBezTo>
                  <a:pt x="22430" y="2072"/>
                  <a:pt x="22525" y="1982"/>
                  <a:pt x="22622" y="1885"/>
                </a:cubicBezTo>
                <a:cubicBezTo>
                  <a:pt x="22695" y="1812"/>
                  <a:pt x="22775" y="1713"/>
                  <a:pt x="22870" y="1637"/>
                </a:cubicBezTo>
                <a:cubicBezTo>
                  <a:pt x="22984" y="1545"/>
                  <a:pt x="23109" y="1462"/>
                  <a:pt x="23217" y="1364"/>
                </a:cubicBezTo>
                <a:cubicBezTo>
                  <a:pt x="23348" y="1245"/>
                  <a:pt x="23483" y="1135"/>
                  <a:pt x="23614" y="1017"/>
                </a:cubicBezTo>
                <a:cubicBezTo>
                  <a:pt x="23669" y="968"/>
                  <a:pt x="23770" y="851"/>
                  <a:pt x="23812" y="819"/>
                </a:cubicBezTo>
                <a:cubicBezTo>
                  <a:pt x="23820" y="819"/>
                  <a:pt x="23829" y="819"/>
                  <a:pt x="23837" y="819"/>
                </a:cubicBezTo>
                <a:cubicBezTo>
                  <a:pt x="23749" y="845"/>
                  <a:pt x="23655" y="868"/>
                  <a:pt x="23564" y="893"/>
                </a:cubicBezTo>
                <a:cubicBezTo>
                  <a:pt x="23455" y="923"/>
                  <a:pt x="23348" y="958"/>
                  <a:pt x="23242" y="992"/>
                </a:cubicBezTo>
                <a:cubicBezTo>
                  <a:pt x="23350" y="987"/>
                  <a:pt x="23513" y="990"/>
                  <a:pt x="23639" y="943"/>
                </a:cubicBezTo>
                <a:cubicBezTo>
                  <a:pt x="23720" y="913"/>
                  <a:pt x="23729" y="912"/>
                  <a:pt x="23788" y="893"/>
                </a:cubicBezTo>
                <a:cubicBezTo>
                  <a:pt x="23788" y="1062"/>
                  <a:pt x="23774" y="1223"/>
                  <a:pt x="23763" y="1389"/>
                </a:cubicBezTo>
                <a:cubicBezTo>
                  <a:pt x="23761" y="1414"/>
                  <a:pt x="23764" y="1438"/>
                  <a:pt x="23763" y="1463"/>
                </a:cubicBezTo>
              </a:path>
              <a:path w="3300" h="2878">
                <a:moveTo>
                  <a:pt x="20737" y="3274"/>
                </a:moveTo>
                <a:cubicBezTo>
                  <a:pt x="20722" y="3289"/>
                  <a:pt x="20650" y="3496"/>
                  <a:pt x="20638" y="3597"/>
                </a:cubicBezTo>
                <a:cubicBezTo>
                  <a:pt x="20638" y="3622"/>
                  <a:pt x="20638" y="3646"/>
                  <a:pt x="20638" y="3671"/>
                </a:cubicBezTo>
                <a:cubicBezTo>
                  <a:pt x="20783" y="3646"/>
                  <a:pt x="20922" y="3576"/>
                  <a:pt x="21059" y="3522"/>
                </a:cubicBezTo>
                <a:cubicBezTo>
                  <a:pt x="21093" y="3488"/>
                  <a:pt x="20985" y="3544"/>
                  <a:pt x="20910" y="3547"/>
                </a:cubicBezTo>
                <a:cubicBezTo>
                  <a:pt x="20894" y="3547"/>
                  <a:pt x="20877" y="3547"/>
                  <a:pt x="20861" y="3547"/>
                </a:cubicBezTo>
              </a:path>
              <a:path w="3300" h="2878">
                <a:moveTo>
                  <a:pt x="20538" y="3200"/>
                </a:moveTo>
                <a:cubicBezTo>
                  <a:pt x="20572" y="3336"/>
                  <a:pt x="20657" y="3420"/>
                  <a:pt x="20712" y="3547"/>
                </a:cubicBezTo>
                <a:cubicBezTo>
                  <a:pt x="20712" y="3555"/>
                  <a:pt x="20712" y="3564"/>
                  <a:pt x="20712" y="3572"/>
                </a:cubicBezTo>
                <a:cubicBezTo>
                  <a:pt x="20659" y="3466"/>
                  <a:pt x="20608" y="3367"/>
                  <a:pt x="20538" y="3274"/>
                </a:cubicBezTo>
                <a:cubicBezTo>
                  <a:pt x="20556" y="3238"/>
                  <a:pt x="20637" y="3405"/>
                  <a:pt x="20662" y="3448"/>
                </a:cubicBezTo>
                <a:cubicBezTo>
                  <a:pt x="20720" y="3550"/>
                  <a:pt x="20737" y="3606"/>
                  <a:pt x="20811" y="36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98880" y="3429000"/>
            <a:ext cx="3456000" cy="285840"/>
          </a:xfrm>
          <a:custGeom>
            <a:avLst/>
            <a:gdLst/>
            <a:ahLst/>
            <a:rect l="l" t="t" r="r" b="b"/>
            <a:pathLst>
              <a:path w="9601" h="795">
                <a:moveTo>
                  <a:pt x="8607" y="9525"/>
                </a:moveTo>
                <a:lnTo>
                  <a:pt x="8607" y="9525"/>
                </a:lnTo>
                <a:lnTo>
                  <a:pt x="8607" y="9525"/>
                </a:lnTo>
              </a:path>
              <a:path w="9601" h="795">
                <a:moveTo>
                  <a:pt x="8607" y="9525"/>
                </a:moveTo>
                <a:lnTo>
                  <a:pt x="8607" y="9525"/>
                </a:lnTo>
              </a:path>
              <a:path w="9601" h="795">
                <a:moveTo>
                  <a:pt x="18157" y="10120"/>
                </a:moveTo>
                <a:cubicBezTo>
                  <a:pt x="18182" y="10220"/>
                  <a:pt x="18190" y="10253"/>
                  <a:pt x="18207" y="10319"/>
                </a:cubicBezTo>
              </a:path>
              <a:path w="9601" h="795">
                <a:moveTo>
                  <a:pt x="18157" y="9798"/>
                </a:moveTo>
                <a:lnTo>
                  <a:pt x="18157" y="9798"/>
                </a:lnTo>
              </a:path>
              <a:path w="9601" h="795">
                <a:moveTo>
                  <a:pt x="18157" y="9798"/>
                </a:moveTo>
                <a:lnTo>
                  <a:pt x="18157" y="979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05040" y="3463920"/>
            <a:ext cx="804960" cy="385920"/>
          </a:xfrm>
          <a:custGeom>
            <a:avLst/>
            <a:gdLst/>
            <a:ahLst/>
            <a:rect l="l" t="t" r="r" b="b"/>
            <a:pathLst>
              <a:path w="2233" h="1068">
                <a:moveTo>
                  <a:pt x="7913" y="9823"/>
                </a:moveTo>
                <a:cubicBezTo>
                  <a:pt x="7913" y="9869"/>
                  <a:pt x="7866" y="9748"/>
                  <a:pt x="7838" y="9723"/>
                </a:cubicBezTo>
                <a:cubicBezTo>
                  <a:pt x="7730" y="9625"/>
                  <a:pt x="7606" y="9679"/>
                  <a:pt x="7541" y="9798"/>
                </a:cubicBezTo>
                <a:cubicBezTo>
                  <a:pt x="7474" y="9920"/>
                  <a:pt x="7505" y="10071"/>
                  <a:pt x="7665" y="10071"/>
                </a:cubicBezTo>
                <a:cubicBezTo>
                  <a:pt x="7852" y="10071"/>
                  <a:pt x="7848" y="9908"/>
                  <a:pt x="7863" y="9773"/>
                </a:cubicBezTo>
                <a:cubicBezTo>
                  <a:pt x="7863" y="9798"/>
                  <a:pt x="7863" y="9806"/>
                  <a:pt x="7863" y="9823"/>
                </a:cubicBezTo>
                <a:cubicBezTo>
                  <a:pt x="7900" y="10026"/>
                  <a:pt x="7966" y="10247"/>
                  <a:pt x="7863" y="10443"/>
                </a:cubicBezTo>
                <a:cubicBezTo>
                  <a:pt x="7812" y="10540"/>
                  <a:pt x="7635" y="10595"/>
                  <a:pt x="7590" y="10468"/>
                </a:cubicBezTo>
                <a:cubicBezTo>
                  <a:pt x="7590" y="10451"/>
                  <a:pt x="7590" y="10435"/>
                  <a:pt x="7590" y="10418"/>
                </a:cubicBezTo>
              </a:path>
              <a:path w="2233" h="1068">
                <a:moveTo>
                  <a:pt x="8285" y="9773"/>
                </a:moveTo>
                <a:cubicBezTo>
                  <a:pt x="8282" y="9763"/>
                  <a:pt x="8229" y="9719"/>
                  <a:pt x="8210" y="9723"/>
                </a:cubicBezTo>
                <a:cubicBezTo>
                  <a:pt x="8107" y="9746"/>
                  <a:pt x="8085" y="9949"/>
                  <a:pt x="8111" y="10021"/>
                </a:cubicBezTo>
                <a:cubicBezTo>
                  <a:pt x="8181" y="10218"/>
                  <a:pt x="8368" y="10030"/>
                  <a:pt x="8434" y="9947"/>
                </a:cubicBezTo>
                <a:cubicBezTo>
                  <a:pt x="8523" y="9834"/>
                  <a:pt x="8463" y="9729"/>
                  <a:pt x="8334" y="9699"/>
                </a:cubicBezTo>
                <a:cubicBezTo>
                  <a:pt x="8318" y="9699"/>
                  <a:pt x="8301" y="9699"/>
                  <a:pt x="8285" y="9699"/>
                </a:cubicBezTo>
              </a:path>
              <a:path w="2233" h="1068">
                <a:moveTo>
                  <a:pt x="8582" y="9699"/>
                </a:moveTo>
                <a:cubicBezTo>
                  <a:pt x="8627" y="9789"/>
                  <a:pt x="8652" y="10068"/>
                  <a:pt x="8682" y="9922"/>
                </a:cubicBezTo>
              </a:path>
              <a:path w="2233" h="1068">
                <a:moveTo>
                  <a:pt x="8905" y="9748"/>
                </a:moveTo>
                <a:cubicBezTo>
                  <a:pt x="8929" y="9846"/>
                  <a:pt x="8948" y="9904"/>
                  <a:pt x="8930" y="9996"/>
                </a:cubicBezTo>
                <a:cubicBezTo>
                  <a:pt x="8930" y="9905"/>
                  <a:pt x="8909" y="9839"/>
                  <a:pt x="8930" y="9748"/>
                </a:cubicBezTo>
                <a:cubicBezTo>
                  <a:pt x="8970" y="9578"/>
                  <a:pt x="9119" y="9601"/>
                  <a:pt x="9178" y="9748"/>
                </a:cubicBezTo>
                <a:cubicBezTo>
                  <a:pt x="9223" y="9861"/>
                  <a:pt x="9199" y="9964"/>
                  <a:pt x="9178" y="10071"/>
                </a:cubicBezTo>
              </a:path>
              <a:path w="2233" h="1068">
                <a:moveTo>
                  <a:pt x="9649" y="9723"/>
                </a:moveTo>
                <a:cubicBezTo>
                  <a:pt x="9533" y="9686"/>
                  <a:pt x="9416" y="9818"/>
                  <a:pt x="9401" y="9947"/>
                </a:cubicBezTo>
                <a:cubicBezTo>
                  <a:pt x="9378" y="10149"/>
                  <a:pt x="9575" y="10119"/>
                  <a:pt x="9649" y="9996"/>
                </a:cubicBezTo>
                <a:cubicBezTo>
                  <a:pt x="9657" y="9963"/>
                  <a:pt x="9666" y="9930"/>
                  <a:pt x="9674" y="9897"/>
                </a:cubicBezTo>
                <a:cubicBezTo>
                  <a:pt x="9674" y="9880"/>
                  <a:pt x="9674" y="9864"/>
                  <a:pt x="9674" y="9847"/>
                </a:cubicBezTo>
                <a:cubicBezTo>
                  <a:pt x="9755" y="9982"/>
                  <a:pt x="9737" y="10137"/>
                  <a:pt x="9723" y="10294"/>
                </a:cubicBezTo>
                <a:cubicBezTo>
                  <a:pt x="9706" y="10486"/>
                  <a:pt x="9630" y="10683"/>
                  <a:pt x="9401" y="10691"/>
                </a:cubicBezTo>
                <a:cubicBezTo>
                  <a:pt x="9351" y="10666"/>
                  <a:pt x="9335" y="10658"/>
                  <a:pt x="9327" y="106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32120" y="3463920"/>
            <a:ext cx="349200" cy="277920"/>
          </a:xfrm>
          <a:custGeom>
            <a:avLst/>
            <a:gdLst/>
            <a:ahLst/>
            <a:rect l="l" t="t" r="r" b="b"/>
            <a:pathLst>
              <a:path w="969" h="770">
                <a:moveTo>
                  <a:pt x="10368" y="9723"/>
                </a:moveTo>
                <a:cubicBezTo>
                  <a:pt x="10368" y="9822"/>
                  <a:pt x="10351" y="9927"/>
                  <a:pt x="10393" y="10021"/>
                </a:cubicBezTo>
                <a:cubicBezTo>
                  <a:pt x="10450" y="10148"/>
                  <a:pt x="10579" y="10032"/>
                  <a:pt x="10616" y="9971"/>
                </a:cubicBezTo>
                <a:cubicBezTo>
                  <a:pt x="10649" y="9917"/>
                  <a:pt x="10679" y="9858"/>
                  <a:pt x="10691" y="9798"/>
                </a:cubicBezTo>
                <a:cubicBezTo>
                  <a:pt x="10691" y="9900"/>
                  <a:pt x="10700" y="10012"/>
                  <a:pt x="10765" y="10096"/>
                </a:cubicBezTo>
                <a:cubicBezTo>
                  <a:pt x="10824" y="10173"/>
                  <a:pt x="10883" y="10082"/>
                  <a:pt x="10914" y="10046"/>
                </a:cubicBezTo>
              </a:path>
              <a:path w="969" h="770">
                <a:moveTo>
                  <a:pt x="10939" y="9823"/>
                </a:moveTo>
                <a:cubicBezTo>
                  <a:pt x="10967" y="9975"/>
                  <a:pt x="11002" y="10140"/>
                  <a:pt x="11038" y="10294"/>
                </a:cubicBezTo>
                <a:cubicBezTo>
                  <a:pt x="11057" y="10351"/>
                  <a:pt x="11066" y="10358"/>
                  <a:pt x="11063" y="10393"/>
                </a:cubicBezTo>
                <a:cubicBezTo>
                  <a:pt x="11038" y="10243"/>
                  <a:pt x="11002" y="10104"/>
                  <a:pt x="11013" y="9947"/>
                </a:cubicBezTo>
                <a:cubicBezTo>
                  <a:pt x="11022" y="9817"/>
                  <a:pt x="11054" y="9733"/>
                  <a:pt x="11112" y="9624"/>
                </a:cubicBezTo>
                <a:cubicBezTo>
                  <a:pt x="11212" y="9641"/>
                  <a:pt x="11323" y="9706"/>
                  <a:pt x="11336" y="9823"/>
                </a:cubicBezTo>
                <a:cubicBezTo>
                  <a:pt x="11355" y="9991"/>
                  <a:pt x="11179" y="10015"/>
                  <a:pt x="11063" y="10021"/>
                </a:cubicBezTo>
                <a:cubicBezTo>
                  <a:pt x="11055" y="10021"/>
                  <a:pt x="11046" y="10021"/>
                  <a:pt x="11038" y="100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1800" y="3375000"/>
            <a:ext cx="544320" cy="312840"/>
          </a:xfrm>
          <a:custGeom>
            <a:avLst/>
            <a:gdLst/>
            <a:ahLst/>
            <a:rect l="l" t="t" r="r" b="b"/>
            <a:pathLst>
              <a:path w="1514" h="869">
                <a:moveTo>
                  <a:pt x="12725" y="9823"/>
                </a:moveTo>
                <a:cubicBezTo>
                  <a:pt x="12725" y="9720"/>
                  <a:pt x="12687" y="9568"/>
                  <a:pt x="12650" y="9475"/>
                </a:cubicBezTo>
                <a:cubicBezTo>
                  <a:pt x="12624" y="9408"/>
                  <a:pt x="12529" y="9344"/>
                  <a:pt x="12452" y="9376"/>
                </a:cubicBezTo>
                <a:cubicBezTo>
                  <a:pt x="12344" y="9421"/>
                  <a:pt x="12416" y="9703"/>
                  <a:pt x="12427" y="9773"/>
                </a:cubicBezTo>
                <a:cubicBezTo>
                  <a:pt x="12451" y="9930"/>
                  <a:pt x="12486" y="10088"/>
                  <a:pt x="12502" y="10244"/>
                </a:cubicBezTo>
              </a:path>
              <a:path w="1514" h="869">
                <a:moveTo>
                  <a:pt x="12254" y="9996"/>
                </a:moveTo>
                <a:cubicBezTo>
                  <a:pt x="12349" y="9980"/>
                  <a:pt x="12559" y="9899"/>
                  <a:pt x="12650" y="9922"/>
                </a:cubicBezTo>
                <a:cubicBezTo>
                  <a:pt x="12738" y="9944"/>
                  <a:pt x="12740" y="10073"/>
                  <a:pt x="12750" y="10145"/>
                </a:cubicBezTo>
                <a:cubicBezTo>
                  <a:pt x="12750" y="10025"/>
                  <a:pt x="12727" y="9922"/>
                  <a:pt x="12824" y="9847"/>
                </a:cubicBezTo>
                <a:cubicBezTo>
                  <a:pt x="12899" y="9789"/>
                  <a:pt x="12963" y="9798"/>
                  <a:pt x="13047" y="9773"/>
                </a:cubicBezTo>
              </a:path>
              <a:path w="1514" h="869">
                <a:moveTo>
                  <a:pt x="13047" y="9773"/>
                </a:moveTo>
                <a:cubicBezTo>
                  <a:pt x="13033" y="9860"/>
                  <a:pt x="12948" y="9951"/>
                  <a:pt x="12948" y="10071"/>
                </a:cubicBezTo>
                <a:cubicBezTo>
                  <a:pt x="12956" y="10087"/>
                  <a:pt x="12965" y="10104"/>
                  <a:pt x="12973" y="10120"/>
                </a:cubicBezTo>
                <a:cubicBezTo>
                  <a:pt x="13124" y="10095"/>
                  <a:pt x="13177" y="10037"/>
                  <a:pt x="13122" y="9872"/>
                </a:cubicBezTo>
                <a:cubicBezTo>
                  <a:pt x="13099" y="9849"/>
                  <a:pt x="13095" y="9841"/>
                  <a:pt x="13072" y="9847"/>
                </a:cubicBezTo>
              </a:path>
              <a:path w="1514" h="869">
                <a:moveTo>
                  <a:pt x="13271" y="9996"/>
                </a:moveTo>
                <a:cubicBezTo>
                  <a:pt x="13271" y="10081"/>
                  <a:pt x="13264" y="10101"/>
                  <a:pt x="13295" y="10145"/>
                </a:cubicBezTo>
                <a:cubicBezTo>
                  <a:pt x="13295" y="10052"/>
                  <a:pt x="13296" y="9918"/>
                  <a:pt x="13370" y="9847"/>
                </a:cubicBezTo>
                <a:cubicBezTo>
                  <a:pt x="13484" y="9739"/>
                  <a:pt x="13537" y="10122"/>
                  <a:pt x="13543" y="10145"/>
                </a:cubicBezTo>
                <a:cubicBezTo>
                  <a:pt x="13543" y="10129"/>
                  <a:pt x="13543" y="10112"/>
                  <a:pt x="13543" y="10096"/>
                </a:cubicBezTo>
                <a:cubicBezTo>
                  <a:pt x="13554" y="9948"/>
                  <a:pt x="13554" y="9885"/>
                  <a:pt x="13692" y="9847"/>
                </a:cubicBezTo>
                <a:cubicBezTo>
                  <a:pt x="13732" y="9941"/>
                  <a:pt x="13697" y="10123"/>
                  <a:pt x="13742" y="10195"/>
                </a:cubicBezTo>
                <a:cubicBezTo>
                  <a:pt x="13750" y="10195"/>
                  <a:pt x="13759" y="10195"/>
                  <a:pt x="13767" y="101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97320" y="3419640"/>
            <a:ext cx="571680" cy="295200"/>
          </a:xfrm>
          <a:custGeom>
            <a:avLst/>
            <a:gdLst/>
            <a:ahLst/>
            <a:rect l="l" t="t" r="r" b="b"/>
            <a:pathLst>
              <a:path w="1589" h="820">
                <a:moveTo>
                  <a:pt x="14436" y="9575"/>
                </a:moveTo>
                <a:cubicBezTo>
                  <a:pt x="14478" y="9491"/>
                  <a:pt x="14559" y="9965"/>
                  <a:pt x="14560" y="9971"/>
                </a:cubicBezTo>
                <a:cubicBezTo>
                  <a:pt x="14567" y="10014"/>
                  <a:pt x="14550" y="10336"/>
                  <a:pt x="14585" y="10294"/>
                </a:cubicBezTo>
                <a:cubicBezTo>
                  <a:pt x="14602" y="10269"/>
                  <a:pt x="14618" y="10245"/>
                  <a:pt x="14635" y="10220"/>
                </a:cubicBezTo>
              </a:path>
              <a:path w="1589" h="820">
                <a:moveTo>
                  <a:pt x="14759" y="10046"/>
                </a:moveTo>
                <a:cubicBezTo>
                  <a:pt x="14778" y="10046"/>
                  <a:pt x="14943" y="10072"/>
                  <a:pt x="14932" y="10021"/>
                </a:cubicBezTo>
                <a:cubicBezTo>
                  <a:pt x="14910" y="9954"/>
                  <a:pt x="14906" y="9936"/>
                  <a:pt x="14883" y="9897"/>
                </a:cubicBezTo>
                <a:cubicBezTo>
                  <a:pt x="14797" y="9897"/>
                  <a:pt x="14759" y="9988"/>
                  <a:pt x="14759" y="10071"/>
                </a:cubicBezTo>
                <a:cubicBezTo>
                  <a:pt x="14759" y="10282"/>
                  <a:pt x="14967" y="10213"/>
                  <a:pt x="15081" y="10170"/>
                </a:cubicBezTo>
              </a:path>
              <a:path w="1589" h="820">
                <a:moveTo>
                  <a:pt x="15453" y="9550"/>
                </a:moveTo>
                <a:cubicBezTo>
                  <a:pt x="15371" y="9522"/>
                  <a:pt x="15262" y="9479"/>
                  <a:pt x="15255" y="9624"/>
                </a:cubicBezTo>
                <a:cubicBezTo>
                  <a:pt x="15247" y="9775"/>
                  <a:pt x="15319" y="10007"/>
                  <a:pt x="15379" y="10145"/>
                </a:cubicBezTo>
                <a:cubicBezTo>
                  <a:pt x="15387" y="10153"/>
                  <a:pt x="15396" y="10162"/>
                  <a:pt x="15404" y="10170"/>
                </a:cubicBezTo>
              </a:path>
              <a:path w="1589" h="820">
                <a:moveTo>
                  <a:pt x="15056" y="9947"/>
                </a:moveTo>
                <a:cubicBezTo>
                  <a:pt x="15215" y="9939"/>
                  <a:pt x="15369" y="9903"/>
                  <a:pt x="15528" y="9897"/>
                </a:cubicBezTo>
                <a:cubicBezTo>
                  <a:pt x="15607" y="9897"/>
                  <a:pt x="15637" y="9894"/>
                  <a:pt x="15677" y="9847"/>
                </a:cubicBezTo>
              </a:path>
              <a:path w="1589" h="820">
                <a:moveTo>
                  <a:pt x="15627" y="9500"/>
                </a:moveTo>
                <a:cubicBezTo>
                  <a:pt x="15642" y="9681"/>
                  <a:pt x="15666" y="9867"/>
                  <a:pt x="15701" y="10046"/>
                </a:cubicBezTo>
                <a:cubicBezTo>
                  <a:pt x="15736" y="10224"/>
                  <a:pt x="15828" y="10210"/>
                  <a:pt x="15974" y="10145"/>
                </a:cubicBezTo>
                <a:cubicBezTo>
                  <a:pt x="16014" y="10125"/>
                  <a:pt x="16031" y="10127"/>
                  <a:pt x="16024" y="10096"/>
                </a:cubicBezTo>
              </a:path>
              <a:path w="1589" h="820">
                <a:moveTo>
                  <a:pt x="15577" y="9971"/>
                </a:moveTo>
                <a:cubicBezTo>
                  <a:pt x="15724" y="9941"/>
                  <a:pt x="15873" y="9930"/>
                  <a:pt x="16024" y="99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6840" y="3463920"/>
            <a:ext cx="241200" cy="243000"/>
          </a:xfrm>
          <a:custGeom>
            <a:avLst/>
            <a:gdLst/>
            <a:ahLst/>
            <a:rect l="l" t="t" r="r" b="b"/>
            <a:pathLst>
              <a:path w="671" h="671">
                <a:moveTo>
                  <a:pt x="16570" y="9624"/>
                </a:moveTo>
                <a:cubicBezTo>
                  <a:pt x="16664" y="9813"/>
                  <a:pt x="16698" y="10008"/>
                  <a:pt x="16718" y="10220"/>
                </a:cubicBezTo>
                <a:cubicBezTo>
                  <a:pt x="16718" y="10278"/>
                  <a:pt x="16702" y="10302"/>
                  <a:pt x="16743" y="10294"/>
                </a:cubicBezTo>
              </a:path>
              <a:path w="671" h="671">
                <a:moveTo>
                  <a:pt x="16520" y="10021"/>
                </a:moveTo>
                <a:cubicBezTo>
                  <a:pt x="16665" y="10021"/>
                  <a:pt x="16799" y="9992"/>
                  <a:pt x="16942" y="9971"/>
                </a:cubicBezTo>
                <a:cubicBezTo>
                  <a:pt x="16970" y="9971"/>
                  <a:pt x="16980" y="9974"/>
                  <a:pt x="16991" y="9996"/>
                </a:cubicBezTo>
                <a:cubicBezTo>
                  <a:pt x="16960" y="10075"/>
                  <a:pt x="16885" y="10212"/>
                  <a:pt x="16991" y="10269"/>
                </a:cubicBezTo>
                <a:cubicBezTo>
                  <a:pt x="17125" y="10341"/>
                  <a:pt x="17213" y="10222"/>
                  <a:pt x="17190" y="10096"/>
                </a:cubicBezTo>
                <a:cubicBezTo>
                  <a:pt x="17172" y="10000"/>
                  <a:pt x="17086" y="10008"/>
                  <a:pt x="17016" y="99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57960" y="3463920"/>
            <a:ext cx="615960" cy="376200"/>
          </a:xfrm>
          <a:custGeom>
            <a:avLst/>
            <a:gdLst/>
            <a:ahLst/>
            <a:rect l="l" t="t" r="r" b="b"/>
            <a:pathLst>
              <a:path w="1712" h="1043">
                <a:moveTo>
                  <a:pt x="17661" y="10071"/>
                </a:moveTo>
                <a:cubicBezTo>
                  <a:pt x="17689" y="10128"/>
                  <a:pt x="17760" y="10378"/>
                  <a:pt x="17760" y="10269"/>
                </a:cubicBezTo>
                <a:cubicBezTo>
                  <a:pt x="17760" y="10176"/>
                  <a:pt x="17749" y="10104"/>
                  <a:pt x="17835" y="10046"/>
                </a:cubicBezTo>
                <a:cubicBezTo>
                  <a:pt x="17938" y="9977"/>
                  <a:pt x="17976" y="9994"/>
                  <a:pt x="18083" y="10021"/>
                </a:cubicBezTo>
              </a:path>
              <a:path w="1712" h="1043">
                <a:moveTo>
                  <a:pt x="18579" y="10046"/>
                </a:moveTo>
                <a:cubicBezTo>
                  <a:pt x="18579" y="9997"/>
                  <a:pt x="18538" y="9934"/>
                  <a:pt x="18455" y="9996"/>
                </a:cubicBezTo>
                <a:cubicBezTo>
                  <a:pt x="18330" y="10090"/>
                  <a:pt x="18315" y="10167"/>
                  <a:pt x="18355" y="10269"/>
                </a:cubicBezTo>
                <a:cubicBezTo>
                  <a:pt x="18494" y="10246"/>
                  <a:pt x="18525" y="10215"/>
                  <a:pt x="18554" y="10071"/>
                </a:cubicBezTo>
                <a:cubicBezTo>
                  <a:pt x="18582" y="10208"/>
                  <a:pt x="18669" y="10341"/>
                  <a:pt x="18628" y="10492"/>
                </a:cubicBezTo>
                <a:cubicBezTo>
                  <a:pt x="18570" y="10709"/>
                  <a:pt x="18405" y="10681"/>
                  <a:pt x="18331" y="10542"/>
                </a:cubicBezTo>
              </a:path>
              <a:path w="1712" h="1043">
                <a:moveTo>
                  <a:pt x="18653" y="9748"/>
                </a:moveTo>
                <a:cubicBezTo>
                  <a:pt x="18664" y="9906"/>
                  <a:pt x="18703" y="10170"/>
                  <a:pt x="18703" y="10170"/>
                </a:cubicBezTo>
                <a:cubicBezTo>
                  <a:pt x="18710" y="10103"/>
                  <a:pt x="18712" y="9972"/>
                  <a:pt x="18752" y="9947"/>
                </a:cubicBezTo>
                <a:cubicBezTo>
                  <a:pt x="18874" y="9871"/>
                  <a:pt x="18909" y="10057"/>
                  <a:pt x="18926" y="10145"/>
                </a:cubicBezTo>
                <a:cubicBezTo>
                  <a:pt x="18943" y="10236"/>
                  <a:pt x="18923" y="10216"/>
                  <a:pt x="19025" y="10195"/>
                </a:cubicBezTo>
              </a:path>
              <a:path w="1712" h="1043">
                <a:moveTo>
                  <a:pt x="19149" y="9624"/>
                </a:moveTo>
                <a:cubicBezTo>
                  <a:pt x="19149" y="9757"/>
                  <a:pt x="19088" y="10040"/>
                  <a:pt x="19174" y="10145"/>
                </a:cubicBezTo>
                <a:cubicBezTo>
                  <a:pt x="19245" y="10232"/>
                  <a:pt x="19349" y="10149"/>
                  <a:pt x="19372" y="10096"/>
                </a:cubicBezTo>
              </a:path>
              <a:path w="1712" h="1043">
                <a:moveTo>
                  <a:pt x="18976" y="9897"/>
                </a:moveTo>
                <a:cubicBezTo>
                  <a:pt x="19052" y="9892"/>
                  <a:pt x="19263" y="9817"/>
                  <a:pt x="19323" y="9847"/>
                </a:cubicBezTo>
                <a:cubicBezTo>
                  <a:pt x="19323" y="9855"/>
                  <a:pt x="19323" y="9864"/>
                  <a:pt x="19323" y="98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81240" y="3894120"/>
            <a:ext cx="3813120" cy="258840"/>
          </a:xfrm>
          <a:custGeom>
            <a:avLst/>
            <a:gdLst/>
            <a:ahLst/>
            <a:rect l="l" t="t" r="r" b="b"/>
            <a:pathLst>
              <a:path w="10592" h="720">
                <a:moveTo>
                  <a:pt x="8582" y="11261"/>
                </a:moveTo>
                <a:cubicBezTo>
                  <a:pt x="8634" y="11351"/>
                  <a:pt x="8671" y="11436"/>
                  <a:pt x="8706" y="11534"/>
                </a:cubicBezTo>
              </a:path>
              <a:path w="10592" h="720">
                <a:moveTo>
                  <a:pt x="8558" y="11063"/>
                </a:moveTo>
                <a:lnTo>
                  <a:pt x="8558" y="11063"/>
                </a:lnTo>
              </a:path>
              <a:path w="10592" h="720">
                <a:moveTo>
                  <a:pt x="8558" y="11063"/>
                </a:moveTo>
                <a:lnTo>
                  <a:pt x="8558" y="11063"/>
                </a:lnTo>
              </a:path>
              <a:path w="10592" h="720">
                <a:moveTo>
                  <a:pt x="15677" y="11162"/>
                </a:moveTo>
                <a:cubicBezTo>
                  <a:pt x="15818" y="11162"/>
                  <a:pt x="15860" y="11163"/>
                  <a:pt x="15949" y="11137"/>
                </a:cubicBezTo>
              </a:path>
              <a:path w="10592" h="720">
                <a:moveTo>
                  <a:pt x="15949" y="11137"/>
                </a:moveTo>
                <a:lnTo>
                  <a:pt x="15949" y="11137"/>
                </a:lnTo>
              </a:path>
              <a:path w="10592" h="720">
                <a:moveTo>
                  <a:pt x="19050" y="11137"/>
                </a:moveTo>
                <a:cubicBezTo>
                  <a:pt x="19069" y="11211"/>
                  <a:pt x="19077" y="11218"/>
                  <a:pt x="19075" y="11261"/>
                </a:cubicBezTo>
              </a:path>
              <a:path w="10592" h="720">
                <a:moveTo>
                  <a:pt x="19075" y="11261"/>
                </a:moveTo>
                <a:lnTo>
                  <a:pt x="19075" y="11261"/>
                </a:lnTo>
              </a:path>
              <a:path w="10592" h="720">
                <a:moveTo>
                  <a:pt x="19100" y="10864"/>
                </a:moveTo>
                <a:cubicBezTo>
                  <a:pt x="19054" y="10804"/>
                  <a:pt x="19065" y="10821"/>
                  <a:pt x="19149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51120" y="3884760"/>
            <a:ext cx="1571760" cy="455400"/>
          </a:xfrm>
          <a:custGeom>
            <a:avLst/>
            <a:gdLst/>
            <a:ahLst/>
            <a:rect l="l" t="t" r="r" b="b"/>
            <a:pathLst>
              <a:path w="4366" h="1266">
                <a:moveTo>
                  <a:pt x="8111" y="11385"/>
                </a:moveTo>
                <a:cubicBezTo>
                  <a:pt x="8060" y="11284"/>
                  <a:pt x="7921" y="11181"/>
                  <a:pt x="7789" y="11237"/>
                </a:cubicBezTo>
                <a:cubicBezTo>
                  <a:pt x="7675" y="11286"/>
                  <a:pt x="7552" y="11651"/>
                  <a:pt x="7764" y="11609"/>
                </a:cubicBezTo>
                <a:cubicBezTo>
                  <a:pt x="7888" y="11585"/>
                  <a:pt x="7903" y="11494"/>
                  <a:pt x="7962" y="11410"/>
                </a:cubicBezTo>
                <a:cubicBezTo>
                  <a:pt x="8107" y="11458"/>
                  <a:pt x="8182" y="11628"/>
                  <a:pt x="8136" y="11782"/>
                </a:cubicBezTo>
                <a:cubicBezTo>
                  <a:pt x="8069" y="12008"/>
                  <a:pt x="7866" y="12081"/>
                  <a:pt x="7714" y="11981"/>
                </a:cubicBezTo>
              </a:path>
              <a:path w="4366" h="1266">
                <a:moveTo>
                  <a:pt x="8310" y="11286"/>
                </a:moveTo>
                <a:cubicBezTo>
                  <a:pt x="8210" y="11261"/>
                  <a:pt x="8147" y="11321"/>
                  <a:pt x="8086" y="11435"/>
                </a:cubicBezTo>
                <a:cubicBezTo>
                  <a:pt x="8078" y="11468"/>
                  <a:pt x="8070" y="11501"/>
                  <a:pt x="8062" y="11534"/>
                </a:cubicBezTo>
                <a:cubicBezTo>
                  <a:pt x="8248" y="11613"/>
                  <a:pt x="8296" y="11587"/>
                  <a:pt x="8508" y="11534"/>
                </a:cubicBezTo>
                <a:cubicBezTo>
                  <a:pt x="8498" y="11332"/>
                  <a:pt x="8485" y="11282"/>
                  <a:pt x="8260" y="11261"/>
                </a:cubicBezTo>
              </a:path>
              <a:path w="4366" h="1266">
                <a:moveTo>
                  <a:pt x="8830" y="11361"/>
                </a:moveTo>
                <a:cubicBezTo>
                  <a:pt x="8873" y="11468"/>
                  <a:pt x="8884" y="11492"/>
                  <a:pt x="8905" y="11559"/>
                </a:cubicBezTo>
                <a:cubicBezTo>
                  <a:pt x="8905" y="11414"/>
                  <a:pt x="8877" y="11328"/>
                  <a:pt x="8930" y="11187"/>
                </a:cubicBezTo>
                <a:cubicBezTo>
                  <a:pt x="8938" y="11179"/>
                  <a:pt x="8946" y="11170"/>
                  <a:pt x="8954" y="11162"/>
                </a:cubicBezTo>
                <a:cubicBezTo>
                  <a:pt x="9184" y="11208"/>
                  <a:pt x="9109" y="11299"/>
                  <a:pt x="9153" y="11509"/>
                </a:cubicBezTo>
                <a:cubicBezTo>
                  <a:pt x="9161" y="11526"/>
                  <a:pt x="9170" y="11542"/>
                  <a:pt x="9178" y="11559"/>
                </a:cubicBezTo>
              </a:path>
              <a:path w="4366" h="1266">
                <a:moveTo>
                  <a:pt x="9426" y="11137"/>
                </a:moveTo>
                <a:cubicBezTo>
                  <a:pt x="9304" y="11295"/>
                  <a:pt x="9285" y="11297"/>
                  <a:pt x="9327" y="11485"/>
                </a:cubicBezTo>
                <a:cubicBezTo>
                  <a:pt x="9470" y="11418"/>
                  <a:pt x="9508" y="11380"/>
                  <a:pt x="9550" y="11212"/>
                </a:cubicBezTo>
                <a:cubicBezTo>
                  <a:pt x="9631" y="11435"/>
                  <a:pt x="9801" y="11620"/>
                  <a:pt x="9649" y="11857"/>
                </a:cubicBezTo>
                <a:cubicBezTo>
                  <a:pt x="9517" y="12062"/>
                  <a:pt x="9396" y="12010"/>
                  <a:pt x="9302" y="11906"/>
                </a:cubicBezTo>
              </a:path>
              <a:path w="4366" h="1266">
                <a:moveTo>
                  <a:pt x="10492" y="11162"/>
                </a:moveTo>
                <a:cubicBezTo>
                  <a:pt x="10472" y="11081"/>
                  <a:pt x="10361" y="11000"/>
                  <a:pt x="10269" y="11038"/>
                </a:cubicBezTo>
                <a:cubicBezTo>
                  <a:pt x="10066" y="11122"/>
                  <a:pt x="10098" y="11253"/>
                  <a:pt x="10120" y="11410"/>
                </a:cubicBezTo>
                <a:cubicBezTo>
                  <a:pt x="10444" y="11359"/>
                  <a:pt x="10430" y="11384"/>
                  <a:pt x="10542" y="11088"/>
                </a:cubicBezTo>
              </a:path>
              <a:path w="4366" h="1266">
                <a:moveTo>
                  <a:pt x="10344" y="10790"/>
                </a:moveTo>
                <a:cubicBezTo>
                  <a:pt x="10411" y="10969"/>
                  <a:pt x="10496" y="11153"/>
                  <a:pt x="10542" y="11336"/>
                </a:cubicBezTo>
              </a:path>
              <a:path w="4366" h="1266">
                <a:moveTo>
                  <a:pt x="10765" y="10988"/>
                </a:moveTo>
                <a:cubicBezTo>
                  <a:pt x="10627" y="11127"/>
                  <a:pt x="10556" y="11226"/>
                  <a:pt x="10691" y="11361"/>
                </a:cubicBezTo>
                <a:cubicBezTo>
                  <a:pt x="10828" y="11277"/>
                  <a:pt x="11030" y="11063"/>
                  <a:pt x="10716" y="11038"/>
                </a:cubicBezTo>
                <a:cubicBezTo>
                  <a:pt x="10683" y="11046"/>
                  <a:pt x="10649" y="11055"/>
                  <a:pt x="10616" y="11063"/>
                </a:cubicBezTo>
              </a:path>
              <a:path w="4366" h="1266">
                <a:moveTo>
                  <a:pt x="10988" y="11063"/>
                </a:moveTo>
                <a:cubicBezTo>
                  <a:pt x="10992" y="11106"/>
                  <a:pt x="11012" y="11529"/>
                  <a:pt x="11162" y="11385"/>
                </a:cubicBezTo>
                <a:cubicBezTo>
                  <a:pt x="11243" y="11307"/>
                  <a:pt x="11249" y="11214"/>
                  <a:pt x="11261" y="11112"/>
                </a:cubicBezTo>
                <a:cubicBezTo>
                  <a:pt x="11313" y="11303"/>
                  <a:pt x="11282" y="11313"/>
                  <a:pt x="11460" y="11361"/>
                </a:cubicBezTo>
                <a:cubicBezTo>
                  <a:pt x="11516" y="11199"/>
                  <a:pt x="11554" y="11069"/>
                  <a:pt x="11361" y="10988"/>
                </a:cubicBezTo>
                <a:cubicBezTo>
                  <a:pt x="11344" y="10988"/>
                  <a:pt x="11328" y="10988"/>
                  <a:pt x="11311" y="10988"/>
                </a:cubicBezTo>
              </a:path>
              <a:path w="4366" h="1266">
                <a:moveTo>
                  <a:pt x="11708" y="11112"/>
                </a:moveTo>
                <a:cubicBezTo>
                  <a:pt x="11708" y="11246"/>
                  <a:pt x="11704" y="11281"/>
                  <a:pt x="11733" y="11361"/>
                </a:cubicBezTo>
                <a:cubicBezTo>
                  <a:pt x="11786" y="11396"/>
                  <a:pt x="11713" y="11175"/>
                  <a:pt x="11733" y="11088"/>
                </a:cubicBezTo>
                <a:cubicBezTo>
                  <a:pt x="11741" y="11080"/>
                  <a:pt x="11749" y="11071"/>
                  <a:pt x="11757" y="11063"/>
                </a:cubicBezTo>
                <a:cubicBezTo>
                  <a:pt x="11965" y="11102"/>
                  <a:pt x="11987" y="11171"/>
                  <a:pt x="12005" y="11385"/>
                </a:cubicBezTo>
                <a:cubicBezTo>
                  <a:pt x="12005" y="11393"/>
                  <a:pt x="12005" y="11402"/>
                  <a:pt x="12005" y="114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81360" y="3803760"/>
            <a:ext cx="598680" cy="287280"/>
          </a:xfrm>
          <a:custGeom>
            <a:avLst/>
            <a:gdLst/>
            <a:ahLst/>
            <a:rect l="l" t="t" r="r" b="b"/>
            <a:pathLst>
              <a:path w="1663" h="795">
                <a:moveTo>
                  <a:pt x="13047" y="10864"/>
                </a:moveTo>
                <a:cubicBezTo>
                  <a:pt x="13047" y="10736"/>
                  <a:pt x="12956" y="10660"/>
                  <a:pt x="12849" y="10592"/>
                </a:cubicBezTo>
                <a:cubicBezTo>
                  <a:pt x="12824" y="10584"/>
                  <a:pt x="12799" y="10575"/>
                  <a:pt x="12774" y="10567"/>
                </a:cubicBezTo>
                <a:cubicBezTo>
                  <a:pt x="12747" y="10859"/>
                  <a:pt x="12828" y="11028"/>
                  <a:pt x="12948" y="11286"/>
                </a:cubicBezTo>
                <a:cubicBezTo>
                  <a:pt x="12956" y="11311"/>
                  <a:pt x="12965" y="11336"/>
                  <a:pt x="12973" y="11361"/>
                </a:cubicBezTo>
              </a:path>
              <a:path w="1663" h="795">
                <a:moveTo>
                  <a:pt x="12725" y="11063"/>
                </a:moveTo>
                <a:cubicBezTo>
                  <a:pt x="12926" y="11063"/>
                  <a:pt x="13218" y="10977"/>
                  <a:pt x="13320" y="11162"/>
                </a:cubicBezTo>
                <a:cubicBezTo>
                  <a:pt x="13328" y="11187"/>
                  <a:pt x="13337" y="11212"/>
                  <a:pt x="13345" y="11237"/>
                </a:cubicBezTo>
                <a:cubicBezTo>
                  <a:pt x="13345" y="11330"/>
                  <a:pt x="13332" y="11150"/>
                  <a:pt x="13370" y="11088"/>
                </a:cubicBezTo>
                <a:cubicBezTo>
                  <a:pt x="13426" y="10997"/>
                  <a:pt x="13548" y="10974"/>
                  <a:pt x="13643" y="10964"/>
                </a:cubicBezTo>
                <a:cubicBezTo>
                  <a:pt x="13620" y="11042"/>
                  <a:pt x="13512" y="11224"/>
                  <a:pt x="13568" y="11311"/>
                </a:cubicBezTo>
                <a:cubicBezTo>
                  <a:pt x="13593" y="11319"/>
                  <a:pt x="13618" y="11328"/>
                  <a:pt x="13643" y="11336"/>
                </a:cubicBezTo>
                <a:cubicBezTo>
                  <a:pt x="13796" y="11224"/>
                  <a:pt x="13775" y="11177"/>
                  <a:pt x="13643" y="11038"/>
                </a:cubicBezTo>
                <a:cubicBezTo>
                  <a:pt x="13626" y="11021"/>
                  <a:pt x="13610" y="11005"/>
                  <a:pt x="13593" y="10988"/>
                </a:cubicBezTo>
              </a:path>
              <a:path w="1663" h="795">
                <a:moveTo>
                  <a:pt x="13767" y="11063"/>
                </a:moveTo>
                <a:cubicBezTo>
                  <a:pt x="13811" y="11153"/>
                  <a:pt x="13824" y="11176"/>
                  <a:pt x="13841" y="11237"/>
                </a:cubicBezTo>
                <a:cubicBezTo>
                  <a:pt x="13837" y="11206"/>
                  <a:pt x="13768" y="10994"/>
                  <a:pt x="13841" y="10988"/>
                </a:cubicBezTo>
                <a:cubicBezTo>
                  <a:pt x="13986" y="10976"/>
                  <a:pt x="14047" y="11097"/>
                  <a:pt x="14064" y="11212"/>
                </a:cubicBezTo>
                <a:cubicBezTo>
                  <a:pt x="14087" y="11030"/>
                  <a:pt x="14108" y="10958"/>
                  <a:pt x="14288" y="11013"/>
                </a:cubicBezTo>
                <a:cubicBezTo>
                  <a:pt x="14312" y="11147"/>
                  <a:pt x="14304" y="11170"/>
                  <a:pt x="14387" y="112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40240" y="3884760"/>
            <a:ext cx="633600" cy="231480"/>
          </a:xfrm>
          <a:custGeom>
            <a:avLst/>
            <a:gdLst/>
            <a:ahLst/>
            <a:rect l="l" t="t" r="r" b="b"/>
            <a:pathLst>
              <a:path w="1762" h="646">
                <a:moveTo>
                  <a:pt x="14833" y="10790"/>
                </a:moveTo>
                <a:cubicBezTo>
                  <a:pt x="14937" y="10997"/>
                  <a:pt x="14994" y="11183"/>
                  <a:pt x="15032" y="11410"/>
                </a:cubicBezTo>
                <a:cubicBezTo>
                  <a:pt x="15032" y="11402"/>
                  <a:pt x="15032" y="11393"/>
                  <a:pt x="15032" y="11385"/>
                </a:cubicBezTo>
              </a:path>
              <a:path w="1762" h="646">
                <a:moveTo>
                  <a:pt x="15230" y="11137"/>
                </a:moveTo>
                <a:cubicBezTo>
                  <a:pt x="15321" y="11137"/>
                  <a:pt x="15346" y="11137"/>
                  <a:pt x="15404" y="11137"/>
                </a:cubicBezTo>
                <a:cubicBezTo>
                  <a:pt x="15376" y="11081"/>
                  <a:pt x="15301" y="10944"/>
                  <a:pt x="15230" y="11063"/>
                </a:cubicBezTo>
                <a:cubicBezTo>
                  <a:pt x="15148" y="11200"/>
                  <a:pt x="15289" y="11419"/>
                  <a:pt x="15453" y="11361"/>
                </a:cubicBezTo>
                <a:cubicBezTo>
                  <a:pt x="15503" y="11328"/>
                  <a:pt x="15552" y="11294"/>
                  <a:pt x="15602" y="11261"/>
                </a:cubicBezTo>
              </a:path>
              <a:path w="1762" h="646">
                <a:moveTo>
                  <a:pt x="15875" y="10840"/>
                </a:moveTo>
                <a:cubicBezTo>
                  <a:pt x="15684" y="10888"/>
                  <a:pt x="15683" y="11021"/>
                  <a:pt x="15726" y="11212"/>
                </a:cubicBezTo>
                <a:cubicBezTo>
                  <a:pt x="15755" y="11341"/>
                  <a:pt x="15848" y="11411"/>
                  <a:pt x="15751" y="11410"/>
                </a:cubicBezTo>
              </a:path>
              <a:path w="1762" h="646">
                <a:moveTo>
                  <a:pt x="16148" y="10864"/>
                </a:moveTo>
                <a:cubicBezTo>
                  <a:pt x="16200" y="11001"/>
                  <a:pt x="16235" y="11162"/>
                  <a:pt x="16297" y="11286"/>
                </a:cubicBezTo>
              </a:path>
              <a:path w="1762" h="646">
                <a:moveTo>
                  <a:pt x="16098" y="11088"/>
                </a:moveTo>
                <a:cubicBezTo>
                  <a:pt x="16267" y="11072"/>
                  <a:pt x="16425" y="11063"/>
                  <a:pt x="16594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15040" y="3929040"/>
            <a:ext cx="231840" cy="162000"/>
          </a:xfrm>
          <a:custGeom>
            <a:avLst/>
            <a:gdLst/>
            <a:ahLst/>
            <a:rect l="l" t="t" r="r" b="b"/>
            <a:pathLst>
              <a:path w="646" h="448">
                <a:moveTo>
                  <a:pt x="17363" y="10914"/>
                </a:moveTo>
                <a:cubicBezTo>
                  <a:pt x="17402" y="11064"/>
                  <a:pt x="17443" y="11209"/>
                  <a:pt x="17462" y="11361"/>
                </a:cubicBezTo>
              </a:path>
              <a:path w="646" h="448">
                <a:moveTo>
                  <a:pt x="17264" y="11013"/>
                </a:moveTo>
                <a:cubicBezTo>
                  <a:pt x="17436" y="11026"/>
                  <a:pt x="17587" y="11023"/>
                  <a:pt x="17760" y="11013"/>
                </a:cubicBezTo>
                <a:cubicBezTo>
                  <a:pt x="17663" y="11111"/>
                  <a:pt x="17634" y="11180"/>
                  <a:pt x="17611" y="11311"/>
                </a:cubicBezTo>
                <a:cubicBezTo>
                  <a:pt x="17724" y="11311"/>
                  <a:pt x="18087" y="11228"/>
                  <a:pt x="17835" y="11038"/>
                </a:cubicBezTo>
                <a:cubicBezTo>
                  <a:pt x="17728" y="11016"/>
                  <a:pt x="17704" y="11008"/>
                  <a:pt x="17636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61080" y="3795840"/>
            <a:ext cx="849240" cy="374400"/>
          </a:xfrm>
          <a:custGeom>
            <a:avLst/>
            <a:gdLst/>
            <a:ahLst/>
            <a:rect l="l" t="t" r="r" b="b"/>
            <a:pathLst>
              <a:path w="2358" h="1043">
                <a:moveTo>
                  <a:pt x="18504" y="11013"/>
                </a:moveTo>
                <a:cubicBezTo>
                  <a:pt x="18513" y="11085"/>
                  <a:pt x="18530" y="11146"/>
                  <a:pt x="18554" y="11212"/>
                </a:cubicBezTo>
                <a:cubicBezTo>
                  <a:pt x="18554" y="11094"/>
                  <a:pt x="18568" y="10960"/>
                  <a:pt x="18703" y="10914"/>
                </a:cubicBezTo>
                <a:cubicBezTo>
                  <a:pt x="18806" y="10914"/>
                  <a:pt x="18843" y="10916"/>
                  <a:pt x="18901" y="10964"/>
                </a:cubicBezTo>
              </a:path>
              <a:path w="2358" h="1043">
                <a:moveTo>
                  <a:pt x="19496" y="10914"/>
                </a:moveTo>
                <a:cubicBezTo>
                  <a:pt x="19464" y="10933"/>
                  <a:pt x="19208" y="11212"/>
                  <a:pt x="19397" y="11212"/>
                </a:cubicBezTo>
                <a:cubicBezTo>
                  <a:pt x="19544" y="11212"/>
                  <a:pt x="19515" y="11054"/>
                  <a:pt x="19521" y="10964"/>
                </a:cubicBezTo>
                <a:cubicBezTo>
                  <a:pt x="19539" y="11106"/>
                  <a:pt x="19694" y="11401"/>
                  <a:pt x="19596" y="11534"/>
                </a:cubicBezTo>
                <a:cubicBezTo>
                  <a:pt x="19466" y="11709"/>
                  <a:pt x="19332" y="11481"/>
                  <a:pt x="19273" y="11410"/>
                </a:cubicBezTo>
              </a:path>
              <a:path w="2358" h="1043">
                <a:moveTo>
                  <a:pt x="19769" y="10716"/>
                </a:moveTo>
                <a:cubicBezTo>
                  <a:pt x="19804" y="10847"/>
                  <a:pt x="19850" y="10978"/>
                  <a:pt x="19869" y="11112"/>
                </a:cubicBezTo>
                <a:cubicBezTo>
                  <a:pt x="19886" y="10991"/>
                  <a:pt x="19923" y="10910"/>
                  <a:pt x="19993" y="10815"/>
                </a:cubicBezTo>
                <a:cubicBezTo>
                  <a:pt x="20049" y="10865"/>
                  <a:pt x="20134" y="11120"/>
                  <a:pt x="20191" y="11137"/>
                </a:cubicBezTo>
                <a:cubicBezTo>
                  <a:pt x="20224" y="11129"/>
                  <a:pt x="20257" y="11120"/>
                  <a:pt x="20290" y="11112"/>
                </a:cubicBezTo>
              </a:path>
              <a:path w="2358" h="1043">
                <a:moveTo>
                  <a:pt x="20489" y="10542"/>
                </a:moveTo>
                <a:cubicBezTo>
                  <a:pt x="20489" y="10683"/>
                  <a:pt x="20445" y="10937"/>
                  <a:pt x="20613" y="11013"/>
                </a:cubicBezTo>
                <a:cubicBezTo>
                  <a:pt x="20680" y="11043"/>
                  <a:pt x="20781" y="10993"/>
                  <a:pt x="20811" y="10964"/>
                </a:cubicBezTo>
              </a:path>
              <a:path w="2358" h="1043">
                <a:moveTo>
                  <a:pt x="20365" y="10691"/>
                </a:moveTo>
                <a:cubicBezTo>
                  <a:pt x="20535" y="10691"/>
                  <a:pt x="20694" y="10691"/>
                  <a:pt x="20861" y="107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08200" y="4572000"/>
            <a:ext cx="428760" cy="179280"/>
          </a:xfrm>
          <a:custGeom>
            <a:avLst/>
            <a:gdLst/>
            <a:ahLst/>
            <a:rect l="l" t="t" r="r" b="b"/>
            <a:pathLst>
              <a:path w="1192" h="497">
                <a:moveTo>
                  <a:pt x="7243" y="12750"/>
                </a:moveTo>
                <a:cubicBezTo>
                  <a:pt x="7276" y="12878"/>
                  <a:pt x="7334" y="13002"/>
                  <a:pt x="7392" y="13122"/>
                </a:cubicBezTo>
                <a:cubicBezTo>
                  <a:pt x="7400" y="13138"/>
                  <a:pt x="7409" y="13155"/>
                  <a:pt x="7417" y="13171"/>
                </a:cubicBezTo>
                <a:cubicBezTo>
                  <a:pt x="7378" y="13039"/>
                  <a:pt x="7281" y="12895"/>
                  <a:pt x="7392" y="12774"/>
                </a:cubicBezTo>
                <a:cubicBezTo>
                  <a:pt x="7490" y="12667"/>
                  <a:pt x="7671" y="12672"/>
                  <a:pt x="7764" y="12774"/>
                </a:cubicBezTo>
                <a:cubicBezTo>
                  <a:pt x="7852" y="12870"/>
                  <a:pt x="7895" y="13022"/>
                  <a:pt x="7913" y="13146"/>
                </a:cubicBezTo>
              </a:path>
              <a:path w="1192" h="497">
                <a:moveTo>
                  <a:pt x="8161" y="12774"/>
                </a:moveTo>
                <a:cubicBezTo>
                  <a:pt x="7974" y="12821"/>
                  <a:pt x="7964" y="12938"/>
                  <a:pt x="7938" y="13122"/>
                </a:cubicBezTo>
                <a:cubicBezTo>
                  <a:pt x="8071" y="13222"/>
                  <a:pt x="8292" y="13237"/>
                  <a:pt x="8409" y="13047"/>
                </a:cubicBezTo>
                <a:cubicBezTo>
                  <a:pt x="8508" y="12887"/>
                  <a:pt x="8347" y="12774"/>
                  <a:pt x="8210" y="12750"/>
                </a:cubicBezTo>
                <a:cubicBezTo>
                  <a:pt x="8142" y="12750"/>
                  <a:pt x="8123" y="12747"/>
                  <a:pt x="8086" y="127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30720" y="4438800"/>
            <a:ext cx="1187280" cy="534960"/>
          </a:xfrm>
          <a:custGeom>
            <a:avLst/>
            <a:gdLst/>
            <a:ahLst/>
            <a:rect l="l" t="t" r="r" b="b"/>
            <a:pathLst>
              <a:path w="3300" h="1489">
                <a:moveTo>
                  <a:pt x="9475" y="12700"/>
                </a:moveTo>
                <a:cubicBezTo>
                  <a:pt x="9498" y="12723"/>
                  <a:pt x="9506" y="12727"/>
                  <a:pt x="9500" y="12750"/>
                </a:cubicBezTo>
                <a:cubicBezTo>
                  <a:pt x="9520" y="12710"/>
                  <a:pt x="9486" y="12662"/>
                  <a:pt x="9426" y="12650"/>
                </a:cubicBezTo>
                <a:cubicBezTo>
                  <a:pt x="9260" y="12617"/>
                  <a:pt x="9245" y="12892"/>
                  <a:pt x="9252" y="12998"/>
                </a:cubicBezTo>
                <a:cubicBezTo>
                  <a:pt x="9270" y="13260"/>
                  <a:pt x="9575" y="13123"/>
                  <a:pt x="9699" y="13047"/>
                </a:cubicBezTo>
                <a:cubicBezTo>
                  <a:pt x="9810" y="12958"/>
                  <a:pt x="9845" y="12939"/>
                  <a:pt x="9872" y="12849"/>
                </a:cubicBezTo>
              </a:path>
              <a:path w="3300" h="1489">
                <a:moveTo>
                  <a:pt x="9748" y="12328"/>
                </a:moveTo>
                <a:cubicBezTo>
                  <a:pt x="9861" y="12440"/>
                  <a:pt x="9894" y="12726"/>
                  <a:pt x="9922" y="12898"/>
                </a:cubicBezTo>
                <a:cubicBezTo>
                  <a:pt x="9922" y="12923"/>
                  <a:pt x="9922" y="12948"/>
                  <a:pt x="9922" y="12973"/>
                </a:cubicBezTo>
                <a:cubicBezTo>
                  <a:pt x="9903" y="12822"/>
                  <a:pt x="9864" y="12693"/>
                  <a:pt x="9947" y="12551"/>
                </a:cubicBezTo>
                <a:cubicBezTo>
                  <a:pt x="9972" y="12526"/>
                  <a:pt x="9996" y="12502"/>
                  <a:pt x="10021" y="12477"/>
                </a:cubicBezTo>
                <a:cubicBezTo>
                  <a:pt x="10238" y="12580"/>
                  <a:pt x="10297" y="12720"/>
                  <a:pt x="10344" y="12973"/>
                </a:cubicBezTo>
                <a:cubicBezTo>
                  <a:pt x="10344" y="13014"/>
                  <a:pt x="10344" y="13038"/>
                  <a:pt x="10344" y="12998"/>
                </a:cubicBezTo>
              </a:path>
              <a:path w="3300" h="1489">
                <a:moveTo>
                  <a:pt x="10716" y="12824"/>
                </a:moveTo>
                <a:cubicBezTo>
                  <a:pt x="10752" y="12898"/>
                  <a:pt x="10707" y="12685"/>
                  <a:pt x="10691" y="12650"/>
                </a:cubicBezTo>
                <a:cubicBezTo>
                  <a:pt x="10539" y="12638"/>
                  <a:pt x="10372" y="12781"/>
                  <a:pt x="10393" y="12973"/>
                </a:cubicBezTo>
                <a:cubicBezTo>
                  <a:pt x="10425" y="13262"/>
                  <a:pt x="10712" y="12960"/>
                  <a:pt x="10740" y="12849"/>
                </a:cubicBezTo>
                <a:cubicBezTo>
                  <a:pt x="10714" y="12715"/>
                  <a:pt x="10736" y="12980"/>
                  <a:pt x="10790" y="13022"/>
                </a:cubicBezTo>
                <a:cubicBezTo>
                  <a:pt x="10950" y="13147"/>
                  <a:pt x="10952" y="12910"/>
                  <a:pt x="11038" y="12874"/>
                </a:cubicBezTo>
                <a:cubicBezTo>
                  <a:pt x="11098" y="12849"/>
                  <a:pt x="11054" y="12992"/>
                  <a:pt x="11088" y="13047"/>
                </a:cubicBezTo>
                <a:cubicBezTo>
                  <a:pt x="11088" y="13148"/>
                  <a:pt x="11036" y="12900"/>
                  <a:pt x="11038" y="12799"/>
                </a:cubicBezTo>
                <a:cubicBezTo>
                  <a:pt x="11042" y="12637"/>
                  <a:pt x="11254" y="12586"/>
                  <a:pt x="11361" y="12700"/>
                </a:cubicBezTo>
                <a:cubicBezTo>
                  <a:pt x="11481" y="12828"/>
                  <a:pt x="11431" y="12976"/>
                  <a:pt x="11410" y="13122"/>
                </a:cubicBezTo>
              </a:path>
              <a:path w="3300" h="1489">
                <a:moveTo>
                  <a:pt x="11857" y="12824"/>
                </a:moveTo>
                <a:cubicBezTo>
                  <a:pt x="11836" y="12777"/>
                  <a:pt x="11826" y="12647"/>
                  <a:pt x="11733" y="12700"/>
                </a:cubicBezTo>
                <a:cubicBezTo>
                  <a:pt x="11570" y="12792"/>
                  <a:pt x="11584" y="12923"/>
                  <a:pt x="11584" y="13072"/>
                </a:cubicBezTo>
                <a:cubicBezTo>
                  <a:pt x="11819" y="13083"/>
                  <a:pt x="11798" y="13075"/>
                  <a:pt x="11956" y="12898"/>
                </a:cubicBezTo>
                <a:cubicBezTo>
                  <a:pt x="11896" y="12740"/>
                  <a:pt x="11924" y="12844"/>
                  <a:pt x="11956" y="12923"/>
                </a:cubicBezTo>
                <a:cubicBezTo>
                  <a:pt x="12079" y="13223"/>
                  <a:pt x="12235" y="13576"/>
                  <a:pt x="11857" y="13767"/>
                </a:cubicBezTo>
                <a:cubicBezTo>
                  <a:pt x="11535" y="13929"/>
                  <a:pt x="11566" y="13749"/>
                  <a:pt x="11559" y="13543"/>
                </a:cubicBezTo>
              </a:path>
              <a:path w="3300" h="1489">
                <a:moveTo>
                  <a:pt x="12129" y="12874"/>
                </a:moveTo>
                <a:cubicBezTo>
                  <a:pt x="12208" y="12845"/>
                  <a:pt x="12393" y="12844"/>
                  <a:pt x="12452" y="12799"/>
                </a:cubicBezTo>
                <a:cubicBezTo>
                  <a:pt x="12452" y="12791"/>
                  <a:pt x="12452" y="12782"/>
                  <a:pt x="12452" y="12774"/>
                </a:cubicBezTo>
                <a:cubicBezTo>
                  <a:pt x="12388" y="12661"/>
                  <a:pt x="12290" y="12445"/>
                  <a:pt x="12129" y="12601"/>
                </a:cubicBezTo>
                <a:cubicBezTo>
                  <a:pt x="11990" y="12736"/>
                  <a:pt x="11929" y="13035"/>
                  <a:pt x="12179" y="13097"/>
                </a:cubicBezTo>
                <a:cubicBezTo>
                  <a:pt x="12308" y="13129"/>
                  <a:pt x="12435" y="13090"/>
                  <a:pt x="12551" y="130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56120" y="4537080"/>
            <a:ext cx="785880" cy="160200"/>
          </a:xfrm>
          <a:custGeom>
            <a:avLst/>
            <a:gdLst/>
            <a:ahLst/>
            <a:rect l="l" t="t" r="r" b="b"/>
            <a:pathLst>
              <a:path w="2183" h="447">
                <a:moveTo>
                  <a:pt x="13816" y="12849"/>
                </a:moveTo>
                <a:cubicBezTo>
                  <a:pt x="13962" y="12849"/>
                  <a:pt x="14096" y="12855"/>
                  <a:pt x="14238" y="12874"/>
                </a:cubicBezTo>
                <a:cubicBezTo>
                  <a:pt x="14528" y="12914"/>
                  <a:pt x="14873" y="12886"/>
                  <a:pt x="15156" y="12849"/>
                </a:cubicBezTo>
                <a:cubicBezTo>
                  <a:pt x="15231" y="12839"/>
                  <a:pt x="15279" y="12867"/>
                  <a:pt x="15354" y="12874"/>
                </a:cubicBezTo>
                <a:cubicBezTo>
                  <a:pt x="15431" y="12882"/>
                  <a:pt x="15494" y="12858"/>
                  <a:pt x="15553" y="12849"/>
                </a:cubicBezTo>
                <a:cubicBezTo>
                  <a:pt x="15678" y="12829"/>
                  <a:pt x="15823" y="12849"/>
                  <a:pt x="15949" y="12849"/>
                </a:cubicBezTo>
                <a:cubicBezTo>
                  <a:pt x="15909" y="12815"/>
                  <a:pt x="15842" y="12746"/>
                  <a:pt x="15776" y="12725"/>
                </a:cubicBezTo>
                <a:cubicBezTo>
                  <a:pt x="15733" y="12711"/>
                  <a:pt x="15698" y="12705"/>
                  <a:pt x="15652" y="12700"/>
                </a:cubicBezTo>
                <a:cubicBezTo>
                  <a:pt x="15717" y="12726"/>
                  <a:pt x="15738" y="12744"/>
                  <a:pt x="15801" y="12774"/>
                </a:cubicBezTo>
                <a:cubicBezTo>
                  <a:pt x="15839" y="12792"/>
                  <a:pt x="15867" y="12818"/>
                  <a:pt x="15900" y="12849"/>
                </a:cubicBezTo>
                <a:cubicBezTo>
                  <a:pt x="15913" y="12861"/>
                  <a:pt x="15913" y="12884"/>
                  <a:pt x="15925" y="12898"/>
                </a:cubicBezTo>
                <a:cubicBezTo>
                  <a:pt x="15848" y="12943"/>
                  <a:pt x="15774" y="12974"/>
                  <a:pt x="15677" y="12998"/>
                </a:cubicBezTo>
                <a:cubicBezTo>
                  <a:pt x="15602" y="13016"/>
                  <a:pt x="15569" y="12998"/>
                  <a:pt x="15577" y="13047"/>
                </a:cubicBezTo>
              </a:path>
              <a:path w="2183" h="447">
                <a:moveTo>
                  <a:pt x="14039" y="12725"/>
                </a:moveTo>
                <a:cubicBezTo>
                  <a:pt x="14052" y="12685"/>
                  <a:pt x="14051" y="12715"/>
                  <a:pt x="14064" y="12675"/>
                </a:cubicBezTo>
                <a:cubicBezTo>
                  <a:pt x="13973" y="12701"/>
                  <a:pt x="13887" y="12759"/>
                  <a:pt x="13791" y="12774"/>
                </a:cubicBezTo>
                <a:cubicBezTo>
                  <a:pt x="13783" y="12774"/>
                  <a:pt x="13775" y="12774"/>
                  <a:pt x="13767" y="12774"/>
                </a:cubicBezTo>
                <a:cubicBezTo>
                  <a:pt x="13786" y="12834"/>
                  <a:pt x="13837" y="12902"/>
                  <a:pt x="13915" y="12948"/>
                </a:cubicBezTo>
                <a:cubicBezTo>
                  <a:pt x="13977" y="12984"/>
                  <a:pt x="14095" y="13029"/>
                  <a:pt x="14163" y="13047"/>
                </a:cubicBezTo>
              </a:path>
              <a:path w="2183" h="447">
                <a:moveTo>
                  <a:pt x="13866" y="12799"/>
                </a:moveTo>
                <a:cubicBezTo>
                  <a:pt x="13971" y="12724"/>
                  <a:pt x="14112" y="12692"/>
                  <a:pt x="14213" y="12626"/>
                </a:cubicBezTo>
                <a:cubicBezTo>
                  <a:pt x="14213" y="12601"/>
                  <a:pt x="14213" y="12593"/>
                  <a:pt x="14213" y="126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466120" y="4840200"/>
            <a:ext cx="571680" cy="169920"/>
          </a:xfrm>
          <a:custGeom>
            <a:avLst/>
            <a:gdLst/>
            <a:ahLst/>
            <a:rect l="l" t="t" r="r" b="b"/>
            <a:pathLst>
              <a:path w="1588" h="472">
                <a:moveTo>
                  <a:pt x="23912" y="13469"/>
                </a:moveTo>
                <a:cubicBezTo>
                  <a:pt x="23912" y="13576"/>
                  <a:pt x="23912" y="13684"/>
                  <a:pt x="23912" y="13791"/>
                </a:cubicBezTo>
              </a:path>
              <a:path w="1588" h="472">
                <a:moveTo>
                  <a:pt x="23515" y="13444"/>
                </a:moveTo>
                <a:cubicBezTo>
                  <a:pt x="23683" y="13444"/>
                  <a:pt x="23845" y="13453"/>
                  <a:pt x="24011" y="13469"/>
                </a:cubicBezTo>
                <a:cubicBezTo>
                  <a:pt x="24087" y="13476"/>
                  <a:pt x="24106" y="13466"/>
                  <a:pt x="24061" y="13543"/>
                </a:cubicBezTo>
              </a:path>
              <a:path w="1588" h="472">
                <a:moveTo>
                  <a:pt x="23639" y="13841"/>
                </a:moveTo>
                <a:cubicBezTo>
                  <a:pt x="23791" y="13841"/>
                  <a:pt x="23942" y="13830"/>
                  <a:pt x="24085" y="13866"/>
                </a:cubicBezTo>
                <a:cubicBezTo>
                  <a:pt x="24093" y="13866"/>
                  <a:pt x="24102" y="13866"/>
                  <a:pt x="24110" y="13866"/>
                </a:cubicBezTo>
              </a:path>
              <a:path w="1588" h="472">
                <a:moveTo>
                  <a:pt x="24061" y="13692"/>
                </a:moveTo>
                <a:cubicBezTo>
                  <a:pt x="24051" y="13753"/>
                  <a:pt x="24041" y="13803"/>
                  <a:pt x="24036" y="13866"/>
                </a:cubicBezTo>
                <a:cubicBezTo>
                  <a:pt x="24129" y="13866"/>
                  <a:pt x="24076" y="13768"/>
                  <a:pt x="24110" y="13692"/>
                </a:cubicBezTo>
                <a:cubicBezTo>
                  <a:pt x="24129" y="13649"/>
                  <a:pt x="24203" y="13564"/>
                  <a:pt x="24259" y="13568"/>
                </a:cubicBezTo>
                <a:cubicBezTo>
                  <a:pt x="24309" y="13572"/>
                  <a:pt x="24354" y="13713"/>
                  <a:pt x="24358" y="13742"/>
                </a:cubicBezTo>
                <a:cubicBezTo>
                  <a:pt x="24358" y="13808"/>
                  <a:pt x="24358" y="13825"/>
                  <a:pt x="24358" y="13866"/>
                </a:cubicBezTo>
              </a:path>
              <a:path w="1588" h="472">
                <a:moveTo>
                  <a:pt x="24730" y="13692"/>
                </a:moveTo>
                <a:cubicBezTo>
                  <a:pt x="24730" y="13654"/>
                  <a:pt x="24724" y="13627"/>
                  <a:pt x="24681" y="13618"/>
                </a:cubicBezTo>
                <a:cubicBezTo>
                  <a:pt x="24612" y="13603"/>
                  <a:pt x="24535" y="13654"/>
                  <a:pt x="24507" y="13717"/>
                </a:cubicBezTo>
                <a:cubicBezTo>
                  <a:pt x="24476" y="13786"/>
                  <a:pt x="24553" y="13865"/>
                  <a:pt x="24606" y="13891"/>
                </a:cubicBezTo>
                <a:cubicBezTo>
                  <a:pt x="24675" y="13925"/>
                  <a:pt x="24767" y="13904"/>
                  <a:pt x="24829" y="13866"/>
                </a:cubicBezTo>
                <a:cubicBezTo>
                  <a:pt x="24852" y="13843"/>
                  <a:pt x="24856" y="13835"/>
                  <a:pt x="24879" y="13841"/>
                </a:cubicBezTo>
              </a:path>
              <a:path w="1588" h="472">
                <a:moveTo>
                  <a:pt x="25053" y="13915"/>
                </a:moveTo>
                <a:cubicBezTo>
                  <a:pt x="25095" y="13915"/>
                  <a:pt x="25091" y="13925"/>
                  <a:pt x="25102" y="138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96040" y="4830840"/>
            <a:ext cx="669960" cy="169920"/>
          </a:xfrm>
          <a:custGeom>
            <a:avLst/>
            <a:gdLst/>
            <a:ahLst/>
            <a:rect l="l" t="t" r="r" b="b"/>
            <a:pathLst>
              <a:path w="1862" h="473">
                <a:moveTo>
                  <a:pt x="17859" y="13444"/>
                </a:moveTo>
                <a:cubicBezTo>
                  <a:pt x="17798" y="13487"/>
                  <a:pt x="17812" y="13683"/>
                  <a:pt x="17810" y="13767"/>
                </a:cubicBezTo>
                <a:cubicBezTo>
                  <a:pt x="17810" y="13792"/>
                  <a:pt x="17810" y="13816"/>
                  <a:pt x="17810" y="13841"/>
                </a:cubicBezTo>
              </a:path>
              <a:path w="1862" h="473">
                <a:moveTo>
                  <a:pt x="17487" y="13444"/>
                </a:moveTo>
                <a:cubicBezTo>
                  <a:pt x="17683" y="13390"/>
                  <a:pt x="17834" y="13434"/>
                  <a:pt x="18008" y="13543"/>
                </a:cubicBezTo>
                <a:cubicBezTo>
                  <a:pt x="18199" y="13662"/>
                  <a:pt x="18180" y="13795"/>
                  <a:pt x="17959" y="13866"/>
                </a:cubicBezTo>
                <a:cubicBezTo>
                  <a:pt x="17901" y="13874"/>
                  <a:pt x="17843" y="13883"/>
                  <a:pt x="17785" y="13891"/>
                </a:cubicBezTo>
                <a:cubicBezTo>
                  <a:pt x="17675" y="13891"/>
                  <a:pt x="17900" y="13859"/>
                  <a:pt x="18008" y="13841"/>
                </a:cubicBezTo>
              </a:path>
              <a:path w="1862" h="473">
                <a:moveTo>
                  <a:pt x="18306" y="13692"/>
                </a:moveTo>
                <a:cubicBezTo>
                  <a:pt x="18389" y="13672"/>
                  <a:pt x="18469" y="13653"/>
                  <a:pt x="18554" y="13643"/>
                </a:cubicBezTo>
                <a:cubicBezTo>
                  <a:pt x="18540" y="13601"/>
                  <a:pt x="18481" y="13430"/>
                  <a:pt x="18405" y="13469"/>
                </a:cubicBezTo>
                <a:cubicBezTo>
                  <a:pt x="18275" y="13537"/>
                  <a:pt x="18217" y="13797"/>
                  <a:pt x="18380" y="13866"/>
                </a:cubicBezTo>
                <a:cubicBezTo>
                  <a:pt x="18589" y="13955"/>
                  <a:pt x="18699" y="13825"/>
                  <a:pt x="18852" y="13717"/>
                </a:cubicBezTo>
              </a:path>
              <a:path w="1862" h="473">
                <a:moveTo>
                  <a:pt x="19075" y="13469"/>
                </a:moveTo>
                <a:cubicBezTo>
                  <a:pt x="19075" y="13477"/>
                  <a:pt x="19075" y="13486"/>
                  <a:pt x="19075" y="13494"/>
                </a:cubicBezTo>
                <a:cubicBezTo>
                  <a:pt x="19075" y="13436"/>
                  <a:pt x="19011" y="13367"/>
                  <a:pt x="18951" y="13444"/>
                </a:cubicBezTo>
                <a:cubicBezTo>
                  <a:pt x="18788" y="13653"/>
                  <a:pt x="18894" y="13843"/>
                  <a:pt x="19149" y="13816"/>
                </a:cubicBezTo>
                <a:cubicBezTo>
                  <a:pt x="19264" y="13778"/>
                  <a:pt x="19278" y="13762"/>
                  <a:pt x="19348" y="137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29680" y="2911320"/>
            <a:ext cx="731520" cy="696960"/>
          </a:xfrm>
          <a:custGeom>
            <a:avLst/>
            <a:gdLst/>
            <a:ahLst/>
            <a:rect l="l" t="t" r="r" b="b"/>
            <a:pathLst>
              <a:path w="2034" h="1936">
                <a:moveTo>
                  <a:pt x="20687" y="9922"/>
                </a:moveTo>
                <a:cubicBezTo>
                  <a:pt x="20780" y="9823"/>
                  <a:pt x="20865" y="9721"/>
                  <a:pt x="20960" y="9624"/>
                </a:cubicBezTo>
                <a:cubicBezTo>
                  <a:pt x="21098" y="9482"/>
                  <a:pt x="21256" y="9375"/>
                  <a:pt x="21406" y="9252"/>
                </a:cubicBezTo>
                <a:cubicBezTo>
                  <a:pt x="21521" y="9158"/>
                  <a:pt x="21635" y="9071"/>
                  <a:pt x="21754" y="8979"/>
                </a:cubicBezTo>
                <a:cubicBezTo>
                  <a:pt x="21919" y="8852"/>
                  <a:pt x="22076" y="8703"/>
                  <a:pt x="22225" y="8558"/>
                </a:cubicBezTo>
                <a:cubicBezTo>
                  <a:pt x="22330" y="8456"/>
                  <a:pt x="22454" y="8374"/>
                  <a:pt x="22547" y="8260"/>
                </a:cubicBezTo>
                <a:cubicBezTo>
                  <a:pt x="22587" y="8211"/>
                  <a:pt x="22643" y="8142"/>
                  <a:pt x="22671" y="8111"/>
                </a:cubicBezTo>
                <a:cubicBezTo>
                  <a:pt x="22555" y="8145"/>
                  <a:pt x="22441" y="8201"/>
                  <a:pt x="22324" y="8235"/>
                </a:cubicBezTo>
                <a:cubicBezTo>
                  <a:pt x="22230" y="8254"/>
                  <a:pt x="22210" y="8241"/>
                  <a:pt x="22175" y="8285"/>
                </a:cubicBezTo>
                <a:cubicBezTo>
                  <a:pt x="22293" y="8228"/>
                  <a:pt x="22409" y="8173"/>
                  <a:pt x="22523" y="8111"/>
                </a:cubicBezTo>
                <a:cubicBezTo>
                  <a:pt x="22568" y="8087"/>
                  <a:pt x="22577" y="8107"/>
                  <a:pt x="22622" y="8086"/>
                </a:cubicBezTo>
                <a:cubicBezTo>
                  <a:pt x="22646" y="8228"/>
                  <a:pt x="22615" y="8345"/>
                  <a:pt x="22622" y="8483"/>
                </a:cubicBezTo>
                <a:cubicBezTo>
                  <a:pt x="22622" y="8518"/>
                  <a:pt x="22627" y="8536"/>
                  <a:pt x="22647" y="8558"/>
                </a:cubicBezTo>
              </a:path>
              <a:path w="2034" h="1936">
                <a:moveTo>
                  <a:pt x="20662" y="9674"/>
                </a:moveTo>
                <a:cubicBezTo>
                  <a:pt x="20662" y="9627"/>
                  <a:pt x="20666" y="9612"/>
                  <a:pt x="20638" y="9575"/>
                </a:cubicBezTo>
                <a:cubicBezTo>
                  <a:pt x="20649" y="9724"/>
                  <a:pt x="20677" y="9872"/>
                  <a:pt x="20687" y="10021"/>
                </a:cubicBezTo>
                <a:cubicBezTo>
                  <a:pt x="20797" y="10021"/>
                  <a:pt x="20861" y="9914"/>
                  <a:pt x="20960" y="9872"/>
                </a:cubicBezTo>
                <a:cubicBezTo>
                  <a:pt x="21003" y="9854"/>
                  <a:pt x="21141" y="9811"/>
                  <a:pt x="21208" y="97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91640" y="3894120"/>
            <a:ext cx="688680" cy="241200"/>
          </a:xfrm>
          <a:custGeom>
            <a:avLst/>
            <a:gdLst/>
            <a:ahLst/>
            <a:rect l="l" t="t" r="r" b="b"/>
            <a:pathLst>
              <a:path w="1911" h="671">
                <a:moveTo>
                  <a:pt x="22324" y="10914"/>
                </a:moveTo>
                <a:cubicBezTo>
                  <a:pt x="22412" y="10914"/>
                  <a:pt x="22431" y="10927"/>
                  <a:pt x="22523" y="10964"/>
                </a:cubicBezTo>
                <a:cubicBezTo>
                  <a:pt x="22680" y="11028"/>
                  <a:pt x="22856" y="11090"/>
                  <a:pt x="23019" y="11137"/>
                </a:cubicBezTo>
                <a:cubicBezTo>
                  <a:pt x="23164" y="11179"/>
                  <a:pt x="23299" y="11207"/>
                  <a:pt x="23440" y="11261"/>
                </a:cubicBezTo>
                <a:cubicBezTo>
                  <a:pt x="23528" y="11295"/>
                  <a:pt x="23635" y="11291"/>
                  <a:pt x="23713" y="11336"/>
                </a:cubicBezTo>
                <a:cubicBezTo>
                  <a:pt x="23787" y="11379"/>
                  <a:pt x="23855" y="11389"/>
                  <a:pt x="23937" y="11410"/>
                </a:cubicBezTo>
                <a:cubicBezTo>
                  <a:pt x="23970" y="11418"/>
                  <a:pt x="24022" y="11424"/>
                  <a:pt x="24061" y="11435"/>
                </a:cubicBezTo>
                <a:cubicBezTo>
                  <a:pt x="24147" y="11459"/>
                  <a:pt x="24070" y="11426"/>
                  <a:pt x="24011" y="11361"/>
                </a:cubicBezTo>
                <a:cubicBezTo>
                  <a:pt x="23959" y="11303"/>
                  <a:pt x="23913" y="11243"/>
                  <a:pt x="23862" y="11187"/>
                </a:cubicBezTo>
                <a:cubicBezTo>
                  <a:pt x="23836" y="11158"/>
                  <a:pt x="23829" y="11154"/>
                  <a:pt x="23812" y="11137"/>
                </a:cubicBezTo>
                <a:cubicBezTo>
                  <a:pt x="23852" y="11197"/>
                  <a:pt x="23912" y="11270"/>
                  <a:pt x="23961" y="11336"/>
                </a:cubicBezTo>
                <a:cubicBezTo>
                  <a:pt x="24007" y="11397"/>
                  <a:pt x="24031" y="11435"/>
                  <a:pt x="24061" y="11485"/>
                </a:cubicBezTo>
                <a:cubicBezTo>
                  <a:pt x="23958" y="11485"/>
                  <a:pt x="23863" y="11469"/>
                  <a:pt x="23763" y="11460"/>
                </a:cubicBezTo>
                <a:cubicBezTo>
                  <a:pt x="23730" y="11460"/>
                  <a:pt x="23713" y="11460"/>
                  <a:pt x="23688" y="11460"/>
                </a:cubicBezTo>
              </a:path>
              <a:path w="1911" h="671">
                <a:moveTo>
                  <a:pt x="22374" y="10889"/>
                </a:moveTo>
                <a:cubicBezTo>
                  <a:pt x="22359" y="10889"/>
                  <a:pt x="22585" y="10830"/>
                  <a:pt x="22647" y="10815"/>
                </a:cubicBezTo>
                <a:cubicBezTo>
                  <a:pt x="22777" y="10784"/>
                  <a:pt x="22430" y="10908"/>
                  <a:pt x="22399" y="10914"/>
                </a:cubicBezTo>
                <a:cubicBezTo>
                  <a:pt x="22341" y="10926"/>
                  <a:pt x="22261" y="10939"/>
                  <a:pt x="22200" y="10939"/>
                </a:cubicBezTo>
                <a:cubicBezTo>
                  <a:pt x="22259" y="11076"/>
                  <a:pt x="22338" y="11134"/>
                  <a:pt x="22423" y="11237"/>
                </a:cubicBezTo>
                <a:cubicBezTo>
                  <a:pt x="22445" y="11264"/>
                  <a:pt x="22427" y="11275"/>
                  <a:pt x="22473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the change occurring in a graph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’t a line be both increasing and decreasing, depending on how you look a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4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great question.  The simple answer is ‘no’ because we 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ust always read lines from left to ri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ould you us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djec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scribe how these two lines are diff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78600" y="1608120"/>
            <a:ext cx="3490560" cy="34797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54560" y="4111560"/>
            <a:ext cx="2884680" cy="606600"/>
          </a:xfrm>
          <a:prstGeom prst="line">
            <a:avLst/>
          </a:prstGeom>
          <a:ln w="3816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31200" y="1835280"/>
            <a:ext cx="758880" cy="273348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28800" y="3589200"/>
            <a:ext cx="696960" cy="125640"/>
          </a:xfrm>
          <a:custGeom>
            <a:avLst/>
            <a:gdLst/>
            <a:ahLst/>
            <a:rect l="l" t="t" r="r" b="b"/>
            <a:pathLst>
              <a:path w="1935" h="349">
                <a:moveTo>
                  <a:pt x="2580" y="10071"/>
                </a:moveTo>
                <a:cubicBezTo>
                  <a:pt x="2686" y="9948"/>
                  <a:pt x="2840" y="9974"/>
                  <a:pt x="3051" y="9971"/>
                </a:cubicBezTo>
                <a:cubicBezTo>
                  <a:pt x="3538" y="9963"/>
                  <a:pt x="4027" y="9971"/>
                  <a:pt x="4514" y="9971"/>
                </a:cubicBezTo>
              </a:path>
              <a:path w="1935" h="349">
                <a:moveTo>
                  <a:pt x="2778" y="10244"/>
                </a:moveTo>
                <a:cubicBezTo>
                  <a:pt x="2720" y="10271"/>
                  <a:pt x="2671" y="10302"/>
                  <a:pt x="2629" y="10294"/>
                </a:cubicBezTo>
                <a:cubicBezTo>
                  <a:pt x="2811" y="10228"/>
                  <a:pt x="3006" y="10234"/>
                  <a:pt x="3200" y="10244"/>
                </a:cubicBezTo>
                <a:cubicBezTo>
                  <a:pt x="3572" y="10264"/>
                  <a:pt x="3944" y="10276"/>
                  <a:pt x="4316" y="10294"/>
                </a:cubicBezTo>
                <a:cubicBezTo>
                  <a:pt x="4396" y="10298"/>
                  <a:pt x="4457" y="10310"/>
                  <a:pt x="4490" y="103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03720" y="3170160"/>
            <a:ext cx="938160" cy="169920"/>
          </a:xfrm>
          <a:custGeom>
            <a:avLst/>
            <a:gdLst/>
            <a:ahLst/>
            <a:rect l="l" t="t" r="r" b="b"/>
            <a:pathLst>
              <a:path w="2605" h="472">
                <a:moveTo>
                  <a:pt x="9178" y="9004"/>
                </a:moveTo>
                <a:cubicBezTo>
                  <a:pt x="9224" y="8975"/>
                  <a:pt x="9218" y="8941"/>
                  <a:pt x="9327" y="8930"/>
                </a:cubicBezTo>
                <a:cubicBezTo>
                  <a:pt x="9556" y="8907"/>
                  <a:pt x="9790" y="8927"/>
                  <a:pt x="10021" y="8905"/>
                </a:cubicBezTo>
                <a:cubicBezTo>
                  <a:pt x="10410" y="8868"/>
                  <a:pt x="10797" y="8878"/>
                  <a:pt x="11187" y="8830"/>
                </a:cubicBezTo>
                <a:cubicBezTo>
                  <a:pt x="11332" y="8812"/>
                  <a:pt x="11464" y="8806"/>
                  <a:pt x="11609" y="8806"/>
                </a:cubicBezTo>
                <a:cubicBezTo>
                  <a:pt x="11617" y="8806"/>
                  <a:pt x="11625" y="8806"/>
                  <a:pt x="11633" y="8806"/>
                </a:cubicBezTo>
              </a:path>
              <a:path w="2605" h="472">
                <a:moveTo>
                  <a:pt x="9475" y="9277"/>
                </a:moveTo>
                <a:cubicBezTo>
                  <a:pt x="9779" y="9245"/>
                  <a:pt x="10082" y="9200"/>
                  <a:pt x="10393" y="9178"/>
                </a:cubicBezTo>
                <a:cubicBezTo>
                  <a:pt x="10847" y="9146"/>
                  <a:pt x="11303" y="9095"/>
                  <a:pt x="11757" y="9079"/>
                </a:cubicBezTo>
                <a:cubicBezTo>
                  <a:pt x="11765" y="9079"/>
                  <a:pt x="11774" y="9079"/>
                  <a:pt x="11782" y="90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32240" y="3803760"/>
            <a:ext cx="546120" cy="260280"/>
          </a:xfrm>
          <a:custGeom>
            <a:avLst/>
            <a:gdLst/>
            <a:ahLst/>
            <a:rect l="l" t="t" r="r" b="b"/>
            <a:pathLst>
              <a:path w="1514" h="720">
                <a:moveTo>
                  <a:pt x="15056" y="11162"/>
                </a:moveTo>
                <a:cubicBezTo>
                  <a:pt x="15056" y="11010"/>
                  <a:pt x="14974" y="10962"/>
                  <a:pt x="14833" y="10914"/>
                </a:cubicBezTo>
                <a:cubicBezTo>
                  <a:pt x="14628" y="10844"/>
                  <a:pt x="14468" y="10951"/>
                  <a:pt x="14536" y="11187"/>
                </a:cubicBezTo>
                <a:cubicBezTo>
                  <a:pt x="14561" y="11220"/>
                  <a:pt x="14585" y="11253"/>
                  <a:pt x="14610" y="11286"/>
                </a:cubicBezTo>
                <a:cubicBezTo>
                  <a:pt x="14920" y="11242"/>
                  <a:pt x="14927" y="11164"/>
                  <a:pt x="14957" y="10864"/>
                </a:cubicBezTo>
              </a:path>
              <a:path w="1514" h="720">
                <a:moveTo>
                  <a:pt x="14883" y="10567"/>
                </a:moveTo>
                <a:cubicBezTo>
                  <a:pt x="14905" y="10798"/>
                  <a:pt x="14950" y="11034"/>
                  <a:pt x="15007" y="11261"/>
                </a:cubicBezTo>
                <a:cubicBezTo>
                  <a:pt x="15007" y="11253"/>
                  <a:pt x="15007" y="11245"/>
                  <a:pt x="15007" y="11237"/>
                </a:cubicBezTo>
              </a:path>
              <a:path w="1514" h="720">
                <a:moveTo>
                  <a:pt x="15131" y="10939"/>
                </a:moveTo>
                <a:cubicBezTo>
                  <a:pt x="15179" y="10939"/>
                  <a:pt x="15469" y="10967"/>
                  <a:pt x="15453" y="10914"/>
                </a:cubicBezTo>
                <a:cubicBezTo>
                  <a:pt x="15445" y="10897"/>
                  <a:pt x="15437" y="10881"/>
                  <a:pt x="15429" y="10864"/>
                </a:cubicBezTo>
                <a:cubicBezTo>
                  <a:pt x="15239" y="10778"/>
                  <a:pt x="15168" y="10856"/>
                  <a:pt x="15205" y="11088"/>
                </a:cubicBezTo>
                <a:cubicBezTo>
                  <a:pt x="15247" y="11346"/>
                  <a:pt x="15447" y="11171"/>
                  <a:pt x="15577" y="11112"/>
                </a:cubicBezTo>
              </a:path>
              <a:path w="1514" h="720">
                <a:moveTo>
                  <a:pt x="15825" y="10790"/>
                </a:moveTo>
                <a:cubicBezTo>
                  <a:pt x="15825" y="10836"/>
                  <a:pt x="15807" y="10844"/>
                  <a:pt x="15850" y="10815"/>
                </a:cubicBezTo>
                <a:cubicBezTo>
                  <a:pt x="15723" y="10686"/>
                  <a:pt x="15629" y="10902"/>
                  <a:pt x="15677" y="11038"/>
                </a:cubicBezTo>
                <a:cubicBezTo>
                  <a:pt x="15745" y="11232"/>
                  <a:pt x="15937" y="11081"/>
                  <a:pt x="16049" y="110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81960" y="1581120"/>
            <a:ext cx="490320" cy="204840"/>
          </a:xfrm>
          <a:custGeom>
            <a:avLst/>
            <a:gdLst/>
            <a:ahLst/>
            <a:rect l="l" t="t" r="r" b="b"/>
            <a:pathLst>
              <a:path w="1365" h="572">
                <a:moveTo>
                  <a:pt x="21282" y="4738"/>
                </a:moveTo>
                <a:cubicBezTo>
                  <a:pt x="21270" y="4663"/>
                  <a:pt x="21232" y="4624"/>
                  <a:pt x="21208" y="4564"/>
                </a:cubicBezTo>
                <a:cubicBezTo>
                  <a:pt x="21072" y="4701"/>
                  <a:pt x="21055" y="4780"/>
                  <a:pt x="21109" y="4961"/>
                </a:cubicBezTo>
                <a:cubicBezTo>
                  <a:pt x="21402" y="4899"/>
                  <a:pt x="21366" y="4747"/>
                  <a:pt x="21357" y="4465"/>
                </a:cubicBezTo>
              </a:path>
              <a:path w="1365" h="572">
                <a:moveTo>
                  <a:pt x="21481" y="4589"/>
                </a:moveTo>
                <a:cubicBezTo>
                  <a:pt x="21525" y="4586"/>
                  <a:pt x="21722" y="4596"/>
                  <a:pt x="21754" y="4564"/>
                </a:cubicBezTo>
                <a:cubicBezTo>
                  <a:pt x="21754" y="4539"/>
                  <a:pt x="21754" y="4531"/>
                  <a:pt x="21729" y="4539"/>
                </a:cubicBezTo>
                <a:cubicBezTo>
                  <a:pt x="21523" y="4350"/>
                  <a:pt x="21449" y="4534"/>
                  <a:pt x="21481" y="4787"/>
                </a:cubicBezTo>
                <a:cubicBezTo>
                  <a:pt x="21519" y="5092"/>
                  <a:pt x="21743" y="4807"/>
                  <a:pt x="21828" y="4738"/>
                </a:cubicBezTo>
              </a:path>
              <a:path w="1365" h="572">
                <a:moveTo>
                  <a:pt x="22126" y="4490"/>
                </a:moveTo>
                <a:cubicBezTo>
                  <a:pt x="22208" y="4542"/>
                  <a:pt x="22083" y="4401"/>
                  <a:pt x="22076" y="4390"/>
                </a:cubicBezTo>
                <a:cubicBezTo>
                  <a:pt x="21993" y="4446"/>
                  <a:pt x="21791" y="4794"/>
                  <a:pt x="22002" y="4887"/>
                </a:cubicBezTo>
                <a:cubicBezTo>
                  <a:pt x="22149" y="4951"/>
                  <a:pt x="22325" y="4789"/>
                  <a:pt x="22423" y="47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34160" y="1509840"/>
            <a:ext cx="46080" cy="249120"/>
          </a:xfrm>
          <a:custGeom>
            <a:avLst/>
            <a:gdLst/>
            <a:ahLst/>
            <a:rect l="l" t="t" r="r" b="b"/>
            <a:pathLst>
              <a:path w="125" h="696">
                <a:moveTo>
                  <a:pt x="21208" y="4192"/>
                </a:moveTo>
                <a:cubicBezTo>
                  <a:pt x="21267" y="4430"/>
                  <a:pt x="21316" y="4640"/>
                  <a:pt x="21332" y="48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60760" y="5599080"/>
            <a:ext cx="3760560" cy="258840"/>
          </a:xfrm>
          <a:custGeom>
            <a:avLst/>
            <a:gdLst/>
            <a:ahLst/>
            <a:rect l="l" t="t" r="r" b="b"/>
            <a:pathLst>
              <a:path w="10444" h="720">
                <a:moveTo>
                  <a:pt x="7392" y="16098"/>
                </a:moveTo>
                <a:cubicBezTo>
                  <a:pt x="7425" y="16098"/>
                  <a:pt x="7458" y="16098"/>
                  <a:pt x="7491" y="16098"/>
                </a:cubicBezTo>
              </a:path>
              <a:path w="10444" h="720">
                <a:moveTo>
                  <a:pt x="7491" y="16098"/>
                </a:moveTo>
                <a:lnTo>
                  <a:pt x="7491" y="16098"/>
                </a:lnTo>
              </a:path>
              <a:path w="10444" h="720">
                <a:moveTo>
                  <a:pt x="8979" y="16272"/>
                </a:moveTo>
                <a:cubicBezTo>
                  <a:pt x="9203" y="16272"/>
                  <a:pt x="9262" y="16275"/>
                  <a:pt x="9401" y="16247"/>
                </a:cubicBezTo>
              </a:path>
              <a:path w="10444" h="720">
                <a:moveTo>
                  <a:pt x="14759" y="15949"/>
                </a:moveTo>
                <a:cubicBezTo>
                  <a:pt x="14957" y="15974"/>
                  <a:pt x="15024" y="15982"/>
                  <a:pt x="15156" y="15999"/>
                </a:cubicBezTo>
              </a:path>
              <a:path w="10444" h="720">
                <a:moveTo>
                  <a:pt x="17835" y="15553"/>
                </a:moveTo>
                <a:lnTo>
                  <a:pt x="17835" y="1555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20840" y="5796000"/>
            <a:ext cx="893880" cy="411120"/>
          </a:xfrm>
          <a:custGeom>
            <a:avLst/>
            <a:gdLst/>
            <a:ahLst/>
            <a:rect l="l" t="t" r="r" b="b"/>
            <a:pathLst>
              <a:path w="2482" h="1142">
                <a:moveTo>
                  <a:pt x="4142" y="16495"/>
                </a:moveTo>
                <a:cubicBezTo>
                  <a:pt x="4173" y="16556"/>
                  <a:pt x="4165" y="16437"/>
                  <a:pt x="4118" y="16421"/>
                </a:cubicBezTo>
                <a:cubicBezTo>
                  <a:pt x="3920" y="16352"/>
                  <a:pt x="3804" y="16497"/>
                  <a:pt x="3671" y="16619"/>
                </a:cubicBezTo>
                <a:cubicBezTo>
                  <a:pt x="3839" y="16655"/>
                  <a:pt x="4171" y="16630"/>
                  <a:pt x="4291" y="16768"/>
                </a:cubicBezTo>
                <a:cubicBezTo>
                  <a:pt x="4291" y="16801"/>
                  <a:pt x="4291" y="16834"/>
                  <a:pt x="4291" y="16867"/>
                </a:cubicBezTo>
                <a:cubicBezTo>
                  <a:pt x="4131" y="16965"/>
                  <a:pt x="4018" y="17056"/>
                  <a:pt x="3894" y="16917"/>
                </a:cubicBezTo>
              </a:path>
              <a:path w="2482" h="1142">
                <a:moveTo>
                  <a:pt x="4341" y="16098"/>
                </a:moveTo>
                <a:cubicBezTo>
                  <a:pt x="4397" y="16323"/>
                  <a:pt x="4466" y="16549"/>
                  <a:pt x="4539" y="16768"/>
                </a:cubicBezTo>
                <a:cubicBezTo>
                  <a:pt x="4547" y="16785"/>
                  <a:pt x="4556" y="16801"/>
                  <a:pt x="4564" y="16818"/>
                </a:cubicBezTo>
              </a:path>
              <a:path w="2482" h="1142">
                <a:moveTo>
                  <a:pt x="4961" y="16396"/>
                </a:moveTo>
                <a:cubicBezTo>
                  <a:pt x="4813" y="16396"/>
                  <a:pt x="4694" y="16490"/>
                  <a:pt x="4688" y="16669"/>
                </a:cubicBezTo>
                <a:cubicBezTo>
                  <a:pt x="4679" y="16944"/>
                  <a:pt x="5000" y="16928"/>
                  <a:pt x="5110" y="16743"/>
                </a:cubicBezTo>
                <a:cubicBezTo>
                  <a:pt x="5268" y="16476"/>
                  <a:pt x="4971" y="16524"/>
                  <a:pt x="4887" y="16446"/>
                </a:cubicBezTo>
                <a:cubicBezTo>
                  <a:pt x="4903" y="16446"/>
                  <a:pt x="4920" y="16446"/>
                  <a:pt x="4936" y="16446"/>
                </a:cubicBezTo>
              </a:path>
              <a:path w="2482" h="1142">
                <a:moveTo>
                  <a:pt x="5333" y="16644"/>
                </a:moveTo>
                <a:cubicBezTo>
                  <a:pt x="5369" y="16833"/>
                  <a:pt x="5436" y="17025"/>
                  <a:pt x="5457" y="17214"/>
                </a:cubicBezTo>
                <a:cubicBezTo>
                  <a:pt x="5457" y="17239"/>
                  <a:pt x="5457" y="17247"/>
                  <a:pt x="5457" y="17214"/>
                </a:cubicBezTo>
              </a:path>
              <a:path w="2482" h="1142">
                <a:moveTo>
                  <a:pt x="5085" y="16446"/>
                </a:moveTo>
                <a:cubicBezTo>
                  <a:pt x="5281" y="16387"/>
                  <a:pt x="5589" y="16347"/>
                  <a:pt x="5705" y="16594"/>
                </a:cubicBezTo>
                <a:cubicBezTo>
                  <a:pt x="5765" y="16721"/>
                  <a:pt x="5516" y="16790"/>
                  <a:pt x="5457" y="16818"/>
                </a:cubicBezTo>
                <a:cubicBezTo>
                  <a:pt x="5383" y="16793"/>
                  <a:pt x="5358" y="16784"/>
                  <a:pt x="5407" y="16718"/>
                </a:cubicBezTo>
              </a:path>
              <a:path w="2482" h="1142">
                <a:moveTo>
                  <a:pt x="5879" y="16495"/>
                </a:moveTo>
                <a:cubicBezTo>
                  <a:pt x="5962" y="16476"/>
                  <a:pt x="6058" y="16485"/>
                  <a:pt x="6127" y="16446"/>
                </a:cubicBezTo>
                <a:cubicBezTo>
                  <a:pt x="6025" y="16412"/>
                  <a:pt x="5937" y="16316"/>
                  <a:pt x="5829" y="16421"/>
                </a:cubicBezTo>
                <a:cubicBezTo>
                  <a:pt x="5665" y="16580"/>
                  <a:pt x="5795" y="16771"/>
                  <a:pt x="6003" y="16718"/>
                </a:cubicBezTo>
                <a:cubicBezTo>
                  <a:pt x="6053" y="16693"/>
                  <a:pt x="6102" y="16669"/>
                  <a:pt x="6152" y="166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5040" y="5813280"/>
            <a:ext cx="233280" cy="196920"/>
          </a:xfrm>
          <a:custGeom>
            <a:avLst/>
            <a:gdLst/>
            <a:ahLst/>
            <a:rect l="l" t="t" r="r" b="b"/>
            <a:pathLst>
              <a:path w="646" h="547">
                <a:moveTo>
                  <a:pt x="7516" y="16297"/>
                </a:moveTo>
                <a:cubicBezTo>
                  <a:pt x="7528" y="16436"/>
                  <a:pt x="7554" y="16558"/>
                  <a:pt x="7590" y="16694"/>
                </a:cubicBezTo>
              </a:path>
              <a:path w="646" h="547">
                <a:moveTo>
                  <a:pt x="7863" y="16148"/>
                </a:moveTo>
                <a:cubicBezTo>
                  <a:pt x="7804" y="16187"/>
                  <a:pt x="7792" y="16191"/>
                  <a:pt x="7764" y="16222"/>
                </a:cubicBezTo>
                <a:cubicBezTo>
                  <a:pt x="7855" y="16305"/>
                  <a:pt x="8121" y="16300"/>
                  <a:pt x="8161" y="16421"/>
                </a:cubicBezTo>
                <a:cubicBezTo>
                  <a:pt x="8230" y="16628"/>
                  <a:pt x="7901" y="16586"/>
                  <a:pt x="7838" y="165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87800" y="5742000"/>
            <a:ext cx="544320" cy="231840"/>
          </a:xfrm>
          <a:custGeom>
            <a:avLst/>
            <a:gdLst/>
            <a:ahLst/>
            <a:rect l="l" t="t" r="r" b="b"/>
            <a:pathLst>
              <a:path w="1514" h="646">
                <a:moveTo>
                  <a:pt x="9153" y="16346"/>
                </a:moveTo>
                <a:cubicBezTo>
                  <a:pt x="9178" y="16412"/>
                  <a:pt x="9260" y="16562"/>
                  <a:pt x="9227" y="16594"/>
                </a:cubicBezTo>
              </a:path>
              <a:path w="1514" h="646">
                <a:moveTo>
                  <a:pt x="9401" y="15999"/>
                </a:moveTo>
                <a:cubicBezTo>
                  <a:pt x="9446" y="16177"/>
                  <a:pt x="9492" y="16346"/>
                  <a:pt x="9550" y="16520"/>
                </a:cubicBezTo>
                <a:cubicBezTo>
                  <a:pt x="9550" y="16420"/>
                  <a:pt x="9546" y="16278"/>
                  <a:pt x="9674" y="16247"/>
                </a:cubicBezTo>
                <a:cubicBezTo>
                  <a:pt x="9892" y="16194"/>
                  <a:pt x="9945" y="16357"/>
                  <a:pt x="9996" y="16520"/>
                </a:cubicBezTo>
              </a:path>
              <a:path w="1514" h="646">
                <a:moveTo>
                  <a:pt x="10071" y="16222"/>
                </a:moveTo>
                <a:cubicBezTo>
                  <a:pt x="10121" y="16206"/>
                  <a:pt x="10438" y="16117"/>
                  <a:pt x="10344" y="15999"/>
                </a:cubicBezTo>
                <a:cubicBezTo>
                  <a:pt x="10319" y="15991"/>
                  <a:pt x="10294" y="15982"/>
                  <a:pt x="10269" y="15974"/>
                </a:cubicBezTo>
                <a:cubicBezTo>
                  <a:pt x="10115" y="16183"/>
                  <a:pt x="10072" y="16272"/>
                  <a:pt x="10244" y="16470"/>
                </a:cubicBezTo>
                <a:cubicBezTo>
                  <a:pt x="10351" y="16391"/>
                  <a:pt x="10386" y="16357"/>
                  <a:pt x="10368" y="16247"/>
                </a:cubicBezTo>
              </a:path>
              <a:path w="1514" h="646">
                <a:moveTo>
                  <a:pt x="8855" y="15974"/>
                </a:moveTo>
                <a:cubicBezTo>
                  <a:pt x="8855" y="15966"/>
                  <a:pt x="8855" y="15957"/>
                  <a:pt x="8855" y="15949"/>
                </a:cubicBezTo>
                <a:cubicBezTo>
                  <a:pt x="8966" y="15949"/>
                  <a:pt x="9001" y="16174"/>
                  <a:pt x="9029" y="16247"/>
                </a:cubicBezTo>
                <a:cubicBezTo>
                  <a:pt x="9090" y="16412"/>
                  <a:pt x="9106" y="16442"/>
                  <a:pt x="9128" y="165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54320" y="5680080"/>
            <a:ext cx="803520" cy="428760"/>
          </a:xfrm>
          <a:custGeom>
            <a:avLst/>
            <a:gdLst/>
            <a:ahLst/>
            <a:rect l="l" t="t" r="r" b="b"/>
            <a:pathLst>
              <a:path w="2234" h="1191">
                <a:moveTo>
                  <a:pt x="11584" y="16321"/>
                </a:moveTo>
                <a:cubicBezTo>
                  <a:pt x="11549" y="16212"/>
                  <a:pt x="11550" y="16202"/>
                  <a:pt x="11485" y="16098"/>
                </a:cubicBezTo>
                <a:cubicBezTo>
                  <a:pt x="11380" y="16153"/>
                  <a:pt x="11070" y="16422"/>
                  <a:pt x="11311" y="16570"/>
                </a:cubicBezTo>
                <a:cubicBezTo>
                  <a:pt x="11490" y="16680"/>
                  <a:pt x="11528" y="16389"/>
                  <a:pt x="11559" y="16297"/>
                </a:cubicBezTo>
                <a:cubicBezTo>
                  <a:pt x="11597" y="16366"/>
                  <a:pt x="11652" y="16533"/>
                  <a:pt x="11757" y="16545"/>
                </a:cubicBezTo>
                <a:cubicBezTo>
                  <a:pt x="11905" y="16562"/>
                  <a:pt x="11930" y="16333"/>
                  <a:pt x="11956" y="16247"/>
                </a:cubicBezTo>
                <a:cubicBezTo>
                  <a:pt x="11968" y="16319"/>
                  <a:pt x="11976" y="16370"/>
                  <a:pt x="11981" y="16446"/>
                </a:cubicBezTo>
                <a:cubicBezTo>
                  <a:pt x="11960" y="16259"/>
                  <a:pt x="11948" y="16189"/>
                  <a:pt x="12055" y="16049"/>
                </a:cubicBezTo>
                <a:cubicBezTo>
                  <a:pt x="12257" y="16154"/>
                  <a:pt x="12338" y="16205"/>
                  <a:pt x="12378" y="16446"/>
                </a:cubicBezTo>
              </a:path>
              <a:path w="2234" h="1191">
                <a:moveTo>
                  <a:pt x="12725" y="15999"/>
                </a:moveTo>
                <a:cubicBezTo>
                  <a:pt x="12695" y="16029"/>
                  <a:pt x="12249" y="16568"/>
                  <a:pt x="12551" y="16470"/>
                </a:cubicBezTo>
                <a:cubicBezTo>
                  <a:pt x="12743" y="16407"/>
                  <a:pt x="12707" y="16242"/>
                  <a:pt x="12700" y="16098"/>
                </a:cubicBezTo>
                <a:cubicBezTo>
                  <a:pt x="12735" y="16354"/>
                  <a:pt x="12899" y="16620"/>
                  <a:pt x="12750" y="16867"/>
                </a:cubicBezTo>
                <a:cubicBezTo>
                  <a:pt x="12615" y="17091"/>
                  <a:pt x="12506" y="16923"/>
                  <a:pt x="12427" y="16818"/>
                </a:cubicBezTo>
              </a:path>
              <a:path w="2234" h="1191">
                <a:moveTo>
                  <a:pt x="12874" y="15776"/>
                </a:moveTo>
                <a:cubicBezTo>
                  <a:pt x="12938" y="16038"/>
                  <a:pt x="12767" y="16657"/>
                  <a:pt x="13022" y="16570"/>
                </a:cubicBezTo>
                <a:cubicBezTo>
                  <a:pt x="13030" y="16545"/>
                  <a:pt x="13039" y="16520"/>
                  <a:pt x="13047" y="16495"/>
                </a:cubicBezTo>
              </a:path>
              <a:path w="2234" h="1191">
                <a:moveTo>
                  <a:pt x="13122" y="16222"/>
                </a:moveTo>
                <a:cubicBezTo>
                  <a:pt x="13183" y="16213"/>
                  <a:pt x="13415" y="16233"/>
                  <a:pt x="13444" y="16222"/>
                </a:cubicBezTo>
                <a:cubicBezTo>
                  <a:pt x="13513" y="16194"/>
                  <a:pt x="13358" y="16037"/>
                  <a:pt x="13345" y="16024"/>
                </a:cubicBezTo>
                <a:cubicBezTo>
                  <a:pt x="13291" y="16110"/>
                  <a:pt x="13029" y="16505"/>
                  <a:pt x="13295" y="16545"/>
                </a:cubicBezTo>
                <a:cubicBezTo>
                  <a:pt x="13361" y="16528"/>
                  <a:pt x="13428" y="16512"/>
                  <a:pt x="13494" y="164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60960" y="5643720"/>
            <a:ext cx="241200" cy="241200"/>
          </a:xfrm>
          <a:custGeom>
            <a:avLst/>
            <a:gdLst/>
            <a:ahLst/>
            <a:rect l="l" t="t" r="r" b="b"/>
            <a:pathLst>
              <a:path w="671" h="670">
                <a:moveTo>
                  <a:pt x="14585" y="15850"/>
                </a:moveTo>
                <a:cubicBezTo>
                  <a:pt x="14436" y="15999"/>
                  <a:pt x="14394" y="16068"/>
                  <a:pt x="14337" y="16272"/>
                </a:cubicBezTo>
                <a:cubicBezTo>
                  <a:pt x="14471" y="16338"/>
                  <a:pt x="14863" y="16354"/>
                  <a:pt x="14734" y="16049"/>
                </a:cubicBezTo>
                <a:cubicBezTo>
                  <a:pt x="14697" y="15961"/>
                  <a:pt x="14603" y="15992"/>
                  <a:pt x="14536" y="15925"/>
                </a:cubicBezTo>
              </a:path>
              <a:path w="671" h="670">
                <a:moveTo>
                  <a:pt x="15007" y="15677"/>
                </a:moveTo>
                <a:cubicBezTo>
                  <a:pt x="14829" y="15841"/>
                  <a:pt x="14877" y="16003"/>
                  <a:pt x="14932" y="16247"/>
                </a:cubicBezTo>
                <a:cubicBezTo>
                  <a:pt x="14940" y="16280"/>
                  <a:pt x="14949" y="16313"/>
                  <a:pt x="14957" y="163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69000" y="5724360"/>
            <a:ext cx="285840" cy="150840"/>
          </a:xfrm>
          <a:custGeom>
            <a:avLst/>
            <a:gdLst/>
            <a:ahLst/>
            <a:rect l="l" t="t" r="r" b="b"/>
            <a:pathLst>
              <a:path w="795" h="422">
                <a:moveTo>
                  <a:pt x="16371" y="15999"/>
                </a:moveTo>
                <a:cubicBezTo>
                  <a:pt x="16296" y="15974"/>
                  <a:pt x="16304" y="15825"/>
                  <a:pt x="16173" y="15949"/>
                </a:cubicBezTo>
                <a:cubicBezTo>
                  <a:pt x="16061" y="16106"/>
                  <a:pt x="16023" y="16143"/>
                  <a:pt x="16024" y="16272"/>
                </a:cubicBezTo>
                <a:cubicBezTo>
                  <a:pt x="16040" y="16288"/>
                  <a:pt x="16057" y="16305"/>
                  <a:pt x="16073" y="16321"/>
                </a:cubicBezTo>
                <a:cubicBezTo>
                  <a:pt x="16250" y="16218"/>
                  <a:pt x="16307" y="16171"/>
                  <a:pt x="16396" y="15974"/>
                </a:cubicBezTo>
                <a:cubicBezTo>
                  <a:pt x="16431" y="16058"/>
                  <a:pt x="16487" y="16347"/>
                  <a:pt x="16644" y="16222"/>
                </a:cubicBezTo>
                <a:cubicBezTo>
                  <a:pt x="16702" y="16156"/>
                  <a:pt x="16760" y="16090"/>
                  <a:pt x="16818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96040" y="5581800"/>
            <a:ext cx="588960" cy="258480"/>
          </a:xfrm>
          <a:custGeom>
            <a:avLst/>
            <a:gdLst/>
            <a:ahLst/>
            <a:rect l="l" t="t" r="r" b="b"/>
            <a:pathLst>
              <a:path w="1638" h="720">
                <a:moveTo>
                  <a:pt x="17487" y="15503"/>
                </a:moveTo>
                <a:cubicBezTo>
                  <a:pt x="17512" y="15727"/>
                  <a:pt x="17470" y="15983"/>
                  <a:pt x="17537" y="16197"/>
                </a:cubicBezTo>
                <a:cubicBezTo>
                  <a:pt x="17583" y="16347"/>
                  <a:pt x="17855" y="16075"/>
                  <a:pt x="17859" y="16073"/>
                </a:cubicBezTo>
              </a:path>
              <a:path w="1638" h="720">
                <a:moveTo>
                  <a:pt x="17983" y="15801"/>
                </a:moveTo>
                <a:cubicBezTo>
                  <a:pt x="17995" y="15928"/>
                  <a:pt x="18018" y="16053"/>
                  <a:pt x="18058" y="16173"/>
                </a:cubicBezTo>
                <a:cubicBezTo>
                  <a:pt x="18164" y="16137"/>
                  <a:pt x="18207" y="16101"/>
                  <a:pt x="18231" y="15999"/>
                </a:cubicBezTo>
              </a:path>
              <a:path w="1638" h="720">
                <a:moveTo>
                  <a:pt x="18256" y="15850"/>
                </a:moveTo>
                <a:cubicBezTo>
                  <a:pt x="18256" y="15852"/>
                  <a:pt x="18281" y="16204"/>
                  <a:pt x="18281" y="16123"/>
                </a:cubicBezTo>
                <a:cubicBezTo>
                  <a:pt x="18274" y="15999"/>
                  <a:pt x="18202" y="15806"/>
                  <a:pt x="18380" y="15776"/>
                </a:cubicBezTo>
                <a:cubicBezTo>
                  <a:pt x="18660" y="15728"/>
                  <a:pt x="18672" y="16003"/>
                  <a:pt x="18653" y="16197"/>
                </a:cubicBezTo>
                <a:cubicBezTo>
                  <a:pt x="18653" y="16205"/>
                  <a:pt x="18653" y="16214"/>
                  <a:pt x="18653" y="16222"/>
                </a:cubicBezTo>
              </a:path>
              <a:path w="1638" h="720">
                <a:moveTo>
                  <a:pt x="18777" y="15900"/>
                </a:moveTo>
                <a:cubicBezTo>
                  <a:pt x="18852" y="15909"/>
                  <a:pt x="18924" y="15925"/>
                  <a:pt x="19000" y="15925"/>
                </a:cubicBezTo>
                <a:cubicBezTo>
                  <a:pt x="19000" y="15872"/>
                  <a:pt x="19016" y="15751"/>
                  <a:pt x="18926" y="15751"/>
                </a:cubicBezTo>
                <a:cubicBezTo>
                  <a:pt x="18747" y="15751"/>
                  <a:pt x="18626" y="15985"/>
                  <a:pt x="18752" y="16123"/>
                </a:cubicBezTo>
                <a:cubicBezTo>
                  <a:pt x="18906" y="16292"/>
                  <a:pt x="19005" y="16144"/>
                  <a:pt x="19124" y="160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20960" y="6081840"/>
            <a:ext cx="1706760" cy="598320"/>
          </a:xfrm>
          <a:custGeom>
            <a:avLst/>
            <a:gdLst/>
            <a:ahLst/>
            <a:rect l="l" t="t" r="r" b="b"/>
            <a:pathLst>
              <a:path w="4739" h="1663">
                <a:moveTo>
                  <a:pt x="7838" y="18554"/>
                </a:moveTo>
                <a:cubicBezTo>
                  <a:pt x="7861" y="18537"/>
                  <a:pt x="7883" y="18518"/>
                  <a:pt x="7913" y="18504"/>
                </a:cubicBezTo>
                <a:cubicBezTo>
                  <a:pt x="7991" y="18467"/>
                  <a:pt x="8076" y="18438"/>
                  <a:pt x="8161" y="18405"/>
                </a:cubicBezTo>
                <a:cubicBezTo>
                  <a:pt x="8251" y="18370"/>
                  <a:pt x="8341" y="18334"/>
                  <a:pt x="8434" y="18306"/>
                </a:cubicBezTo>
                <a:cubicBezTo>
                  <a:pt x="8539" y="18274"/>
                  <a:pt x="8655" y="18248"/>
                  <a:pt x="8756" y="18207"/>
                </a:cubicBezTo>
                <a:cubicBezTo>
                  <a:pt x="8828" y="18178"/>
                  <a:pt x="8856" y="18177"/>
                  <a:pt x="8930" y="18157"/>
                </a:cubicBezTo>
                <a:cubicBezTo>
                  <a:pt x="8970" y="18146"/>
                  <a:pt x="9003" y="18133"/>
                  <a:pt x="9054" y="18132"/>
                </a:cubicBezTo>
                <a:cubicBezTo>
                  <a:pt x="9196" y="18129"/>
                  <a:pt x="9339" y="18163"/>
                  <a:pt x="9475" y="18157"/>
                </a:cubicBezTo>
                <a:cubicBezTo>
                  <a:pt x="9518" y="18155"/>
                  <a:pt x="9573" y="18139"/>
                  <a:pt x="9624" y="18132"/>
                </a:cubicBezTo>
                <a:cubicBezTo>
                  <a:pt x="9677" y="18124"/>
                  <a:pt x="9728" y="18094"/>
                  <a:pt x="9773" y="18083"/>
                </a:cubicBezTo>
                <a:cubicBezTo>
                  <a:pt x="9836" y="18068"/>
                  <a:pt x="9882" y="18057"/>
                  <a:pt x="9947" y="18033"/>
                </a:cubicBezTo>
                <a:cubicBezTo>
                  <a:pt x="10004" y="18012"/>
                  <a:pt x="10063" y="17987"/>
                  <a:pt x="10120" y="17959"/>
                </a:cubicBezTo>
                <a:cubicBezTo>
                  <a:pt x="10178" y="17931"/>
                  <a:pt x="10217" y="17889"/>
                  <a:pt x="10269" y="17859"/>
                </a:cubicBezTo>
                <a:cubicBezTo>
                  <a:pt x="10305" y="17838"/>
                  <a:pt x="10352" y="17795"/>
                  <a:pt x="10368" y="17785"/>
                </a:cubicBezTo>
                <a:cubicBezTo>
                  <a:pt x="10425" y="17750"/>
                  <a:pt x="10485" y="17741"/>
                  <a:pt x="10542" y="17711"/>
                </a:cubicBezTo>
                <a:cubicBezTo>
                  <a:pt x="10596" y="17682"/>
                  <a:pt x="10636" y="17656"/>
                  <a:pt x="10691" y="17636"/>
                </a:cubicBezTo>
                <a:cubicBezTo>
                  <a:pt x="10765" y="17609"/>
                  <a:pt x="10838" y="17603"/>
                  <a:pt x="10914" y="17587"/>
                </a:cubicBezTo>
                <a:cubicBezTo>
                  <a:pt x="10979" y="17573"/>
                  <a:pt x="11080" y="17543"/>
                  <a:pt x="11137" y="17537"/>
                </a:cubicBezTo>
                <a:cubicBezTo>
                  <a:pt x="11242" y="17527"/>
                  <a:pt x="11417" y="17517"/>
                  <a:pt x="11485" y="17512"/>
                </a:cubicBezTo>
                <a:cubicBezTo>
                  <a:pt x="11568" y="17506"/>
                  <a:pt x="11601" y="17513"/>
                  <a:pt x="11658" y="17487"/>
                </a:cubicBezTo>
                <a:cubicBezTo>
                  <a:pt x="11691" y="17472"/>
                  <a:pt x="11717" y="17449"/>
                  <a:pt x="11733" y="17438"/>
                </a:cubicBezTo>
                <a:cubicBezTo>
                  <a:pt x="11793" y="17398"/>
                  <a:pt x="11848" y="17356"/>
                  <a:pt x="11906" y="17314"/>
                </a:cubicBezTo>
                <a:cubicBezTo>
                  <a:pt x="11943" y="17287"/>
                  <a:pt x="12002" y="17248"/>
                  <a:pt x="12055" y="17214"/>
                </a:cubicBezTo>
                <a:cubicBezTo>
                  <a:pt x="12110" y="17178"/>
                  <a:pt x="12172" y="17146"/>
                  <a:pt x="12229" y="17115"/>
                </a:cubicBezTo>
                <a:cubicBezTo>
                  <a:pt x="12287" y="17083"/>
                  <a:pt x="12309" y="17044"/>
                  <a:pt x="12353" y="17016"/>
                </a:cubicBezTo>
                <a:cubicBezTo>
                  <a:pt x="12383" y="16997"/>
                  <a:pt x="12446" y="16984"/>
                  <a:pt x="12477" y="16966"/>
                </a:cubicBezTo>
                <a:cubicBezTo>
                  <a:pt x="12512" y="16945"/>
                  <a:pt x="12554" y="16935"/>
                  <a:pt x="12576" y="16917"/>
                </a:cubicBezTo>
                <a:cubicBezTo>
                  <a:pt x="12576" y="16909"/>
                  <a:pt x="12576" y="16900"/>
                  <a:pt x="12576" y="168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90760" y="6313320"/>
            <a:ext cx="144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4142" y="17537"/>
                </a:moveTo>
                <a:cubicBezTo>
                  <a:pt x="4142" y="17545"/>
                  <a:pt x="4142" y="17554"/>
                  <a:pt x="4142" y="175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82840" y="6242040"/>
            <a:ext cx="1125360" cy="366840"/>
          </a:xfrm>
          <a:custGeom>
            <a:avLst/>
            <a:gdLst/>
            <a:ahLst/>
            <a:rect l="l" t="t" r="r" b="b"/>
            <a:pathLst>
              <a:path w="3126" h="1018">
                <a:moveTo>
                  <a:pt x="4118" y="17562"/>
                </a:moveTo>
                <a:cubicBezTo>
                  <a:pt x="4151" y="17527"/>
                  <a:pt x="4118" y="17661"/>
                  <a:pt x="4118" y="17735"/>
                </a:cubicBezTo>
                <a:cubicBezTo>
                  <a:pt x="4118" y="17797"/>
                  <a:pt x="4109" y="17812"/>
                  <a:pt x="4142" y="17835"/>
                </a:cubicBezTo>
              </a:path>
              <a:path w="3126" h="1018">
                <a:moveTo>
                  <a:pt x="4242" y="17487"/>
                </a:moveTo>
                <a:cubicBezTo>
                  <a:pt x="4250" y="17590"/>
                  <a:pt x="4280" y="17684"/>
                  <a:pt x="4291" y="17785"/>
                </a:cubicBezTo>
              </a:path>
              <a:path w="3126" h="1018">
                <a:moveTo>
                  <a:pt x="4787" y="17562"/>
                </a:moveTo>
                <a:cubicBezTo>
                  <a:pt x="4787" y="17802"/>
                  <a:pt x="4733" y="18071"/>
                  <a:pt x="4762" y="18306"/>
                </a:cubicBezTo>
                <a:cubicBezTo>
                  <a:pt x="4770" y="18322"/>
                  <a:pt x="4779" y="18339"/>
                  <a:pt x="4787" y="18355"/>
                </a:cubicBezTo>
                <a:cubicBezTo>
                  <a:pt x="4894" y="18347"/>
                  <a:pt x="4980" y="18349"/>
                  <a:pt x="5035" y="18256"/>
                </a:cubicBezTo>
              </a:path>
              <a:path w="3126" h="1018">
                <a:moveTo>
                  <a:pt x="4539" y="17909"/>
                </a:moveTo>
                <a:cubicBezTo>
                  <a:pt x="4707" y="17909"/>
                  <a:pt x="4937" y="17870"/>
                  <a:pt x="5085" y="17934"/>
                </a:cubicBezTo>
              </a:path>
              <a:path w="3126" h="1018">
                <a:moveTo>
                  <a:pt x="5135" y="17934"/>
                </a:moveTo>
                <a:cubicBezTo>
                  <a:pt x="5117" y="18065"/>
                  <a:pt x="5143" y="18172"/>
                  <a:pt x="5159" y="18306"/>
                </a:cubicBezTo>
                <a:cubicBezTo>
                  <a:pt x="5129" y="18198"/>
                  <a:pt x="5075" y="18070"/>
                  <a:pt x="5159" y="17959"/>
                </a:cubicBezTo>
                <a:cubicBezTo>
                  <a:pt x="5200" y="17905"/>
                  <a:pt x="5277" y="17873"/>
                  <a:pt x="5333" y="17859"/>
                </a:cubicBezTo>
              </a:path>
              <a:path w="3126" h="1018">
                <a:moveTo>
                  <a:pt x="5457" y="17934"/>
                </a:moveTo>
                <a:cubicBezTo>
                  <a:pt x="5520" y="17946"/>
                  <a:pt x="5656" y="17994"/>
                  <a:pt x="5705" y="17934"/>
                </a:cubicBezTo>
                <a:cubicBezTo>
                  <a:pt x="5725" y="17893"/>
                  <a:pt x="5734" y="17887"/>
                  <a:pt x="5730" y="17859"/>
                </a:cubicBezTo>
                <a:cubicBezTo>
                  <a:pt x="5650" y="17797"/>
                  <a:pt x="5547" y="17805"/>
                  <a:pt x="5482" y="17909"/>
                </a:cubicBezTo>
                <a:cubicBezTo>
                  <a:pt x="5407" y="18029"/>
                  <a:pt x="5400" y="18154"/>
                  <a:pt x="5407" y="18281"/>
                </a:cubicBezTo>
                <a:cubicBezTo>
                  <a:pt x="5635" y="18343"/>
                  <a:pt x="5665" y="18234"/>
                  <a:pt x="5804" y="18058"/>
                </a:cubicBezTo>
              </a:path>
              <a:path w="3126" h="1018">
                <a:moveTo>
                  <a:pt x="5854" y="17909"/>
                </a:moveTo>
                <a:cubicBezTo>
                  <a:pt x="5846" y="17971"/>
                  <a:pt x="5829" y="18250"/>
                  <a:pt x="5829" y="18231"/>
                </a:cubicBezTo>
                <a:cubicBezTo>
                  <a:pt x="5829" y="18084"/>
                  <a:pt x="5764" y="17991"/>
                  <a:pt x="5904" y="17884"/>
                </a:cubicBezTo>
                <a:cubicBezTo>
                  <a:pt x="6103" y="17732"/>
                  <a:pt x="6222" y="17952"/>
                  <a:pt x="6226" y="18132"/>
                </a:cubicBezTo>
                <a:cubicBezTo>
                  <a:pt x="6207" y="18206"/>
                  <a:pt x="6199" y="18213"/>
                  <a:pt x="6201" y="18256"/>
                </a:cubicBezTo>
              </a:path>
              <a:path w="3126" h="1018">
                <a:moveTo>
                  <a:pt x="6796" y="17959"/>
                </a:moveTo>
                <a:cubicBezTo>
                  <a:pt x="6796" y="17897"/>
                  <a:pt x="6803" y="17825"/>
                  <a:pt x="6722" y="17810"/>
                </a:cubicBezTo>
                <a:cubicBezTo>
                  <a:pt x="6535" y="17775"/>
                  <a:pt x="6372" y="17971"/>
                  <a:pt x="6325" y="18132"/>
                </a:cubicBezTo>
                <a:cubicBezTo>
                  <a:pt x="6243" y="18413"/>
                  <a:pt x="6617" y="18336"/>
                  <a:pt x="6722" y="18207"/>
                </a:cubicBezTo>
                <a:cubicBezTo>
                  <a:pt x="6747" y="18149"/>
                  <a:pt x="6771" y="18091"/>
                  <a:pt x="6796" y="18033"/>
                </a:cubicBezTo>
              </a:path>
              <a:path w="3126" h="1018">
                <a:moveTo>
                  <a:pt x="6747" y="17338"/>
                </a:moveTo>
                <a:cubicBezTo>
                  <a:pt x="6778" y="17586"/>
                  <a:pt x="6811" y="17855"/>
                  <a:pt x="6796" y="18107"/>
                </a:cubicBezTo>
                <a:cubicBezTo>
                  <a:pt x="6790" y="18198"/>
                  <a:pt x="6782" y="18346"/>
                  <a:pt x="6796" y="18256"/>
                </a:cubicBezTo>
              </a:path>
              <a:path w="3126" h="1018">
                <a:moveTo>
                  <a:pt x="7144" y="17462"/>
                </a:moveTo>
                <a:cubicBezTo>
                  <a:pt x="7127" y="17553"/>
                  <a:pt x="7087" y="17710"/>
                  <a:pt x="7119" y="17711"/>
                </a:cubicBezTo>
              </a:path>
              <a:path w="3126" h="1018">
                <a:moveTo>
                  <a:pt x="7243" y="17487"/>
                </a:moveTo>
                <a:cubicBezTo>
                  <a:pt x="7243" y="17578"/>
                  <a:pt x="7243" y="17669"/>
                  <a:pt x="7243" y="177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27720" y="6259680"/>
            <a:ext cx="1179360" cy="411120"/>
          </a:xfrm>
          <a:custGeom>
            <a:avLst/>
            <a:gdLst/>
            <a:ahLst/>
            <a:rect l="l" t="t" r="r" b="b"/>
            <a:pathLst>
              <a:path w="3275" h="1142">
                <a:moveTo>
                  <a:pt x="12601" y="17959"/>
                </a:moveTo>
                <a:cubicBezTo>
                  <a:pt x="12655" y="17941"/>
                  <a:pt x="12620" y="17934"/>
                  <a:pt x="12601" y="18008"/>
                </a:cubicBezTo>
                <a:cubicBezTo>
                  <a:pt x="12571" y="18128"/>
                  <a:pt x="12581" y="18322"/>
                  <a:pt x="12774" y="18207"/>
                </a:cubicBezTo>
                <a:cubicBezTo>
                  <a:pt x="12807" y="18174"/>
                  <a:pt x="12841" y="18140"/>
                  <a:pt x="12874" y="18107"/>
                </a:cubicBezTo>
                <a:cubicBezTo>
                  <a:pt x="12890" y="18082"/>
                  <a:pt x="12907" y="18058"/>
                  <a:pt x="12923" y="18033"/>
                </a:cubicBezTo>
                <a:cubicBezTo>
                  <a:pt x="12911" y="18107"/>
                  <a:pt x="12870" y="18210"/>
                  <a:pt x="13022" y="18182"/>
                </a:cubicBezTo>
                <a:cubicBezTo>
                  <a:pt x="13110" y="18166"/>
                  <a:pt x="13163" y="18091"/>
                  <a:pt x="13221" y="18033"/>
                </a:cubicBezTo>
                <a:cubicBezTo>
                  <a:pt x="13186" y="18197"/>
                  <a:pt x="13159" y="18361"/>
                  <a:pt x="13146" y="18529"/>
                </a:cubicBezTo>
                <a:cubicBezTo>
                  <a:pt x="13146" y="18328"/>
                  <a:pt x="13116" y="18093"/>
                  <a:pt x="13271" y="17934"/>
                </a:cubicBezTo>
                <a:cubicBezTo>
                  <a:pt x="13461" y="17739"/>
                  <a:pt x="13508" y="17931"/>
                  <a:pt x="13543" y="18058"/>
                </a:cubicBezTo>
                <a:cubicBezTo>
                  <a:pt x="13454" y="18117"/>
                  <a:pt x="13393" y="18191"/>
                  <a:pt x="13295" y="18132"/>
                </a:cubicBezTo>
              </a:path>
              <a:path w="3275" h="1142">
                <a:moveTo>
                  <a:pt x="13692" y="17884"/>
                </a:moveTo>
                <a:cubicBezTo>
                  <a:pt x="13671" y="17984"/>
                  <a:pt x="13566" y="18206"/>
                  <a:pt x="13767" y="18157"/>
                </a:cubicBezTo>
                <a:cubicBezTo>
                  <a:pt x="13870" y="18105"/>
                  <a:pt x="13905" y="18085"/>
                  <a:pt x="13940" y="18008"/>
                </a:cubicBezTo>
                <a:cubicBezTo>
                  <a:pt x="13940" y="17886"/>
                  <a:pt x="13904" y="18120"/>
                  <a:pt x="13940" y="18157"/>
                </a:cubicBezTo>
                <a:cubicBezTo>
                  <a:pt x="14092" y="18309"/>
                  <a:pt x="14388" y="18063"/>
                  <a:pt x="14337" y="17884"/>
                </a:cubicBezTo>
                <a:cubicBezTo>
                  <a:pt x="14270" y="17817"/>
                  <a:pt x="14255" y="17792"/>
                  <a:pt x="14188" y="17810"/>
                </a:cubicBezTo>
              </a:path>
              <a:path w="3275" h="1142">
                <a:moveTo>
                  <a:pt x="14635" y="17810"/>
                </a:moveTo>
                <a:cubicBezTo>
                  <a:pt x="14514" y="17810"/>
                  <a:pt x="14450" y="17836"/>
                  <a:pt x="14387" y="17959"/>
                </a:cubicBezTo>
                <a:cubicBezTo>
                  <a:pt x="14276" y="18175"/>
                  <a:pt x="14527" y="18250"/>
                  <a:pt x="14660" y="18107"/>
                </a:cubicBezTo>
                <a:cubicBezTo>
                  <a:pt x="14720" y="18043"/>
                  <a:pt x="14686" y="17855"/>
                  <a:pt x="14660" y="17909"/>
                </a:cubicBezTo>
                <a:cubicBezTo>
                  <a:pt x="14686" y="18031"/>
                  <a:pt x="14791" y="18165"/>
                  <a:pt x="14957" y="18058"/>
                </a:cubicBezTo>
                <a:cubicBezTo>
                  <a:pt x="15048" y="17999"/>
                  <a:pt x="15032" y="17870"/>
                  <a:pt x="15032" y="18008"/>
                </a:cubicBezTo>
                <a:cubicBezTo>
                  <a:pt x="15032" y="18025"/>
                  <a:pt x="15032" y="18041"/>
                  <a:pt x="15032" y="18058"/>
                </a:cubicBezTo>
                <a:cubicBezTo>
                  <a:pt x="15115" y="17964"/>
                  <a:pt x="15121" y="17767"/>
                  <a:pt x="15255" y="17711"/>
                </a:cubicBezTo>
                <a:cubicBezTo>
                  <a:pt x="15349" y="17711"/>
                  <a:pt x="15392" y="17718"/>
                  <a:pt x="15453" y="17760"/>
                </a:cubicBezTo>
              </a:path>
              <a:path w="3275" h="1142">
                <a:moveTo>
                  <a:pt x="15701" y="17810"/>
                </a:moveTo>
                <a:cubicBezTo>
                  <a:pt x="15757" y="17735"/>
                  <a:pt x="15649" y="17705"/>
                  <a:pt x="15577" y="17735"/>
                </a:cubicBezTo>
                <a:cubicBezTo>
                  <a:pt x="15394" y="17811"/>
                  <a:pt x="15387" y="17963"/>
                  <a:pt x="15453" y="18107"/>
                </a:cubicBezTo>
                <a:cubicBezTo>
                  <a:pt x="15714" y="18035"/>
                  <a:pt x="15835" y="17851"/>
                  <a:pt x="15850" y="17562"/>
                </a:cubicBezTo>
                <a:cubicBezTo>
                  <a:pt x="15842" y="17521"/>
                  <a:pt x="15833" y="17479"/>
                  <a:pt x="15825" y="17438"/>
                </a:cubicBezTo>
                <a:cubicBezTo>
                  <a:pt x="15825" y="17321"/>
                  <a:pt x="15802" y="17845"/>
                  <a:pt x="15801" y="17909"/>
                </a:cubicBezTo>
                <a:cubicBezTo>
                  <a:pt x="15799" y="18015"/>
                  <a:pt x="15772" y="18038"/>
                  <a:pt x="15850" y="180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9920" y="274320"/>
            <a:ext cx="89740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the change occurring in a graph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Tr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5236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whether the line of each color is increasing, decreasing or constant in the graph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) 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) 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)  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)  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)  p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)  pur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91080" y="2319480"/>
            <a:ext cx="4552920" cy="4538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flipV="1">
            <a:off x="5103720" y="4946400"/>
            <a:ext cx="1516320" cy="608040"/>
          </a:xfrm>
          <a:prstGeom prst="line">
            <a:avLst/>
          </a:prstGeom>
          <a:ln w="38160">
            <a:solidFill>
              <a:srgbClr val="bbe0e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69200" y="3808440"/>
            <a:ext cx="2125440" cy="763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03720" y="5175360"/>
            <a:ext cx="1820880" cy="1517400"/>
          </a:xfrm>
          <a:prstGeom prst="line">
            <a:avLst/>
          </a:prstGeom>
          <a:ln w="38160">
            <a:solidFill>
              <a:srgbClr val="ff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799160" y="2670120"/>
            <a:ext cx="4022640" cy="37180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000560" y="2897280"/>
            <a:ext cx="455400" cy="349092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4567320"/>
            <a:ext cx="1973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62120" y="3867120"/>
            <a:ext cx="1206720" cy="1650960"/>
          </a:xfrm>
          <a:custGeom>
            <a:avLst/>
            <a:gdLst/>
            <a:ahLst/>
            <a:rect l="l" t="t" r="r" b="b"/>
            <a:pathLst>
              <a:path w="3350" h="4590">
                <a:moveTo>
                  <a:pt x="7491" y="12179"/>
                </a:moveTo>
                <a:cubicBezTo>
                  <a:pt x="7441" y="12078"/>
                  <a:pt x="7337" y="12015"/>
                  <a:pt x="7218" y="12080"/>
                </a:cubicBezTo>
                <a:cubicBezTo>
                  <a:pt x="7089" y="12151"/>
                  <a:pt x="7044" y="12531"/>
                  <a:pt x="7193" y="12601"/>
                </a:cubicBezTo>
                <a:cubicBezTo>
                  <a:pt x="7375" y="12687"/>
                  <a:pt x="7421" y="12453"/>
                  <a:pt x="7466" y="12353"/>
                </a:cubicBezTo>
              </a:path>
              <a:path w="3350" h="4590">
                <a:moveTo>
                  <a:pt x="7367" y="11658"/>
                </a:moveTo>
                <a:cubicBezTo>
                  <a:pt x="7417" y="11895"/>
                  <a:pt x="7489" y="12138"/>
                  <a:pt x="7541" y="12378"/>
                </a:cubicBezTo>
                <a:cubicBezTo>
                  <a:pt x="7560" y="12435"/>
                  <a:pt x="7568" y="12478"/>
                  <a:pt x="7565" y="12427"/>
                </a:cubicBezTo>
              </a:path>
              <a:path w="3350" h="4590">
                <a:moveTo>
                  <a:pt x="8657" y="12353"/>
                </a:moveTo>
                <a:cubicBezTo>
                  <a:pt x="8624" y="12353"/>
                  <a:pt x="8615" y="12345"/>
                  <a:pt x="8632" y="12303"/>
                </a:cubicBezTo>
              </a:path>
              <a:path w="3350" h="4590">
                <a:moveTo>
                  <a:pt x="8607" y="10740"/>
                </a:moveTo>
                <a:lnTo>
                  <a:pt x="8607" y="10740"/>
                </a:lnTo>
              </a:path>
              <a:path w="3350" h="4590">
                <a:moveTo>
                  <a:pt x="9128" y="13171"/>
                </a:moveTo>
                <a:cubicBezTo>
                  <a:pt x="9120" y="13171"/>
                  <a:pt x="9111" y="13171"/>
                  <a:pt x="9103" y="13171"/>
                </a:cubicBezTo>
              </a:path>
              <a:path w="3350" h="4590">
                <a:moveTo>
                  <a:pt x="9103" y="13171"/>
                </a:moveTo>
                <a:lnTo>
                  <a:pt x="9103" y="13171"/>
                </a:lnTo>
              </a:path>
              <a:path w="3350" h="4590">
                <a:moveTo>
                  <a:pt x="10443" y="13519"/>
                </a:moveTo>
                <a:cubicBezTo>
                  <a:pt x="10443" y="13543"/>
                  <a:pt x="10443" y="13551"/>
                  <a:pt x="10468" y="13543"/>
                </a:cubicBezTo>
              </a:path>
              <a:path w="3350" h="4590">
                <a:moveTo>
                  <a:pt x="8682" y="15329"/>
                </a:moveTo>
                <a:cubicBezTo>
                  <a:pt x="8674" y="15329"/>
                  <a:pt x="8665" y="15329"/>
                  <a:pt x="8657" y="153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77920" y="4321080"/>
            <a:ext cx="2509920" cy="689040"/>
          </a:xfrm>
          <a:custGeom>
            <a:avLst/>
            <a:gdLst/>
            <a:ahLst/>
            <a:rect l="l" t="t" r="r" b="b"/>
            <a:pathLst>
              <a:path w="6971" h="1911">
                <a:moveTo>
                  <a:pt x="3274" y="13667"/>
                </a:moveTo>
                <a:cubicBezTo>
                  <a:pt x="3451" y="13667"/>
                  <a:pt x="3618" y="13675"/>
                  <a:pt x="3795" y="13692"/>
                </a:cubicBezTo>
                <a:cubicBezTo>
                  <a:pt x="4125" y="13724"/>
                  <a:pt x="4459" y="13765"/>
                  <a:pt x="4787" y="13816"/>
                </a:cubicBezTo>
                <a:cubicBezTo>
                  <a:pt x="4862" y="13828"/>
                  <a:pt x="4986" y="13841"/>
                  <a:pt x="4911" y="13841"/>
                </a:cubicBezTo>
              </a:path>
              <a:path w="6971" h="1911">
                <a:moveTo>
                  <a:pt x="3373" y="13742"/>
                </a:moveTo>
                <a:cubicBezTo>
                  <a:pt x="3762" y="13753"/>
                  <a:pt x="4150" y="13801"/>
                  <a:pt x="4539" y="13816"/>
                </a:cubicBezTo>
                <a:cubicBezTo>
                  <a:pt x="4680" y="13822"/>
                  <a:pt x="5052" y="13841"/>
                  <a:pt x="4911" y="13841"/>
                </a:cubicBezTo>
              </a:path>
              <a:path w="6971" h="1911">
                <a:moveTo>
                  <a:pt x="3274" y="13742"/>
                </a:moveTo>
                <a:cubicBezTo>
                  <a:pt x="3744" y="13773"/>
                  <a:pt x="4221" y="13781"/>
                  <a:pt x="4688" y="13841"/>
                </a:cubicBezTo>
                <a:cubicBezTo>
                  <a:pt x="4779" y="13859"/>
                  <a:pt x="4786" y="13868"/>
                  <a:pt x="4837" y="13866"/>
                </a:cubicBezTo>
              </a:path>
              <a:path w="6971" h="1911">
                <a:moveTo>
                  <a:pt x="3373" y="13791"/>
                </a:moveTo>
                <a:cubicBezTo>
                  <a:pt x="3820" y="13815"/>
                  <a:pt x="4265" y="13816"/>
                  <a:pt x="4713" y="13816"/>
                </a:cubicBezTo>
                <a:cubicBezTo>
                  <a:pt x="4738" y="13816"/>
                  <a:pt x="4762" y="13816"/>
                  <a:pt x="4787" y="13816"/>
                </a:cubicBezTo>
              </a:path>
              <a:path w="6971" h="1911">
                <a:moveTo>
                  <a:pt x="5308" y="13246"/>
                </a:moveTo>
                <a:cubicBezTo>
                  <a:pt x="5308" y="13461"/>
                  <a:pt x="5308" y="13676"/>
                  <a:pt x="5308" y="13891"/>
                </a:cubicBezTo>
              </a:path>
              <a:path w="6971" h="1911">
                <a:moveTo>
                  <a:pt x="5606" y="13295"/>
                </a:moveTo>
                <a:cubicBezTo>
                  <a:pt x="5633" y="13473"/>
                  <a:pt x="5579" y="13656"/>
                  <a:pt x="5556" y="13841"/>
                </a:cubicBezTo>
                <a:cubicBezTo>
                  <a:pt x="5556" y="13858"/>
                  <a:pt x="5556" y="13874"/>
                  <a:pt x="5556" y="13891"/>
                </a:cubicBezTo>
                <a:cubicBezTo>
                  <a:pt x="5669" y="13908"/>
                  <a:pt x="5754" y="13916"/>
                  <a:pt x="5829" y="13841"/>
                </a:cubicBezTo>
              </a:path>
              <a:path w="6971" h="1911">
                <a:moveTo>
                  <a:pt x="5631" y="13643"/>
                </a:moveTo>
                <a:cubicBezTo>
                  <a:pt x="5730" y="13643"/>
                  <a:pt x="5829" y="13643"/>
                  <a:pt x="5928" y="13643"/>
                </a:cubicBezTo>
              </a:path>
              <a:path w="6971" h="1911">
                <a:moveTo>
                  <a:pt x="6449" y="13295"/>
                </a:moveTo>
                <a:cubicBezTo>
                  <a:pt x="6470" y="13460"/>
                  <a:pt x="6505" y="13625"/>
                  <a:pt x="6524" y="13791"/>
                </a:cubicBezTo>
                <a:cubicBezTo>
                  <a:pt x="6524" y="13808"/>
                  <a:pt x="6524" y="13824"/>
                  <a:pt x="6524" y="13841"/>
                </a:cubicBezTo>
                <a:cubicBezTo>
                  <a:pt x="6541" y="13788"/>
                  <a:pt x="6577" y="13619"/>
                  <a:pt x="6648" y="13568"/>
                </a:cubicBezTo>
                <a:cubicBezTo>
                  <a:pt x="6760" y="13545"/>
                  <a:pt x="6791" y="13530"/>
                  <a:pt x="6846" y="13593"/>
                </a:cubicBezTo>
                <a:cubicBezTo>
                  <a:pt x="6846" y="13756"/>
                  <a:pt x="6787" y="13834"/>
                  <a:pt x="6598" y="13791"/>
                </a:cubicBezTo>
                <a:cubicBezTo>
                  <a:pt x="6534" y="13760"/>
                  <a:pt x="6521" y="13737"/>
                  <a:pt x="6573" y="13667"/>
                </a:cubicBezTo>
              </a:path>
              <a:path w="6971" h="1911">
                <a:moveTo>
                  <a:pt x="7020" y="13196"/>
                </a:moveTo>
                <a:cubicBezTo>
                  <a:pt x="7020" y="13386"/>
                  <a:pt x="7020" y="13577"/>
                  <a:pt x="7020" y="13767"/>
                </a:cubicBezTo>
              </a:path>
              <a:path w="6971" h="1911">
                <a:moveTo>
                  <a:pt x="7169" y="13444"/>
                </a:moveTo>
                <a:cubicBezTo>
                  <a:pt x="7198" y="13545"/>
                  <a:pt x="7196" y="13648"/>
                  <a:pt x="7243" y="13742"/>
                </a:cubicBezTo>
                <a:cubicBezTo>
                  <a:pt x="7407" y="13709"/>
                  <a:pt x="7435" y="13644"/>
                  <a:pt x="7491" y="13494"/>
                </a:cubicBezTo>
                <a:cubicBezTo>
                  <a:pt x="7491" y="13580"/>
                  <a:pt x="7481" y="13660"/>
                  <a:pt x="7516" y="13742"/>
                </a:cubicBezTo>
                <a:cubicBezTo>
                  <a:pt x="7524" y="13750"/>
                  <a:pt x="7533" y="13759"/>
                  <a:pt x="7541" y="13767"/>
                </a:cubicBezTo>
              </a:path>
              <a:path w="6971" h="1911">
                <a:moveTo>
                  <a:pt x="7739" y="13543"/>
                </a:moveTo>
                <a:cubicBezTo>
                  <a:pt x="7792" y="13543"/>
                  <a:pt x="7836" y="13524"/>
                  <a:pt x="7888" y="13519"/>
                </a:cubicBezTo>
                <a:cubicBezTo>
                  <a:pt x="7930" y="13515"/>
                  <a:pt x="7931" y="13435"/>
                  <a:pt x="7913" y="13395"/>
                </a:cubicBezTo>
                <a:cubicBezTo>
                  <a:pt x="7905" y="13387"/>
                  <a:pt x="7896" y="13378"/>
                  <a:pt x="7888" y="13370"/>
                </a:cubicBezTo>
                <a:cubicBezTo>
                  <a:pt x="7752" y="13433"/>
                  <a:pt x="7576" y="13575"/>
                  <a:pt x="7739" y="13742"/>
                </a:cubicBezTo>
                <a:cubicBezTo>
                  <a:pt x="7883" y="13890"/>
                  <a:pt x="8064" y="13770"/>
                  <a:pt x="7987" y="13618"/>
                </a:cubicBezTo>
              </a:path>
              <a:path w="6971" h="1911">
                <a:moveTo>
                  <a:pt x="5432" y="13667"/>
                </a:moveTo>
                <a:cubicBezTo>
                  <a:pt x="5515" y="13667"/>
                  <a:pt x="5597" y="13667"/>
                  <a:pt x="5680" y="13667"/>
                </a:cubicBezTo>
              </a:path>
              <a:path w="6971" h="1911">
                <a:moveTo>
                  <a:pt x="7665" y="12204"/>
                </a:moveTo>
                <a:cubicBezTo>
                  <a:pt x="7734" y="12192"/>
                  <a:pt x="7791" y="12179"/>
                  <a:pt x="7863" y="12179"/>
                </a:cubicBezTo>
                <a:cubicBezTo>
                  <a:pt x="7888" y="12179"/>
                  <a:pt x="7896" y="12179"/>
                  <a:pt x="7913" y="12179"/>
                </a:cubicBezTo>
                <a:cubicBezTo>
                  <a:pt x="7847" y="12113"/>
                  <a:pt x="7747" y="11952"/>
                  <a:pt x="7640" y="12030"/>
                </a:cubicBezTo>
                <a:cubicBezTo>
                  <a:pt x="7499" y="12133"/>
                  <a:pt x="7566" y="12438"/>
                  <a:pt x="7714" y="12502"/>
                </a:cubicBezTo>
                <a:cubicBezTo>
                  <a:pt x="7755" y="12502"/>
                  <a:pt x="7797" y="12502"/>
                  <a:pt x="7838" y="12502"/>
                </a:cubicBezTo>
              </a:path>
              <a:path w="6971" h="1911">
                <a:moveTo>
                  <a:pt x="8210" y="12055"/>
                </a:moveTo>
                <a:cubicBezTo>
                  <a:pt x="8210" y="12093"/>
                  <a:pt x="8198" y="12049"/>
                  <a:pt x="8161" y="12005"/>
                </a:cubicBezTo>
                <a:cubicBezTo>
                  <a:pt x="8072" y="12101"/>
                  <a:pt x="7856" y="12417"/>
                  <a:pt x="8111" y="12502"/>
                </a:cubicBezTo>
                <a:cubicBezTo>
                  <a:pt x="8254" y="12478"/>
                  <a:pt x="8299" y="12472"/>
                  <a:pt x="8384" y="12427"/>
                </a:cubicBezTo>
              </a:path>
              <a:path w="6971" h="1911">
                <a:moveTo>
                  <a:pt x="9203" y="13345"/>
                </a:moveTo>
                <a:cubicBezTo>
                  <a:pt x="9247" y="13299"/>
                  <a:pt x="9228" y="13561"/>
                  <a:pt x="9227" y="13568"/>
                </a:cubicBezTo>
                <a:cubicBezTo>
                  <a:pt x="9217" y="13665"/>
                  <a:pt x="9224" y="13732"/>
                  <a:pt x="9178" y="13717"/>
                </a:cubicBezTo>
              </a:path>
              <a:path w="6971" h="1911">
                <a:moveTo>
                  <a:pt x="9426" y="13568"/>
                </a:moveTo>
                <a:cubicBezTo>
                  <a:pt x="9441" y="13639"/>
                  <a:pt x="9451" y="13674"/>
                  <a:pt x="9451" y="13742"/>
                </a:cubicBezTo>
                <a:cubicBezTo>
                  <a:pt x="9434" y="13594"/>
                  <a:pt x="9396" y="13466"/>
                  <a:pt x="9475" y="13320"/>
                </a:cubicBezTo>
                <a:cubicBezTo>
                  <a:pt x="9500" y="13295"/>
                  <a:pt x="9525" y="13271"/>
                  <a:pt x="9550" y="13246"/>
                </a:cubicBezTo>
                <a:cubicBezTo>
                  <a:pt x="9732" y="13292"/>
                  <a:pt x="9814" y="13381"/>
                  <a:pt x="9798" y="13593"/>
                </a:cubicBezTo>
                <a:cubicBezTo>
                  <a:pt x="9777" y="13677"/>
                  <a:pt x="9775" y="13696"/>
                  <a:pt x="9748" y="13742"/>
                </a:cubicBezTo>
              </a:path>
              <a:path w="6971" h="1911">
                <a:moveTo>
                  <a:pt x="10120" y="13345"/>
                </a:moveTo>
                <a:cubicBezTo>
                  <a:pt x="10120" y="13285"/>
                  <a:pt x="10116" y="13244"/>
                  <a:pt x="10096" y="13196"/>
                </a:cubicBezTo>
                <a:cubicBezTo>
                  <a:pt x="9964" y="13240"/>
                  <a:pt x="9859" y="13440"/>
                  <a:pt x="9897" y="13593"/>
                </a:cubicBezTo>
                <a:cubicBezTo>
                  <a:pt x="9944" y="13784"/>
                  <a:pt x="10163" y="13643"/>
                  <a:pt x="10244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24240" y="4367160"/>
            <a:ext cx="401760" cy="365040"/>
          </a:xfrm>
          <a:custGeom>
            <a:avLst/>
            <a:gdLst/>
            <a:ahLst/>
            <a:rect l="l" t="t" r="r" b="b"/>
            <a:pathLst>
              <a:path w="1117" h="1018">
                <a:moveTo>
                  <a:pt x="12378" y="12427"/>
                </a:moveTo>
                <a:cubicBezTo>
                  <a:pt x="12456" y="12536"/>
                  <a:pt x="12409" y="12675"/>
                  <a:pt x="12402" y="12799"/>
                </a:cubicBezTo>
                <a:cubicBezTo>
                  <a:pt x="12402" y="12816"/>
                  <a:pt x="12402" y="12832"/>
                  <a:pt x="12402" y="12849"/>
                </a:cubicBezTo>
              </a:path>
              <a:path w="1117" h="1018">
                <a:moveTo>
                  <a:pt x="12030" y="12923"/>
                </a:moveTo>
                <a:cubicBezTo>
                  <a:pt x="12180" y="13113"/>
                  <a:pt x="12360" y="13111"/>
                  <a:pt x="12601" y="13022"/>
                </a:cubicBezTo>
                <a:cubicBezTo>
                  <a:pt x="12800" y="12949"/>
                  <a:pt x="12903" y="12643"/>
                  <a:pt x="12824" y="12452"/>
                </a:cubicBezTo>
                <a:cubicBezTo>
                  <a:pt x="12736" y="12240"/>
                  <a:pt x="12385" y="12045"/>
                  <a:pt x="12154" y="12129"/>
                </a:cubicBezTo>
                <a:cubicBezTo>
                  <a:pt x="11846" y="12241"/>
                  <a:pt x="11629" y="12654"/>
                  <a:pt x="11807" y="12948"/>
                </a:cubicBezTo>
                <a:cubicBezTo>
                  <a:pt x="11966" y="13211"/>
                  <a:pt x="12211" y="13130"/>
                  <a:pt x="12427" y="13072"/>
                </a:cubicBezTo>
                <a:cubicBezTo>
                  <a:pt x="12452" y="13072"/>
                  <a:pt x="12460" y="13072"/>
                  <a:pt x="12477" y="130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55920" y="5249880"/>
            <a:ext cx="544320" cy="393840"/>
          </a:xfrm>
          <a:custGeom>
            <a:avLst/>
            <a:gdLst/>
            <a:ahLst/>
            <a:rect l="l" t="t" r="r" b="b"/>
            <a:pathLst>
              <a:path w="1514" h="1093">
                <a:moveTo>
                  <a:pt x="7218" y="15280"/>
                </a:moveTo>
                <a:cubicBezTo>
                  <a:pt x="7241" y="15347"/>
                  <a:pt x="7255" y="15261"/>
                  <a:pt x="7243" y="15230"/>
                </a:cubicBezTo>
                <a:cubicBezTo>
                  <a:pt x="7197" y="15107"/>
                  <a:pt x="7126" y="15064"/>
                  <a:pt x="7020" y="15007"/>
                </a:cubicBezTo>
                <a:cubicBezTo>
                  <a:pt x="6841" y="15265"/>
                  <a:pt x="6749" y="15419"/>
                  <a:pt x="6945" y="15677"/>
                </a:cubicBezTo>
                <a:cubicBezTo>
                  <a:pt x="7221" y="15533"/>
                  <a:pt x="7174" y="15546"/>
                  <a:pt x="7218" y="15230"/>
                </a:cubicBezTo>
              </a:path>
              <a:path w="1514" h="1093">
                <a:moveTo>
                  <a:pt x="7094" y="14585"/>
                </a:moveTo>
                <a:cubicBezTo>
                  <a:pt x="7129" y="14774"/>
                  <a:pt x="7186" y="15512"/>
                  <a:pt x="7342" y="15627"/>
                </a:cubicBezTo>
                <a:cubicBezTo>
                  <a:pt x="7342" y="15610"/>
                  <a:pt x="7342" y="15594"/>
                  <a:pt x="7342" y="15577"/>
                </a:cubicBezTo>
              </a:path>
              <a:path w="1514" h="1093">
                <a:moveTo>
                  <a:pt x="7491" y="15156"/>
                </a:moveTo>
                <a:cubicBezTo>
                  <a:pt x="7592" y="15156"/>
                  <a:pt x="7724" y="15147"/>
                  <a:pt x="7813" y="15205"/>
                </a:cubicBezTo>
                <a:cubicBezTo>
                  <a:pt x="7813" y="15230"/>
                  <a:pt x="7813" y="15238"/>
                  <a:pt x="7813" y="15205"/>
                </a:cubicBezTo>
                <a:cubicBezTo>
                  <a:pt x="7724" y="15074"/>
                  <a:pt x="7707" y="15025"/>
                  <a:pt x="7565" y="14982"/>
                </a:cubicBezTo>
                <a:cubicBezTo>
                  <a:pt x="7462" y="15147"/>
                  <a:pt x="7408" y="15389"/>
                  <a:pt x="7590" y="15553"/>
                </a:cubicBezTo>
                <a:cubicBezTo>
                  <a:pt x="7699" y="15579"/>
                  <a:pt x="7742" y="15584"/>
                  <a:pt x="7813" y="15528"/>
                </a:cubicBezTo>
              </a:path>
              <a:path w="1514" h="1093">
                <a:moveTo>
                  <a:pt x="8111" y="15106"/>
                </a:moveTo>
                <a:cubicBezTo>
                  <a:pt x="8119" y="15123"/>
                  <a:pt x="8128" y="15139"/>
                  <a:pt x="8136" y="15156"/>
                </a:cubicBezTo>
                <a:cubicBezTo>
                  <a:pt x="8188" y="15139"/>
                  <a:pt x="8174" y="14990"/>
                  <a:pt x="8111" y="14982"/>
                </a:cubicBezTo>
                <a:cubicBezTo>
                  <a:pt x="7854" y="14950"/>
                  <a:pt x="7960" y="15393"/>
                  <a:pt x="8086" y="15478"/>
                </a:cubicBezTo>
                <a:cubicBezTo>
                  <a:pt x="8210" y="15503"/>
                  <a:pt x="8251" y="15511"/>
                  <a:pt x="8334" y="154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24120" y="2741760"/>
            <a:ext cx="125280" cy="27000"/>
          </a:xfrm>
          <a:custGeom>
            <a:avLst/>
            <a:gdLst/>
            <a:ahLst/>
            <a:rect l="l" t="t" r="r" b="b"/>
            <a:pathLst>
              <a:path w="349" h="75">
                <a:moveTo>
                  <a:pt x="7615" y="7689"/>
                </a:moveTo>
                <a:cubicBezTo>
                  <a:pt x="7752" y="7646"/>
                  <a:pt x="7778" y="7634"/>
                  <a:pt x="7913" y="7665"/>
                </a:cubicBezTo>
              </a:path>
              <a:path w="349" h="75">
                <a:moveTo>
                  <a:pt x="7565" y="7615"/>
                </a:moveTo>
                <a:cubicBezTo>
                  <a:pt x="7625" y="7628"/>
                  <a:pt x="7665" y="7623"/>
                  <a:pt x="7714" y="76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62080" y="2625840"/>
            <a:ext cx="911160" cy="303120"/>
          </a:xfrm>
          <a:custGeom>
            <a:avLst/>
            <a:gdLst/>
            <a:ahLst/>
            <a:rect l="l" t="t" r="r" b="b"/>
            <a:pathLst>
              <a:path w="2531" h="844">
                <a:moveTo>
                  <a:pt x="5978" y="7789"/>
                </a:moveTo>
                <a:cubicBezTo>
                  <a:pt x="5960" y="7716"/>
                  <a:pt x="5903" y="7651"/>
                  <a:pt x="5854" y="7590"/>
                </a:cubicBezTo>
                <a:cubicBezTo>
                  <a:pt x="5714" y="7692"/>
                  <a:pt x="5660" y="7889"/>
                  <a:pt x="5779" y="8062"/>
                </a:cubicBezTo>
                <a:cubicBezTo>
                  <a:pt x="5876" y="8203"/>
                  <a:pt x="6008" y="8122"/>
                  <a:pt x="6127" y="8086"/>
                </a:cubicBezTo>
              </a:path>
              <a:path w="2531" h="844">
                <a:moveTo>
                  <a:pt x="6325" y="7565"/>
                </a:moveTo>
                <a:cubicBezTo>
                  <a:pt x="6185" y="7758"/>
                  <a:pt x="6186" y="7832"/>
                  <a:pt x="6300" y="8037"/>
                </a:cubicBezTo>
                <a:cubicBezTo>
                  <a:pt x="6459" y="8007"/>
                  <a:pt x="6628" y="7912"/>
                  <a:pt x="6449" y="7739"/>
                </a:cubicBezTo>
                <a:cubicBezTo>
                  <a:pt x="6399" y="7690"/>
                  <a:pt x="6180" y="7689"/>
                  <a:pt x="6350" y="7689"/>
                </a:cubicBezTo>
              </a:path>
              <a:path w="2531" h="844">
                <a:moveTo>
                  <a:pt x="6672" y="7938"/>
                </a:moveTo>
                <a:cubicBezTo>
                  <a:pt x="6672" y="8012"/>
                  <a:pt x="6672" y="8021"/>
                  <a:pt x="6672" y="8062"/>
                </a:cubicBezTo>
                <a:cubicBezTo>
                  <a:pt x="6662" y="7960"/>
                  <a:pt x="6608" y="7787"/>
                  <a:pt x="6722" y="7714"/>
                </a:cubicBezTo>
                <a:cubicBezTo>
                  <a:pt x="6897" y="7602"/>
                  <a:pt x="6956" y="7952"/>
                  <a:pt x="6970" y="8037"/>
                </a:cubicBezTo>
                <a:cubicBezTo>
                  <a:pt x="6970" y="8078"/>
                  <a:pt x="6970" y="8102"/>
                  <a:pt x="6970" y="8062"/>
                </a:cubicBezTo>
              </a:path>
              <a:path w="2531" h="844">
                <a:moveTo>
                  <a:pt x="7293" y="7640"/>
                </a:moveTo>
                <a:cubicBezTo>
                  <a:pt x="7198" y="7664"/>
                  <a:pt x="7168" y="7670"/>
                  <a:pt x="7119" y="7714"/>
                </a:cubicBezTo>
                <a:cubicBezTo>
                  <a:pt x="7143" y="7787"/>
                  <a:pt x="7316" y="7781"/>
                  <a:pt x="7367" y="7863"/>
                </a:cubicBezTo>
                <a:cubicBezTo>
                  <a:pt x="7489" y="8060"/>
                  <a:pt x="7132" y="7976"/>
                  <a:pt x="7069" y="7913"/>
                </a:cubicBezTo>
              </a:path>
              <a:path w="2531" h="844">
                <a:moveTo>
                  <a:pt x="7565" y="7293"/>
                </a:moveTo>
                <a:cubicBezTo>
                  <a:pt x="7565" y="7490"/>
                  <a:pt x="7477" y="7914"/>
                  <a:pt x="7590" y="8086"/>
                </a:cubicBezTo>
                <a:cubicBezTo>
                  <a:pt x="7662" y="8196"/>
                  <a:pt x="7854" y="7979"/>
                  <a:pt x="7888" y="7938"/>
                </a:cubicBezTo>
              </a:path>
              <a:path w="2531" h="844">
                <a:moveTo>
                  <a:pt x="8161" y="7863"/>
                </a:moveTo>
                <a:cubicBezTo>
                  <a:pt x="8138" y="7886"/>
                  <a:pt x="8130" y="7890"/>
                  <a:pt x="8136" y="7913"/>
                </a:cubicBezTo>
                <a:cubicBezTo>
                  <a:pt x="8178" y="7905"/>
                  <a:pt x="8297" y="7802"/>
                  <a:pt x="8235" y="7813"/>
                </a:cubicBezTo>
                <a:cubicBezTo>
                  <a:pt x="8210" y="7821"/>
                  <a:pt x="8186" y="7830"/>
                  <a:pt x="8161" y="78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51080" y="3259080"/>
            <a:ext cx="588960" cy="241200"/>
          </a:xfrm>
          <a:custGeom>
            <a:avLst/>
            <a:gdLst/>
            <a:ahLst/>
            <a:rect l="l" t="t" r="r" b="b"/>
            <a:pathLst>
              <a:path w="1638" h="670">
                <a:moveTo>
                  <a:pt x="6350" y="9351"/>
                </a:moveTo>
                <a:cubicBezTo>
                  <a:pt x="6378" y="9471"/>
                  <a:pt x="6400" y="9576"/>
                  <a:pt x="6400" y="9699"/>
                </a:cubicBezTo>
                <a:cubicBezTo>
                  <a:pt x="6400" y="9707"/>
                  <a:pt x="6400" y="9715"/>
                  <a:pt x="6400" y="9723"/>
                </a:cubicBezTo>
              </a:path>
              <a:path w="1638" h="670">
                <a:moveTo>
                  <a:pt x="6251" y="9054"/>
                </a:moveTo>
                <a:cubicBezTo>
                  <a:pt x="6307" y="9068"/>
                  <a:pt x="6348" y="9113"/>
                  <a:pt x="6400" y="9153"/>
                </a:cubicBezTo>
              </a:path>
              <a:path w="1638" h="670">
                <a:moveTo>
                  <a:pt x="6697" y="9500"/>
                </a:moveTo>
                <a:cubicBezTo>
                  <a:pt x="6697" y="9400"/>
                  <a:pt x="6616" y="9360"/>
                  <a:pt x="6672" y="9252"/>
                </a:cubicBezTo>
                <a:cubicBezTo>
                  <a:pt x="6780" y="9044"/>
                  <a:pt x="7010" y="9072"/>
                  <a:pt x="7094" y="9277"/>
                </a:cubicBezTo>
                <a:cubicBezTo>
                  <a:pt x="7109" y="9314"/>
                  <a:pt x="7133" y="9486"/>
                  <a:pt x="7144" y="9550"/>
                </a:cubicBezTo>
              </a:path>
              <a:path w="1638" h="670">
                <a:moveTo>
                  <a:pt x="7392" y="9252"/>
                </a:moveTo>
                <a:cubicBezTo>
                  <a:pt x="7424" y="9190"/>
                  <a:pt x="7432" y="9158"/>
                  <a:pt x="7417" y="9103"/>
                </a:cubicBezTo>
                <a:cubicBezTo>
                  <a:pt x="7277" y="8938"/>
                  <a:pt x="7221" y="9280"/>
                  <a:pt x="7218" y="9376"/>
                </a:cubicBezTo>
                <a:cubicBezTo>
                  <a:pt x="7207" y="9747"/>
                  <a:pt x="7472" y="9531"/>
                  <a:pt x="7640" y="9426"/>
                </a:cubicBezTo>
              </a:path>
              <a:path w="1638" h="670">
                <a:moveTo>
                  <a:pt x="7888" y="9376"/>
                </a:moveTo>
                <a:cubicBezTo>
                  <a:pt x="7888" y="9401"/>
                  <a:pt x="7888" y="9409"/>
                  <a:pt x="7888" y="94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23120" y="2482920"/>
            <a:ext cx="419040" cy="374760"/>
          </a:xfrm>
          <a:custGeom>
            <a:avLst/>
            <a:gdLst/>
            <a:ahLst/>
            <a:rect l="l" t="t" r="r" b="b"/>
            <a:pathLst>
              <a:path w="1167" h="1043">
                <a:moveTo>
                  <a:pt x="20786" y="7367"/>
                </a:moveTo>
                <a:cubicBezTo>
                  <a:pt x="20867" y="7297"/>
                  <a:pt x="20914" y="7279"/>
                  <a:pt x="21010" y="7243"/>
                </a:cubicBezTo>
                <a:cubicBezTo>
                  <a:pt x="21103" y="7416"/>
                  <a:pt x="21012" y="7599"/>
                  <a:pt x="20836" y="7714"/>
                </a:cubicBezTo>
                <a:cubicBezTo>
                  <a:pt x="20715" y="7755"/>
                  <a:pt x="20685" y="7792"/>
                  <a:pt x="20638" y="7714"/>
                </a:cubicBezTo>
                <a:cubicBezTo>
                  <a:pt x="20715" y="7541"/>
                  <a:pt x="20772" y="7569"/>
                  <a:pt x="20910" y="7689"/>
                </a:cubicBezTo>
                <a:cubicBezTo>
                  <a:pt x="20976" y="7755"/>
                  <a:pt x="20993" y="7772"/>
                  <a:pt x="21034" y="7813"/>
                </a:cubicBezTo>
              </a:path>
              <a:path w="1167" h="1043">
                <a:moveTo>
                  <a:pt x="20439" y="7714"/>
                </a:moveTo>
                <a:cubicBezTo>
                  <a:pt x="20526" y="7845"/>
                  <a:pt x="20669" y="7930"/>
                  <a:pt x="20836" y="7938"/>
                </a:cubicBezTo>
                <a:cubicBezTo>
                  <a:pt x="21063" y="7949"/>
                  <a:pt x="21309" y="7801"/>
                  <a:pt x="21431" y="7615"/>
                </a:cubicBezTo>
                <a:cubicBezTo>
                  <a:pt x="21582" y="7384"/>
                  <a:pt x="21503" y="7220"/>
                  <a:pt x="21307" y="7069"/>
                </a:cubicBezTo>
                <a:cubicBezTo>
                  <a:pt x="21140" y="6940"/>
                  <a:pt x="20849" y="6834"/>
                  <a:pt x="20638" y="6921"/>
                </a:cubicBezTo>
                <a:cubicBezTo>
                  <a:pt x="20444" y="7001"/>
                  <a:pt x="20255" y="7310"/>
                  <a:pt x="20365" y="7516"/>
                </a:cubicBezTo>
                <a:cubicBezTo>
                  <a:pt x="20480" y="7733"/>
                  <a:pt x="20706" y="7714"/>
                  <a:pt x="20910" y="77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40840" y="3394080"/>
            <a:ext cx="384120" cy="374760"/>
          </a:xfrm>
          <a:custGeom>
            <a:avLst/>
            <a:gdLst/>
            <a:ahLst/>
            <a:rect l="l" t="t" r="r" b="b"/>
            <a:pathLst>
              <a:path w="1067" h="1043">
                <a:moveTo>
                  <a:pt x="23639" y="9847"/>
                </a:moveTo>
                <a:cubicBezTo>
                  <a:pt x="23660" y="9764"/>
                  <a:pt x="23763" y="9752"/>
                  <a:pt x="23837" y="9723"/>
                </a:cubicBezTo>
                <a:cubicBezTo>
                  <a:pt x="23879" y="9821"/>
                  <a:pt x="23849" y="9916"/>
                  <a:pt x="23763" y="9996"/>
                </a:cubicBezTo>
                <a:cubicBezTo>
                  <a:pt x="23755" y="9996"/>
                  <a:pt x="23746" y="9996"/>
                  <a:pt x="23738" y="9996"/>
                </a:cubicBezTo>
                <a:cubicBezTo>
                  <a:pt x="23804" y="9996"/>
                  <a:pt x="23904" y="10000"/>
                  <a:pt x="23912" y="10096"/>
                </a:cubicBezTo>
                <a:cubicBezTo>
                  <a:pt x="23929" y="10293"/>
                  <a:pt x="23786" y="10269"/>
                  <a:pt x="23664" y="10244"/>
                </a:cubicBezTo>
                <a:cubicBezTo>
                  <a:pt x="23656" y="10244"/>
                  <a:pt x="23647" y="10244"/>
                  <a:pt x="23639" y="10244"/>
                </a:cubicBezTo>
              </a:path>
              <a:path w="1067" h="1043">
                <a:moveTo>
                  <a:pt x="23316" y="10269"/>
                </a:moveTo>
                <a:cubicBezTo>
                  <a:pt x="23419" y="10360"/>
                  <a:pt x="23497" y="10450"/>
                  <a:pt x="23639" y="10468"/>
                </a:cubicBezTo>
                <a:cubicBezTo>
                  <a:pt x="23759" y="10483"/>
                  <a:pt x="24055" y="10460"/>
                  <a:pt x="24160" y="10393"/>
                </a:cubicBezTo>
                <a:cubicBezTo>
                  <a:pt x="24266" y="10326"/>
                  <a:pt x="24234" y="10122"/>
                  <a:pt x="24234" y="10021"/>
                </a:cubicBezTo>
                <a:cubicBezTo>
                  <a:pt x="24234" y="9868"/>
                  <a:pt x="24205" y="9780"/>
                  <a:pt x="24135" y="9649"/>
                </a:cubicBezTo>
                <a:cubicBezTo>
                  <a:pt x="24063" y="9514"/>
                  <a:pt x="23968" y="9445"/>
                  <a:pt x="23812" y="9426"/>
                </a:cubicBezTo>
                <a:cubicBezTo>
                  <a:pt x="23648" y="9406"/>
                  <a:pt x="23530" y="9468"/>
                  <a:pt x="23416" y="9575"/>
                </a:cubicBezTo>
                <a:cubicBezTo>
                  <a:pt x="23295" y="9689"/>
                  <a:pt x="23173" y="9898"/>
                  <a:pt x="23168" y="10071"/>
                </a:cubicBezTo>
                <a:cubicBezTo>
                  <a:pt x="23164" y="10225"/>
                  <a:pt x="23264" y="10346"/>
                  <a:pt x="23391" y="10418"/>
                </a:cubicBezTo>
                <a:cubicBezTo>
                  <a:pt x="23451" y="10452"/>
                  <a:pt x="23500" y="10439"/>
                  <a:pt x="23564" y="104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38280" y="3660840"/>
            <a:ext cx="588960" cy="304560"/>
          </a:xfrm>
          <a:custGeom>
            <a:avLst/>
            <a:gdLst/>
            <a:ahLst/>
            <a:rect l="l" t="t" r="r" b="b"/>
            <a:pathLst>
              <a:path w="1638" h="844">
                <a:moveTo>
                  <a:pt x="7268" y="10815"/>
                </a:moveTo>
                <a:cubicBezTo>
                  <a:pt x="7303" y="10710"/>
                  <a:pt x="7285" y="10627"/>
                  <a:pt x="7169" y="10567"/>
                </a:cubicBezTo>
                <a:cubicBezTo>
                  <a:pt x="7003" y="10482"/>
                  <a:pt x="6757" y="10686"/>
                  <a:pt x="6772" y="10864"/>
                </a:cubicBezTo>
                <a:cubicBezTo>
                  <a:pt x="6791" y="11089"/>
                  <a:pt x="7116" y="11031"/>
                  <a:pt x="7193" y="10889"/>
                </a:cubicBezTo>
                <a:cubicBezTo>
                  <a:pt x="7210" y="10831"/>
                  <a:pt x="7226" y="10774"/>
                  <a:pt x="7243" y="10716"/>
                </a:cubicBezTo>
              </a:path>
              <a:path w="1638" h="844">
                <a:moveTo>
                  <a:pt x="7144" y="10170"/>
                </a:moveTo>
                <a:cubicBezTo>
                  <a:pt x="7158" y="10414"/>
                  <a:pt x="7209" y="10647"/>
                  <a:pt x="7243" y="10889"/>
                </a:cubicBezTo>
                <a:cubicBezTo>
                  <a:pt x="7243" y="10924"/>
                  <a:pt x="7248" y="10923"/>
                  <a:pt x="7268" y="10864"/>
                </a:cubicBezTo>
              </a:path>
              <a:path w="1638" h="844">
                <a:moveTo>
                  <a:pt x="7466" y="10567"/>
                </a:moveTo>
                <a:cubicBezTo>
                  <a:pt x="7576" y="10546"/>
                  <a:pt x="7636" y="10546"/>
                  <a:pt x="7739" y="10567"/>
                </a:cubicBezTo>
                <a:cubicBezTo>
                  <a:pt x="7722" y="10484"/>
                  <a:pt x="7639" y="10404"/>
                  <a:pt x="7541" y="10418"/>
                </a:cubicBezTo>
                <a:cubicBezTo>
                  <a:pt x="7320" y="10450"/>
                  <a:pt x="7314" y="10708"/>
                  <a:pt x="7392" y="10864"/>
                </a:cubicBezTo>
                <a:cubicBezTo>
                  <a:pt x="7478" y="11037"/>
                  <a:pt x="7636" y="10889"/>
                  <a:pt x="7739" y="10840"/>
                </a:cubicBezTo>
              </a:path>
              <a:path w="1638" h="844">
                <a:moveTo>
                  <a:pt x="8086" y="10517"/>
                </a:moveTo>
                <a:cubicBezTo>
                  <a:pt x="8086" y="10474"/>
                  <a:pt x="8081" y="10449"/>
                  <a:pt x="8062" y="10418"/>
                </a:cubicBezTo>
                <a:cubicBezTo>
                  <a:pt x="7918" y="10461"/>
                  <a:pt x="7778" y="10640"/>
                  <a:pt x="7863" y="10815"/>
                </a:cubicBezTo>
                <a:cubicBezTo>
                  <a:pt x="7998" y="11091"/>
                  <a:pt x="8276" y="10769"/>
                  <a:pt x="8384" y="10666"/>
                </a:cubicBezTo>
                <a:cubicBezTo>
                  <a:pt x="8392" y="10658"/>
                  <a:pt x="8401" y="10649"/>
                  <a:pt x="8409" y="106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94160" y="2160720"/>
            <a:ext cx="436680" cy="376200"/>
          </a:xfrm>
          <a:custGeom>
            <a:avLst/>
            <a:gdLst/>
            <a:ahLst/>
            <a:rect l="l" t="t" r="r" b="b"/>
            <a:pathLst>
              <a:path w="1216" h="1043">
                <a:moveTo>
                  <a:pt x="12898" y="6375"/>
                </a:moveTo>
                <a:cubicBezTo>
                  <a:pt x="12890" y="6433"/>
                  <a:pt x="12879" y="6523"/>
                  <a:pt x="12849" y="6573"/>
                </a:cubicBezTo>
                <a:cubicBezTo>
                  <a:pt x="12826" y="6596"/>
                  <a:pt x="12818" y="6607"/>
                  <a:pt x="12824" y="6573"/>
                </a:cubicBezTo>
                <a:cubicBezTo>
                  <a:pt x="12927" y="6579"/>
                  <a:pt x="13067" y="6625"/>
                  <a:pt x="13146" y="6598"/>
                </a:cubicBezTo>
              </a:path>
              <a:path w="1216" h="1043">
                <a:moveTo>
                  <a:pt x="13122" y="6201"/>
                </a:moveTo>
                <a:cubicBezTo>
                  <a:pt x="13105" y="6369"/>
                  <a:pt x="13097" y="6528"/>
                  <a:pt x="13097" y="6697"/>
                </a:cubicBezTo>
                <a:cubicBezTo>
                  <a:pt x="13097" y="6705"/>
                  <a:pt x="13097" y="6714"/>
                  <a:pt x="13097" y="6722"/>
                </a:cubicBezTo>
              </a:path>
              <a:path w="1216" h="1043">
                <a:moveTo>
                  <a:pt x="12502" y="6747"/>
                </a:moveTo>
                <a:cubicBezTo>
                  <a:pt x="12639" y="6934"/>
                  <a:pt x="12763" y="7089"/>
                  <a:pt x="13022" y="7020"/>
                </a:cubicBezTo>
                <a:cubicBezTo>
                  <a:pt x="13258" y="6957"/>
                  <a:pt x="13414" y="6709"/>
                  <a:pt x="13419" y="6474"/>
                </a:cubicBezTo>
                <a:cubicBezTo>
                  <a:pt x="13425" y="6194"/>
                  <a:pt x="13200" y="6048"/>
                  <a:pt x="12948" y="6003"/>
                </a:cubicBezTo>
                <a:cubicBezTo>
                  <a:pt x="12672" y="5954"/>
                  <a:pt x="12402" y="6102"/>
                  <a:pt x="12278" y="6350"/>
                </a:cubicBezTo>
                <a:cubicBezTo>
                  <a:pt x="12064" y="6779"/>
                  <a:pt x="12372" y="6990"/>
                  <a:pt x="12750" y="7045"/>
                </a:cubicBezTo>
                <a:cubicBezTo>
                  <a:pt x="12891" y="7066"/>
                  <a:pt x="12880" y="7063"/>
                  <a:pt x="12948" y="69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35800" y="4643280"/>
            <a:ext cx="376200" cy="339840"/>
          </a:xfrm>
          <a:custGeom>
            <a:avLst/>
            <a:gdLst/>
            <a:ahLst/>
            <a:rect l="l" t="t" r="r" b="b"/>
            <a:pathLst>
              <a:path w="1043" h="944">
                <a:moveTo>
                  <a:pt x="18579" y="13196"/>
                </a:moveTo>
                <a:cubicBezTo>
                  <a:pt x="18607" y="13153"/>
                  <a:pt x="18540" y="13160"/>
                  <a:pt x="18479" y="13146"/>
                </a:cubicBezTo>
                <a:cubicBezTo>
                  <a:pt x="18471" y="13146"/>
                  <a:pt x="18463" y="13146"/>
                  <a:pt x="18455" y="13146"/>
                </a:cubicBezTo>
                <a:cubicBezTo>
                  <a:pt x="18440" y="13223"/>
                  <a:pt x="18443" y="13261"/>
                  <a:pt x="18455" y="13345"/>
                </a:cubicBezTo>
                <a:cubicBezTo>
                  <a:pt x="18549" y="13329"/>
                  <a:pt x="18649" y="13278"/>
                  <a:pt x="18728" y="13370"/>
                </a:cubicBezTo>
                <a:cubicBezTo>
                  <a:pt x="18802" y="13457"/>
                  <a:pt x="18703" y="13593"/>
                  <a:pt x="18604" y="13593"/>
                </a:cubicBezTo>
                <a:cubicBezTo>
                  <a:pt x="18545" y="13593"/>
                  <a:pt x="18420" y="13568"/>
                  <a:pt x="18479" y="13568"/>
                </a:cubicBezTo>
              </a:path>
              <a:path w="1043" h="944">
                <a:moveTo>
                  <a:pt x="18182" y="13494"/>
                </a:moveTo>
                <a:cubicBezTo>
                  <a:pt x="18207" y="13618"/>
                  <a:pt x="18277" y="13737"/>
                  <a:pt x="18405" y="13791"/>
                </a:cubicBezTo>
                <a:cubicBezTo>
                  <a:pt x="18579" y="13865"/>
                  <a:pt x="18759" y="13839"/>
                  <a:pt x="18926" y="13767"/>
                </a:cubicBezTo>
                <a:cubicBezTo>
                  <a:pt x="19102" y="13691"/>
                  <a:pt x="19243" y="13582"/>
                  <a:pt x="19199" y="13370"/>
                </a:cubicBezTo>
                <a:cubicBezTo>
                  <a:pt x="19163" y="13194"/>
                  <a:pt x="19022" y="13079"/>
                  <a:pt x="18876" y="12998"/>
                </a:cubicBezTo>
                <a:cubicBezTo>
                  <a:pt x="18720" y="12911"/>
                  <a:pt x="18626" y="12889"/>
                  <a:pt x="18455" y="12923"/>
                </a:cubicBezTo>
                <a:cubicBezTo>
                  <a:pt x="18238" y="12966"/>
                  <a:pt x="18114" y="13111"/>
                  <a:pt x="18157" y="13345"/>
                </a:cubicBezTo>
                <a:cubicBezTo>
                  <a:pt x="18186" y="13504"/>
                  <a:pt x="18278" y="13607"/>
                  <a:pt x="18405" y="13692"/>
                </a:cubicBezTo>
              </a:path>
              <a:path w="1043" h="944">
                <a:moveTo>
                  <a:pt x="18479" y="13221"/>
                </a:moveTo>
                <a:cubicBezTo>
                  <a:pt x="18534" y="13180"/>
                  <a:pt x="18632" y="13180"/>
                  <a:pt x="18703" y="13171"/>
                </a:cubicBezTo>
                <a:cubicBezTo>
                  <a:pt x="18780" y="13161"/>
                  <a:pt x="18754" y="13185"/>
                  <a:pt x="18728" y="132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12000" y="6607080"/>
            <a:ext cx="347760" cy="206640"/>
          </a:xfrm>
          <a:custGeom>
            <a:avLst/>
            <a:gdLst/>
            <a:ahLst/>
            <a:rect l="l" t="t" r="r" b="b"/>
            <a:pathLst>
              <a:path w="968" h="572">
                <a:moveTo>
                  <a:pt x="19645" y="18405"/>
                </a:moveTo>
                <a:cubicBezTo>
                  <a:pt x="19599" y="18556"/>
                  <a:pt x="19527" y="18683"/>
                  <a:pt x="19472" y="18827"/>
                </a:cubicBezTo>
                <a:cubicBezTo>
                  <a:pt x="19464" y="18843"/>
                  <a:pt x="19455" y="18860"/>
                  <a:pt x="19447" y="18876"/>
                </a:cubicBezTo>
                <a:cubicBezTo>
                  <a:pt x="19567" y="18888"/>
                  <a:pt x="19675" y="18925"/>
                  <a:pt x="19794" y="18876"/>
                </a:cubicBezTo>
                <a:cubicBezTo>
                  <a:pt x="19819" y="18852"/>
                  <a:pt x="19828" y="18844"/>
                  <a:pt x="19844" y="18827"/>
                </a:cubicBezTo>
                <a:cubicBezTo>
                  <a:pt x="19835" y="18771"/>
                  <a:pt x="19799" y="18738"/>
                  <a:pt x="19720" y="18752"/>
                </a:cubicBezTo>
                <a:cubicBezTo>
                  <a:pt x="19634" y="18767"/>
                  <a:pt x="19621" y="18802"/>
                  <a:pt x="19596" y="18876"/>
                </a:cubicBezTo>
              </a:path>
              <a:path w="968" h="572">
                <a:moveTo>
                  <a:pt x="19224" y="18901"/>
                </a:moveTo>
                <a:cubicBezTo>
                  <a:pt x="19224" y="18861"/>
                  <a:pt x="19197" y="18770"/>
                  <a:pt x="19199" y="18752"/>
                </a:cubicBezTo>
                <a:cubicBezTo>
                  <a:pt x="19205" y="18705"/>
                  <a:pt x="19229" y="18596"/>
                  <a:pt x="19248" y="18554"/>
                </a:cubicBezTo>
                <a:cubicBezTo>
                  <a:pt x="19280" y="18484"/>
                  <a:pt x="19380" y="18427"/>
                  <a:pt x="19447" y="18405"/>
                </a:cubicBezTo>
                <a:cubicBezTo>
                  <a:pt x="19557" y="18369"/>
                  <a:pt x="19777" y="18310"/>
                  <a:pt x="19893" y="18355"/>
                </a:cubicBezTo>
                <a:cubicBezTo>
                  <a:pt x="19959" y="18380"/>
                  <a:pt x="20084" y="18491"/>
                  <a:pt x="20117" y="18554"/>
                </a:cubicBezTo>
                <a:cubicBezTo>
                  <a:pt x="20154" y="18625"/>
                  <a:pt x="20189" y="18749"/>
                  <a:pt x="20166" y="18827"/>
                </a:cubicBezTo>
                <a:cubicBezTo>
                  <a:pt x="20148" y="18889"/>
                  <a:pt x="20073" y="18898"/>
                  <a:pt x="20017" y="189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S – Describing Change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0:35:51Z</dcterms:created>
  <dc:creator>ccps</dc:creator>
  <dc:description/>
  <dc:language>en-US</dc:language>
  <cp:lastModifiedBy>deanne elizabeth mcgrath</cp:lastModifiedBy>
  <dcterms:modified xsi:type="dcterms:W3CDTF">2011-12-22T20:15:04Z</dcterms:modified>
  <cp:revision>12</cp:revision>
  <dc:subject/>
  <dc:title>The Coordinate Plane</dc:title>
</cp:coreProperties>
</file>